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662B00-2D8B-409A-8933-04E742E8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FC62FC-6848-405D-8E41-D2378E67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B456C59-8DDA-43A6-96C4-3DA2FC7D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sldImg"/>
          </p:nvPr>
        </p:nvSpPr>
        <p:spPr>
          <a:xfrm>
            <a:off x="116676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2277-1785-4A56-92F7-C489329C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AF3C-B504-45D0-A4B5-7FCB6B8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9E9A-CA94-4DC5-B920-F1165D1D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DB68-5BD2-4750-B646-5197C9C5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47DF-2634-4320-AEB3-D4B2A6D6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7C15-B8E2-4E85-ACB5-A4535F9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E31D-251A-483D-B381-E1D2C65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D1E-2F0D-4ADC-B7A8-183FE2E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433-52B9-4EA6-99A3-A6383424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56B2-3A9F-411E-9CB3-C656EA1D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AAC5-E842-4ACB-BF16-531B496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B093-2888-4EB1-BEA9-63E19E18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D4F-44DD-4329-B34D-37FDA76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800-C9A7-4C4E-BBC2-EA9BCCC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BCD-16CD-41A1-8421-037B9DC4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3C49-128C-4893-9885-D39B9FBB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AD5A-70D4-48A1-9D52-EE72B8A9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114C-7B95-41A3-94DE-CB781A3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D269-E7CE-4606-9176-7795D17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61FB-426C-4527-BC54-DDF414F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17C7-0060-4110-889B-0D814BF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C3EA-2E29-49D5-949C-952A0DA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4FF7-49B5-4C1B-8AAA-A40D27D4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1C80-1C79-4C69-B776-44A2B98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748-B61F-4E87-A730-2D83A68B0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64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E3F8-EC81-48C2-B081-8836C2343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838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rivation of the HL7 RIM Ont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op-Down Method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222800"/>
            <a:ext cx="82296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Materials &amp; Lab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46160" y="2133720"/>
            <a:ext cx="2763720" cy="2860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: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st = Materials + Labo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on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126960" y="3665520"/>
            <a:ext cx="932040" cy="1170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55840" y="4870440"/>
            <a:ext cx="1406520" cy="6746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7560" y="49021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ociations Cl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5840" y="5068800"/>
            <a:ext cx="1406520" cy="4762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4400" y="5421240"/>
            <a:ext cx="14079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65400" y="5552640"/>
            <a:ext cx="180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8800" y="55530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 - Back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ff37"/>
                </a:solidFill>
                <a:latin typeface="Garamond"/>
              </a:rPr>
              <a:t>Ent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ople, Places, Physical 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41"/>
                </a:solidFill>
                <a:latin typeface="Garamond"/>
              </a:rPr>
              <a:t>Associations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s &amp; Relation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Garamond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ions of Ev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00680" y="89640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UML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7196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38440" y="47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636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5346000" y="749880"/>
            <a:ext cx="517320" cy="658800"/>
          </a:xfrm>
          <a:custGeom>
            <a:avLst/>
            <a:gdLst>
              <a:gd name="textAreaLeft" fmla="*/ 0 w 517320"/>
              <a:gd name="textAreaRight" fmla="*/ 517680 w 517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urs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ociativ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5400000">
            <a:off x="6041880" y="3965400"/>
            <a:ext cx="906480" cy="890640"/>
          </a:xfrm>
          <a:custGeom>
            <a:avLst/>
            <a:gdLst>
              <a:gd name="textAreaLeft" fmla="*/ 0 w 906480"/>
              <a:gd name="textAreaRight" fmla="*/ 906840 w 9064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514960" y="1115280"/>
            <a:ext cx="1149480" cy="89028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14219"/>
                <a:lnTo>
                  <a:pt x="3" y="10531"/>
                </a:lnTo>
                <a:arcTo wR="10800" hR="10800" stAng="-10714219" swAng="1071421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7ff37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773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502240" y="3720960"/>
            <a:ext cx="2219760" cy="1914840"/>
            <a:chOff x="5502240" y="3720960"/>
            <a:chExt cx="2219760" cy="1914840"/>
          </a:xfrm>
        </p:grpSpPr>
        <p:sp>
          <p:nvSpPr>
            <p:cNvPr id="816" name=""/>
            <p:cNvSpPr/>
            <p:nvPr/>
          </p:nvSpPr>
          <p:spPr>
            <a:xfrm>
              <a:off x="6510240" y="3720960"/>
              <a:ext cx="1158840" cy="191484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52800" y="3755880"/>
              <a:ext cx="87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tRelationsh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10240" y="3919680"/>
              <a:ext cx="1158840" cy="171612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0240" y="5502240"/>
              <a:ext cx="1158840" cy="13356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5080" y="393552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33280" y="4076640"/>
              <a:ext cx="91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rs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4000" y="4218120"/>
              <a:ext cx="118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34720" y="4359240"/>
              <a:ext cx="103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orityNumber : I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5440" y="4500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useQty : P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3280" y="4643280"/>
              <a:ext cx="108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eckpoin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35080" y="478476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lit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35080" y="492588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i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33640" y="5067360"/>
              <a:ext cx="89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gation_ind : B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33280" y="5208480"/>
              <a:ext cx="111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junction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502240" y="473076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07760" y="389556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39680" y="3895560"/>
              <a:ext cx="43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s_source_f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9960" y="478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9520" y="478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02240" y="4070520"/>
              <a:ext cx="1008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71040" y="454176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has_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9520" y="413064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5520" y="454176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19960" y="41306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-Relationship Recu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Relationship Recursions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*Classes, Instances of Classes, &amp; Instance Dia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"/>
          <p:cNvSpPr/>
          <p:nvPr/>
        </p:nvSpPr>
        <p:spPr>
          <a:xfrm>
            <a:off x="2949480" y="1504800"/>
            <a:ext cx="1481400" cy="9385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0840" y="1547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49480" y="1743120"/>
            <a:ext cx="148140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949480" y="2227320"/>
            <a:ext cx="1481400" cy="2160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9360" y="1778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1941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6280" y="1460520"/>
            <a:ext cx="1192320" cy="46036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37800" y="15033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6280" y="1695600"/>
            <a:ext cx="1192320" cy="4368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960" y="5910120"/>
            <a:ext cx="1187640" cy="1540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400" y="171756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9120" y="188748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8760" y="2065320"/>
            <a:ext cx="91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Chem 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8292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21880" y="1712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679040" y="192240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033560" y="6064200"/>
            <a:ext cx="1440" cy="4716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66960" y="6064200"/>
            <a:ext cx="158400" cy="214200"/>
          </a:xfrm>
          <a:custGeom>
            <a:avLst/>
            <a:gdLst/>
            <a:ahLst/>
            <a:rect l="l" t="t" r="r" b="b"/>
            <a:pathLst>
              <a:path w="100" h="135">
                <a:moveTo>
                  <a:pt x="50" y="0"/>
                </a:moveTo>
                <a:lnTo>
                  <a:pt x="100" y="135"/>
                </a:lnTo>
                <a:lnTo>
                  <a:pt x="0" y="135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0880" y="2023920"/>
            <a:ext cx="12254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9760" y="17985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1720" y="17985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1760" y="1589040"/>
            <a:ext cx="1336680" cy="100188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59240" y="1631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11760" y="1824120"/>
            <a:ext cx="13366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11760" y="2443320"/>
            <a:ext cx="13366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41280" y="19303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42000" y="21002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42360" y="2278080"/>
            <a:ext cx="936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Gluco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33640" y="27129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5000" y="275760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33640" y="2951280"/>
            <a:ext cx="1481040" cy="699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33640" y="3438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63160" y="29876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55960" y="31510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6708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06040" y="29224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663560" y="3133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414320" y="3232080"/>
            <a:ext cx="12272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75360" y="30067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880" y="30067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97360" y="279720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21160" y="28414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97360" y="3032280"/>
            <a:ext cx="1351080" cy="766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97360" y="3651120"/>
            <a:ext cx="1351080" cy="1476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725440" y="31384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26160" y="330840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26520" y="3487680"/>
            <a:ext cx="148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Total Cholester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33640" y="3913200"/>
            <a:ext cx="1481040" cy="9349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05000" y="39560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33640" y="4151160"/>
            <a:ext cx="1481040" cy="6969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33640" y="46353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63160" y="4186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55960" y="43498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6708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06040" y="41212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1663560" y="4330800"/>
            <a:ext cx="12290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414320" y="443232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75360" y="4206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5880" y="420696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97360" y="3997440"/>
            <a:ext cx="1351080" cy="100152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59320" y="40402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97360" y="4232160"/>
            <a:ext cx="1351080" cy="766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97360" y="4848120"/>
            <a:ext cx="1351080" cy="150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25440" y="433872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26160" y="45086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27240" y="468648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So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33640" y="5094360"/>
            <a:ext cx="1481040" cy="9381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05000" y="5138640"/>
            <a:ext cx="106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3640" y="5332320"/>
            <a:ext cx="1481040" cy="7002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3640" y="5819760"/>
            <a:ext cx="1481040" cy="212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63160" y="536904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Code 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55960" y="5532480"/>
            <a:ext cx="131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compon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6708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6040" y="5303880"/>
            <a:ext cx="56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1663560" y="5514840"/>
            <a:ext cx="122904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14320" y="5613480"/>
            <a:ext cx="122724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75360" y="538812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75880" y="5388120"/>
            <a:ext cx="23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97360" y="5178600"/>
            <a:ext cx="1351080" cy="100296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08200" y="522288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97360" y="5413320"/>
            <a:ext cx="1351080" cy="7682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97360" y="6032520"/>
            <a:ext cx="1351080" cy="149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25440" y="5519880"/>
            <a:ext cx="74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26160" y="5689440"/>
            <a:ext cx="116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odCode : Ev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726160" y="5869080"/>
            <a:ext cx="107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de : Potass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354720" y="6230880"/>
            <a:ext cx="1800" cy="4730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5520" y="6230880"/>
            <a:ext cx="158760" cy="216000"/>
          </a:xfrm>
          <a:custGeom>
            <a:avLst/>
            <a:gdLst/>
            <a:ahLst/>
            <a:rect l="l" t="t" r="r" b="b"/>
            <a:pathLst>
              <a:path w="100" h="136">
                <a:moveTo>
                  <a:pt x="50" y="0"/>
                </a:moveTo>
                <a:lnTo>
                  <a:pt x="100" y="136"/>
                </a:lnTo>
                <a:lnTo>
                  <a:pt x="0" y="136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71960" y="4756320"/>
            <a:ext cx="8568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495320" y="647640"/>
            <a:ext cx="2361960" cy="735480"/>
            <a:chOff x="4495320" y="647640"/>
            <a:chExt cx="2361960" cy="735480"/>
          </a:xfrm>
        </p:grpSpPr>
        <p:sp>
          <p:nvSpPr>
            <p:cNvPr id="997" name=""/>
            <p:cNvSpPr/>
            <p:nvPr/>
          </p:nvSpPr>
          <p:spPr>
            <a:xfrm>
              <a:off x="5600880" y="647640"/>
              <a:ext cx="1204560" cy="708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92320" y="6843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le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00880" y="855720"/>
              <a:ext cx="1204560" cy="5000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97640" y="1231920"/>
              <a:ext cx="1204920" cy="123840"/>
            </a:xfrm>
            <a:prstGeom prst="rect">
              <a:avLst/>
            </a:prstGeom>
            <a:noFill/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23560" y="870120"/>
              <a:ext cx="123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fectiveTime : IVL&lt;TS&gt;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25360" y="1011240"/>
              <a:ext cx="74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Code : 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495320" y="903240"/>
              <a:ext cx="1089000" cy="180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58440" y="77148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out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8360" y="9079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10440" y="7682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63000" y="90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4495320" y="1270080"/>
              <a:ext cx="1089000" cy="1440"/>
            </a:xfrm>
            <a:prstGeom prst="line">
              <a:avLst/>
            </a:prstGeom>
            <a:ln w="3240">
              <a:solidFill>
                <a:srgbClr val="e5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55120" y="113832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inboundLin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18360" y="12762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0..*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14040" y="113508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targ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63000" y="127620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6053760" y="3945600"/>
            <a:ext cx="909720" cy="876240"/>
          </a:xfrm>
          <a:custGeom>
            <a:avLst/>
            <a:gdLst>
              <a:gd name="textAreaLeft" fmla="*/ 0 w 909720"/>
              <a:gd name="textAreaRight" fmla="*/ 910080 w 909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init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7" name=""/>
          <p:cNvSpPr/>
          <p:nvPr/>
        </p:nvSpPr>
        <p:spPr>
          <a:xfrm flipH="1" flipV="1" rot="5400000">
            <a:off x="5050800" y="3971160"/>
            <a:ext cx="909360" cy="876240"/>
          </a:xfrm>
          <a:custGeom>
            <a:avLst/>
            <a:gdLst>
              <a:gd name="textAreaLeft" fmla="*/ 360 w 909360"/>
              <a:gd name="textAreaRight" fmla="*/ 910080 w 909360"/>
              <a:gd name="textAreaTop" fmla="*/ 360 h 876240"/>
              <a:gd name="textAreaBottom" fmla="*/ 876960 h 876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750034"/>
                <a:lnTo>
                  <a:pt x="1" y="10643"/>
                </a:lnTo>
                <a:arcTo wR="10800" hR="10800" stAng="-10750034" swAng="1075003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Concept -  “a thing in the minds eye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2189160"/>
            <a:ext cx="6994440" cy="466884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4191120" y="1143000"/>
            <a:ext cx="3124080" cy="1833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78084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10280" y="2209680"/>
            <a:ext cx="1752840" cy="251460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5e5ff"/>
                </a:solidFill>
                <a:latin typeface="Garamond"/>
              </a:rPr>
              <a:t>Hmmm -  “Frank needs an ace of hear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77120" y="1066680"/>
            <a:ext cx="1828800" cy="1459080"/>
            <a:chOff x="6477120" y="1066680"/>
            <a:chExt cx="1828800" cy="14590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47712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204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L7 RIM Ac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16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19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9536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ttom-Up Modeling Arti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3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41960" y="18954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86800" y="4840200"/>
            <a:ext cx="5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6320" y="2558880"/>
            <a:ext cx="3352680" cy="213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16720" y="1271520"/>
            <a:ext cx="126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24280" y="1676520"/>
            <a:ext cx="129564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2438280" y="152388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86440" y="4267080"/>
            <a:ext cx="152964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has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276720" y="3429000"/>
            <a:ext cx="53316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695200" y="1905120"/>
            <a:ext cx="2887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: value pai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6248520" y="2286000"/>
            <a:ext cx="914400" cy="19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1520" y="2819520"/>
            <a:ext cx="1496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typ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781320" y="3200400"/>
            <a:ext cx="1295640" cy="1219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7960" y="4191120"/>
            <a:ext cx="15951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erarch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‘IsA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66680" y="350496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95360" y="5943600"/>
            <a:ext cx="4516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nality’ or ‘multiplicity’ symb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962520" y="5181120"/>
            <a:ext cx="114300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069200">
            <a:off x="3580920" y="1066320"/>
            <a:ext cx="563904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371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06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19520" y="609480"/>
            <a:ext cx="3047760" cy="426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ct-Supply-Diet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4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443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470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4560" y="183960"/>
            <a:ext cx="8458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iet Act Combines Attributes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24440" y="838080"/>
            <a:ext cx="1309680" cy="281952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65800" y="85896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et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24440" y="982800"/>
            <a:ext cx="1309680" cy="2674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996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1100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1204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1308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038480" y="141300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038480" y="15177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8480" y="1620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8480" y="1725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038480" y="1828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038480" y="19321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038480" y="20368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038480" y="21398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038480" y="22431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038480" y="23479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038480" y="2451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038480" y="25560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38480" y="265896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76372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038480" y="28684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38480" y="29718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38480" y="30830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962520" y="1614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64400" y="342900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erg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66200" y="3532320"/>
            <a:ext cx="104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rbohydrate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76640" y="320688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078440" y="3322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614600" y="2868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124080"/>
            <a:ext cx="9903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8120" y="3124080"/>
            <a:ext cx="990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06960" y="30481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Di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5105160" y="32767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028840" y="3276720"/>
            <a:ext cx="10666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18760" y="183960"/>
            <a:ext cx="60483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Meaning of Hierarc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" y="2133720"/>
            <a:ext cx="1376280" cy="1077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9040" y="2160720"/>
            <a:ext cx="97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anceAdministr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8600" y="2278080"/>
            <a:ext cx="1376280" cy="93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1640" y="2292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52360" y="239544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54520" y="2500200"/>
            <a:ext cx="956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5240" y="2603520"/>
            <a:ext cx="91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teQuantity : IVL&lt;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4520" y="2714760"/>
            <a:ext cx="130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seCheck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4520" y="2817720"/>
            <a:ext cx="123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xDoseQuantity : SET&lt;RT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4160" y="292104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tenc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2360" y="302580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4800" y="3429000"/>
            <a:ext cx="1265400" cy="52560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5360" y="34560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4800" y="3573360"/>
            <a:ext cx="1265400" cy="381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1000" y="35877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1000" y="3691080"/>
            <a:ext cx="120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proach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51000" y="379584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52880" y="3581280"/>
            <a:ext cx="1204920" cy="4082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516200" y="36021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38480" y="3733920"/>
            <a:ext cx="1204920" cy="26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76640" y="3740040"/>
            <a:ext cx="50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078440" y="3844800"/>
            <a:ext cx="1131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ctedUseTime : IVL&lt;TS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11880" y="4932360"/>
            <a:ext cx="1551240" cy="63036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822080" y="495936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11880" y="5078520"/>
            <a:ext cx="1551240" cy="484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5280" y="5091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5640" y="5195880"/>
            <a:ext cx="74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urr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42120" y="5299200"/>
            <a:ext cx="145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160" y="5402160"/>
            <a:ext cx="1396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owedBalanceQuantity : IVL&lt;MO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37120" y="3581280"/>
            <a:ext cx="61596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99040" y="3610080"/>
            <a:ext cx="48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937120" y="3733920"/>
            <a:ext cx="6159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962320" y="374796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tAmt : M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27080" y="5424480"/>
            <a:ext cx="1197000" cy="5191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268280" y="5451480"/>
            <a:ext cx="70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licHealthCas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5568840"/>
            <a:ext cx="1197000" cy="374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52640" y="558324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tectionMetho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52280" y="5688000"/>
            <a:ext cx="1121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Mod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052640" y="579132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easeImported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57880" y="1220760"/>
            <a:ext cx="1681200" cy="12938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652520" y="1241280"/>
            <a:ext cx="67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tientEncount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157880" y="1366920"/>
            <a:ext cx="1681200" cy="1147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180920" y="1379520"/>
            <a:ext cx="84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uity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1640" y="1484280"/>
            <a:ext cx="108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ssion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83800" y="1587600"/>
            <a:ext cx="87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rthEncounter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81280" y="1692360"/>
            <a:ext cx="1220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hargeDispos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184880" y="1795320"/>
            <a:ext cx="103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OfStayQuantity : PQ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183800" y="1898640"/>
            <a:ext cx="82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AdmitTes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83440" y="2003400"/>
            <a:ext cx="963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ral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82720" y="2106720"/>
            <a:ext cx="1588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Accommod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181640" y="2209680"/>
            <a:ext cx="1378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ecialCourtesies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81280" y="2314440"/>
            <a:ext cx="720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rgenc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467080" y="5410080"/>
            <a:ext cx="119052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732760" y="54388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agnosticImag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67080" y="5562720"/>
            <a:ext cx="119052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492280" y="5576760"/>
            <a:ext cx="1116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jectOrienta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46400" y="4892760"/>
            <a:ext cx="1516320" cy="5173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94880" y="49197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Transac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046400" y="5037120"/>
            <a:ext cx="1516320" cy="372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72680" y="5051520"/>
            <a:ext cx="1425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d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72320" y="5154480"/>
            <a:ext cx="140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itExchangeRateQuantity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73760" y="5257800"/>
            <a:ext cx="106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RateQuantity : 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64320" y="4906800"/>
            <a:ext cx="1245960" cy="96048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091560" y="4933800"/>
            <a:ext cx="60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voiceEl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64320" y="5051520"/>
            <a:ext cx="12459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87720" y="5065560"/>
            <a:ext cx="995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ifier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90960" y="5168880"/>
            <a:ext cx="111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Quantity : RTO&lt;PQ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90960" y="5273640"/>
            <a:ext cx="1157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tPriceAmt : RTO&lt;MO,PQ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89160" y="53769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ctor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88080" y="54799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intsNumber : RE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788800" y="5584680"/>
            <a:ext cx="104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verageSource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88440" y="569448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ifySubjec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62920" y="388620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5440" y="3906720"/>
            <a:ext cx="68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Contr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162920" y="4032360"/>
            <a:ext cx="1058760" cy="152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89920" y="4044960"/>
            <a:ext cx="992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ymentTerms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62920" y="3352680"/>
            <a:ext cx="1238040" cy="3049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558560" y="338148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viceTa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3498840"/>
            <a:ext cx="1238040" cy="158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88480" y="3513240"/>
            <a:ext cx="117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ameterValue : LIST&lt;ANY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41440" y="1606680"/>
            <a:ext cx="1058760" cy="29844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33040" y="1627200"/>
            <a:ext cx="46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Li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41440" y="1752480"/>
            <a:ext cx="1058760" cy="15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64480" y="1765440"/>
            <a:ext cx="1018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wnership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70840" y="2716200"/>
            <a:ext cx="830160" cy="407880"/>
          </a:xfrm>
          <a:prstGeom prst="rect">
            <a:avLst/>
          </a:prstGeom>
          <a:solidFill>
            <a:srgbClr val="ffcc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70840" y="2862360"/>
            <a:ext cx="830160" cy="2617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198200" y="28749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uctureTypeId : I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194240" y="297972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ponse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67160" y="6858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962520" y="838080"/>
            <a:ext cx="1371240" cy="2511360"/>
            <a:chOff x="3962520" y="838080"/>
            <a:chExt cx="1371240" cy="2511360"/>
          </a:xfrm>
        </p:grpSpPr>
        <p:sp>
          <p:nvSpPr>
            <p:cNvPr id="1610" name=""/>
            <p:cNvSpPr/>
            <p:nvPr/>
          </p:nvSpPr>
          <p:spPr>
            <a:xfrm>
              <a:off x="4024800" y="838080"/>
              <a:ext cx="1308960" cy="2511360"/>
            </a:xfrm>
            <a:prstGeom prst="rect">
              <a:avLst/>
            </a:prstGeom>
            <a:solidFill>
              <a:srgbClr val="ffb0b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4040" y="85860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24800" y="982440"/>
              <a:ext cx="1308960" cy="2367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39200" y="9968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ET&lt;II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9200" y="11001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od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039200" y="12049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as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039200" y="13078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de : C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039200" y="14126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xt : E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39200" y="15159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Code : 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39200" y="16192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dential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39200" y="17240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ffective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39200" y="182700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tivityTime : G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039200" y="19303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39200" y="203508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vailabilityTime : 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039200" y="21384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extLock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39200" y="224136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ependent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039200" y="234612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ruptible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039200" y="244944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gationInd : B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39200" y="25542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ority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39200" y="265752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eatNumber : IVL&lt;INT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039200" y="276048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onCode : SET&lt;CE&gt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039200" y="2865240"/>
              <a:ext cx="119700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stitutionCondition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039200" y="296856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vel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9200" y="3079800"/>
              <a:ext cx="11970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Code : 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962520" y="1612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1738440" y="4075200"/>
            <a:ext cx="1265040" cy="747720"/>
          </a:xfrm>
          <a:prstGeom prst="rect">
            <a:avLst/>
          </a:prstGeom>
          <a:solidFill>
            <a:srgbClr val="ff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34080" y="410364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738440" y="4227480"/>
            <a:ext cx="1265040" cy="59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1760" y="4241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55720" y="434484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4280" y="444816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4280" y="455292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754280" y="4656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527280" y="4314960"/>
            <a:ext cx="1120680" cy="409320"/>
            <a:chOff x="3527280" y="4314960"/>
            <a:chExt cx="1120680" cy="409320"/>
          </a:xfrm>
        </p:grpSpPr>
        <p:sp>
          <p:nvSpPr>
            <p:cNvPr id="1645" name=""/>
            <p:cNvSpPr/>
            <p:nvPr/>
          </p:nvSpPr>
          <p:spPr>
            <a:xfrm>
              <a:off x="3527280" y="4314960"/>
              <a:ext cx="1120680" cy="40932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05000" y="434340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27280" y="4460760"/>
              <a:ext cx="1120680" cy="263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552840" y="4475160"/>
              <a:ext cx="79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ergy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54640" y="4578480"/>
              <a:ext cx="104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rbohydrateQuantity : PQ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7371720" y="27367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662360" y="335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4114800" y="3962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6248520" y="3885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87692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7692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6324480" y="4495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8487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2860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600200" y="5105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00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04812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00200" y="2590560"/>
            <a:ext cx="24382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00200" y="220968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600200" y="17524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5334120" y="297144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5334120" y="2361960"/>
            <a:ext cx="1828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5334120" y="1981080"/>
            <a:ext cx="18288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 flipV="1">
            <a:off x="5334120" y="1752480"/>
            <a:ext cx="18288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5334120" y="159984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438280" y="312408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rot="2299200">
            <a:off x="2331720" y="167760"/>
            <a:ext cx="2438280" cy="533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servation Act = Act Attributes + Observation Attribut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3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53600" y="3809880"/>
            <a:ext cx="46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bservation.code / Observation.value</a:t>
            </a:r>
            <a:br>
              <a:rPr sz="36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What is the Question? / What is the Answer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19040" y="34128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367160" y="1295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24440" y="1447920"/>
            <a:ext cx="1309680" cy="3047760"/>
          </a:xfrm>
          <a:prstGeom prst="rect">
            <a:avLst/>
          </a:prstGeom>
          <a:solidFill>
            <a:srgbClr val="ffb0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45920" y="146844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bservation 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24440" y="1592280"/>
            <a:ext cx="1309680" cy="290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038480" y="1606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d : SET&lt;II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038480" y="1709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ood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038480" y="1814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las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917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038480" y="2022480"/>
            <a:ext cx="1198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ext : 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8480" y="212724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tatusCode : 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038480" y="2230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fidential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038480" y="2335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effective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2438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ctivityTime : G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38480" y="254160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38480" y="26463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availabilityTime : T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38480" y="27496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contextLock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38480" y="285264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dependent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95740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ruptible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038480" y="30607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negationInd : B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038480" y="316548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priority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38480" y="3268800"/>
            <a:ext cx="119880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peatNumber : IVL&lt;INT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38480" y="337356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reas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38480" y="34783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substitutionCondition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038480" y="3581280"/>
            <a:ext cx="1198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level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038480" y="3692520"/>
            <a:ext cx="11988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uncertaintyCode : 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62520" y="22240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7960" y="3886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m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054680" y="38098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lue : 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57560" y="3913200"/>
            <a:ext cx="119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interpretation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56120" y="4016520"/>
            <a:ext cx="9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methodCode : SET&lt;C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056480" y="4121280"/>
            <a:ext cx="1064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targetSiteCode : SET&lt;CD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56120" y="4224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5e5ff"/>
                </a:solidFill>
                <a:latin typeface="Arial"/>
              </a:rPr>
              <a:t>derivationExpr : S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57600" y="3809880"/>
            <a:ext cx="304920" cy="533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486400" y="1828800"/>
            <a:ext cx="123516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te Blood Coun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P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yz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918480" y="1828800"/>
            <a:ext cx="1234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osis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65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lig Tumor of Breast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NOMED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4837009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05720" y="236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705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Gloss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57200" y="746280"/>
          <a:ext cx="8305920" cy="60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6280"/>
                    <a:ext cx="830592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-type concep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Data-type Links to Vocabulary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 Data Model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application performance in a relational data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concerned with ease of application programm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concerned with communicating knowledge of dom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3280" y="-76320"/>
            <a:ext cx="68454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he Concept Challeng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662120" y="506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08800" y="42210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009880" cy="71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52120" y="28947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1720" y="1599120"/>
            <a:ext cx="26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marine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eats smaller th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nice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10000" y="4475160"/>
            <a:ext cx="3792240" cy="0"/>
          </a:xfrm>
          <a:prstGeom prst="line">
            <a:avLst/>
          </a:prstGeom>
          <a:ln w="38160">
            <a:solidFill>
              <a:srgbClr val="0099cc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87720" y="2722320"/>
            <a:ext cx="1641240" cy="154620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2722680"/>
            <a:ext cx="2869920" cy="1442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1280" y="2722680"/>
            <a:ext cx="1435320" cy="1442880"/>
          </a:xfrm>
          <a:prstGeom prst="line">
            <a:avLst/>
          </a:prstGeom>
          <a:ln w="38160">
            <a:solidFill>
              <a:srgbClr val="00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7280" y="417456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an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9520" y="3427920"/>
            <a:ext cx="2754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’t put the “thing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 this sl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ce the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ists on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 physical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1760" y="2145600"/>
            <a:ext cx="20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601992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dapted from  Charlie Mead &amp; the Semantic Triang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600" y="502920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“</a:t>
            </a:r>
            <a:r>
              <a:rPr b="1" i="1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Frank the Shark” (in Englis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The image “http://www.communitymusicschool.org/teen_camp_2003/thursday/images/Card%20Ga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5638680"/>
            <a:ext cx="18288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1066680"/>
            <a:ext cx="1828800" cy="1459080"/>
            <a:chOff x="4343400" y="1066680"/>
            <a:chExt cx="1828800" cy="14590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1066680"/>
              <a:ext cx="18288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n Information Mode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s Relationships Between Concepts (in UM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s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ribute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ion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oncep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ta-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inks to Vocabulary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O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IN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N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7" name=""/>
          <p:cNvSpPr/>
          <p:nvPr/>
        </p:nvSpPr>
        <p:spPr>
          <a:xfrm>
            <a:off x="472284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72284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73580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4734360" y="2698920"/>
            <a:ext cx="596520" cy="562680"/>
            <a:chOff x="4734360" y="2698920"/>
            <a:chExt cx="596520" cy="562680"/>
          </a:xfrm>
        </p:grpSpPr>
        <p:sp>
          <p:nvSpPr>
            <p:cNvPr id="1761" name=""/>
            <p:cNvSpPr/>
            <p:nvPr/>
          </p:nvSpPr>
          <p:spPr>
            <a:xfrm>
              <a:off x="473580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436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3544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3544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2284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4100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5486400" y="2771640"/>
            <a:ext cx="1981080" cy="809640"/>
            <a:chOff x="5486400" y="2771640"/>
            <a:chExt cx="1981080" cy="809640"/>
          </a:xfrm>
        </p:grpSpPr>
        <p:sp>
          <p:nvSpPr>
            <p:cNvPr id="1769" name=""/>
            <p:cNvSpPr/>
            <p:nvPr/>
          </p:nvSpPr>
          <p:spPr>
            <a:xfrm>
              <a:off x="65260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6535800" y="3000240"/>
              <a:ext cx="596520" cy="563040"/>
              <a:chOff x="6535800" y="3000240"/>
              <a:chExt cx="596520" cy="563040"/>
            </a:xfrm>
          </p:grpSpPr>
          <p:sp>
            <p:nvSpPr>
              <p:cNvPr id="1771" name=""/>
              <p:cNvSpPr/>
              <p:nvPr/>
            </p:nvSpPr>
            <p:spPr>
              <a:xfrm>
                <a:off x="653724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53580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372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372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260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53688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1320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rot="285600">
            <a:off x="3124080" y="2298240"/>
            <a:ext cx="1524240" cy="228600"/>
          </a:xfrm>
          <a:prstGeom prst="rightArrow">
            <a:avLst>
              <a:gd name="adj1" fmla="val 65278"/>
              <a:gd name="adj2" fmla="val 16305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285600">
            <a:off x="3580920" y="2743200"/>
            <a:ext cx="1219320" cy="228600"/>
          </a:xfrm>
          <a:prstGeom prst="rightArrow">
            <a:avLst>
              <a:gd name="adj1" fmla="val 65278"/>
              <a:gd name="adj2" fmla="val 13043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285600">
            <a:off x="3808080" y="3134880"/>
            <a:ext cx="1828800" cy="228600"/>
          </a:xfrm>
          <a:prstGeom prst="rightArrow">
            <a:avLst>
              <a:gd name="adj1" fmla="val 65278"/>
              <a:gd name="adj2" fmla="val 19563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 an Information Model</a:t>
            </a:r>
            <a:br>
              <a:rPr sz="40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-an iterative proce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Basic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Basic Concepts in Glo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Relationships Between Concep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plic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oci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tract Basic Concepts into Hierarch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ttributes that can be sh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bstract Concepts in Glo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Basic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36576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8" name=""/>
          <p:cNvSpPr/>
          <p:nvPr/>
        </p:nvSpPr>
        <p:spPr>
          <a:xfrm>
            <a:off x="6248520" y="156996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Abstract Concep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s (acto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ic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care a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657600" y="210348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cum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o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rba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"/>
          <p:cNvSpPr/>
          <p:nvPr/>
        </p:nvSpPr>
        <p:spPr>
          <a:xfrm>
            <a:off x="6248520" y="207324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461400" y="14968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erbs = “Ac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5480" y="14619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Pers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438280" y="1523880"/>
            <a:ext cx="304920" cy="304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47520" y="17668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bjects = “Do’er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239520" y="15238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bjects = “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Abstract Concepts in Gloss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’er is someone who performs an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 is a word that describes what a do’er is doing to the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 is a direct object or an indirect object of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rect object of a sentence is the thing being don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direct object of a sentence is the 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-Typ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“kinds of” values can an attribute ha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 (date-timestamps; frequency text;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e (alphanumeric text strings from code field of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cabulary (string with official identifier for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text (string with English text corresponding to code in published vocabula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xt (string with exact text from storyboar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2" name=""/>
          <p:cNvSpPr/>
          <p:nvPr/>
        </p:nvSpPr>
        <p:spPr>
          <a:xfrm>
            <a:off x="1600200" y="13320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00200" y="593640"/>
            <a:ext cx="80028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13520" y="60804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611720" y="750960"/>
            <a:ext cx="596520" cy="562680"/>
            <a:chOff x="1611720" y="750960"/>
            <a:chExt cx="596520" cy="562680"/>
          </a:xfrm>
        </p:grpSpPr>
        <p:sp>
          <p:nvSpPr>
            <p:cNvPr id="1806" name=""/>
            <p:cNvSpPr/>
            <p:nvPr/>
          </p:nvSpPr>
          <p:spPr>
            <a:xfrm>
              <a:off x="1613160" y="7509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11720" y="89208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2800" y="10332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612800" y="117612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808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818360" y="4143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18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27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840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849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952880" y="2438280"/>
            <a:ext cx="2667240" cy="1143000"/>
            <a:chOff x="4952880" y="2438280"/>
            <a:chExt cx="2667240" cy="1143000"/>
          </a:xfrm>
        </p:grpSpPr>
        <p:sp>
          <p:nvSpPr>
            <p:cNvPr id="1853" name=""/>
            <p:cNvSpPr/>
            <p:nvPr/>
          </p:nvSpPr>
          <p:spPr>
            <a:xfrm>
              <a:off x="495288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4" name=""/>
            <p:cNvGrpSpPr/>
            <p:nvPr/>
          </p:nvGrpSpPr>
          <p:grpSpPr>
            <a:xfrm>
              <a:off x="4962960" y="3000240"/>
              <a:ext cx="596520" cy="563040"/>
              <a:chOff x="4962960" y="3000240"/>
              <a:chExt cx="596520" cy="563040"/>
            </a:xfrm>
          </p:grpSpPr>
          <p:sp>
            <p:nvSpPr>
              <p:cNvPr id="1855" name=""/>
              <p:cNvSpPr/>
              <p:nvPr/>
            </p:nvSpPr>
            <p:spPr>
              <a:xfrm>
                <a:off x="496440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96296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96404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6404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5288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96404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67872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6688440" y="3000240"/>
              <a:ext cx="596520" cy="563040"/>
              <a:chOff x="6688440" y="3000240"/>
              <a:chExt cx="596520" cy="563040"/>
            </a:xfrm>
          </p:grpSpPr>
          <p:sp>
            <p:nvSpPr>
              <p:cNvPr id="1864" name=""/>
              <p:cNvSpPr/>
              <p:nvPr/>
            </p:nvSpPr>
            <p:spPr>
              <a:xfrm>
                <a:off x="668988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68844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68952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68952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7872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90240" y="2803680"/>
              <a:ext cx="71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410080" y="25909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08660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24852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5638680" y="251460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dentify Relationships Between Concep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7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1838520" y="2698920"/>
            <a:ext cx="596520" cy="562680"/>
            <a:chOff x="1838520" y="2698920"/>
            <a:chExt cx="596520" cy="562680"/>
          </a:xfrm>
        </p:grpSpPr>
        <p:sp>
          <p:nvSpPr>
            <p:cNvPr id="1881" name=""/>
            <p:cNvSpPr/>
            <p:nvPr/>
          </p:nvSpPr>
          <p:spPr>
            <a:xfrm>
              <a:off x="1839960" y="2698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38520" y="2840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9960" y="29811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39960" y="3124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824800" y="1852560"/>
            <a:ext cx="596520" cy="563040"/>
            <a:chOff x="5824800" y="1852560"/>
            <a:chExt cx="596520" cy="563040"/>
          </a:xfrm>
        </p:grpSpPr>
        <p:sp>
          <p:nvSpPr>
            <p:cNvPr id="1890" name=""/>
            <p:cNvSpPr/>
            <p:nvPr/>
          </p:nvSpPr>
          <p:spPr>
            <a:xfrm>
              <a:off x="5826240" y="18525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24800" y="199404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826240" y="213660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26240" y="22780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s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63840" y="2274840"/>
            <a:ext cx="596520" cy="420120"/>
            <a:chOff x="663840" y="2274840"/>
            <a:chExt cx="596520" cy="420120"/>
          </a:xfrm>
        </p:grpSpPr>
        <p:sp>
          <p:nvSpPr>
            <p:cNvPr id="1903" name=""/>
            <p:cNvSpPr/>
            <p:nvPr/>
          </p:nvSpPr>
          <p:spPr>
            <a:xfrm>
              <a:off x="665280" y="22748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3840" y="241632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ocabul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5280" y="25574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vtex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66000" y="17971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’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228600" y="3597120"/>
            <a:ext cx="8610480" cy="3108600"/>
            <a:chOff x="228600" y="3597120"/>
            <a:chExt cx="8610480" cy="3108600"/>
          </a:xfrm>
        </p:grpSpPr>
        <p:sp>
          <p:nvSpPr>
            <p:cNvPr id="1912" name=""/>
            <p:cNvSpPr/>
            <p:nvPr/>
          </p:nvSpPr>
          <p:spPr>
            <a:xfrm>
              <a:off x="228600" y="3627360"/>
              <a:ext cx="320040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’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ur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hysici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 care a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429000" y="3627360"/>
              <a:ext cx="281952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Review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ecid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ri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Mo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Documen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pok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erbaliz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ss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597120"/>
              <a:ext cx="2819160" cy="30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Objects (direct &amp; indirec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Pat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Strateg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reast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Nause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om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a886e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590920" y="2771640"/>
            <a:ext cx="1981080" cy="809640"/>
            <a:chOff x="2590920" y="2771640"/>
            <a:chExt cx="1981080" cy="809640"/>
          </a:xfrm>
        </p:grpSpPr>
        <p:sp>
          <p:nvSpPr>
            <p:cNvPr id="1916" name=""/>
            <p:cNvSpPr/>
            <p:nvPr/>
          </p:nvSpPr>
          <p:spPr>
            <a:xfrm>
              <a:off x="3630600" y="2984400"/>
              <a:ext cx="941400" cy="596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7" name=""/>
            <p:cNvGrpSpPr/>
            <p:nvPr/>
          </p:nvGrpSpPr>
          <p:grpSpPr>
            <a:xfrm>
              <a:off x="3640320" y="3000240"/>
              <a:ext cx="596520" cy="563040"/>
              <a:chOff x="3640320" y="3000240"/>
              <a:chExt cx="596520" cy="563040"/>
            </a:xfrm>
          </p:grpSpPr>
          <p:sp>
            <p:nvSpPr>
              <p:cNvPr id="1918" name=""/>
              <p:cNvSpPr/>
              <p:nvPr/>
            </p:nvSpPr>
            <p:spPr>
              <a:xfrm>
                <a:off x="3641760" y="300024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cod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640320" y="3141720"/>
                <a:ext cx="596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ocabulary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641760" y="328428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v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641760" y="3425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stex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630600" y="2771640"/>
              <a:ext cx="941400" cy="21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641400" y="280368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irect Objec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590920" y="3124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2817720" y="3276720"/>
            <a:ext cx="613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onBehalfO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oryboard Information Model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nce Diagra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the combination of Information Model and vocabularies against the story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toryboard Glossary to provide the vocabulary for the instance dia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ursing Domain Information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0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7200" y="15238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76520" y="20574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182880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15000" y="1295280"/>
            <a:ext cx="114300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dicate Logic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DF, RIM, and SNOM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871640"/>
            <a:ext cx="205740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8400" y="1871640"/>
            <a:ext cx="16048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3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09720" y="217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4164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3041640"/>
            <a:ext cx="2057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041640"/>
            <a:ext cx="16052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143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4760" y="334656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08360"/>
            <a:ext cx="1605240" cy="947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7720" y="4608360"/>
            <a:ext cx="20574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608360"/>
            <a:ext cx="160524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143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14760" y="491328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640" y="144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DF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4120" y="41911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OMED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5909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 from Nursing to HL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72" name=""/>
          <p:cNvGraphicFramePr/>
          <p:nvPr/>
        </p:nvGraphicFramePr>
        <p:xfrm>
          <a:off x="457200" y="1600200"/>
          <a:ext cx="8229600" cy="43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Nursing Dom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 HL7 R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r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e Recip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tity (Person) + Ro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on + Object of 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agnosis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nding.res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.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bstAdmin.routeC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Instance Diagram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“Susan , an RN , reviews Christine's chart”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4" name=""/>
          <p:cNvSpPr/>
          <p:nvPr/>
        </p:nvSpPr>
        <p:spPr>
          <a:xfrm>
            <a:off x="1827360" y="32796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827360" y="2541600"/>
            <a:ext cx="799920" cy="738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840320" y="255600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839960" y="26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38520" y="2840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839960" y="2981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839960" y="3124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827360" y="232884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045520" y="236232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84200" y="4611600"/>
            <a:ext cx="798480" cy="18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4200" y="4014720"/>
            <a:ext cx="7984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97160" y="4029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95720" y="41702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97160" y="4313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7160" y="4454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84200" y="3801960"/>
            <a:ext cx="7984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4000" y="383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4880" y="32418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84160" y="3181320"/>
            <a:ext cx="943200" cy="620640"/>
          </a:xfrm>
          <a:custGeom>
            <a:avLst/>
            <a:gdLst/>
            <a:ahLst/>
            <a:rect l="l" t="t" r="r" b="b"/>
            <a:pathLst>
              <a:path w="594" h="391">
                <a:moveTo>
                  <a:pt x="594" y="0"/>
                </a:moveTo>
                <a:lnTo>
                  <a:pt x="0" y="0"/>
                </a:lnTo>
                <a:lnTo>
                  <a:pt x="0" y="3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42704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42704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00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43856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44000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4000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2704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659960" y="38289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79280" y="3616200"/>
            <a:ext cx="531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ou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827360" y="3465360"/>
            <a:ext cx="199800" cy="331920"/>
          </a:xfrm>
          <a:custGeom>
            <a:avLst/>
            <a:gdLst/>
            <a:ahLst/>
            <a:rect l="l" t="t" r="r" b="b"/>
            <a:pathLst>
              <a:path w="126" h="209">
                <a:moveTo>
                  <a:pt x="126" y="0"/>
                </a:moveTo>
                <a:lnTo>
                  <a:pt x="126" y="77"/>
                </a:lnTo>
                <a:lnTo>
                  <a:pt x="0" y="77"/>
                </a:lnTo>
                <a:lnTo>
                  <a:pt x="0" y="2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457360" y="460692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457360" y="4010040"/>
            <a:ext cx="80028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470320" y="4025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68880" y="416736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470320" y="43084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470320" y="4451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457360" y="379728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70840" y="382896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815080" y="2433600"/>
            <a:ext cx="94140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815080" y="1836720"/>
            <a:ext cx="941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26240" y="18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824800" y="1994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826240" y="21366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26240" y="2278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815080" y="1623960"/>
            <a:ext cx="941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825880" y="1655640"/>
            <a:ext cx="88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 of A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894400" y="3317760"/>
            <a:ext cx="345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27280" y="3181320"/>
            <a:ext cx="230400" cy="615960"/>
          </a:xfrm>
          <a:custGeom>
            <a:avLst/>
            <a:gdLst/>
            <a:ahLst/>
            <a:rect l="l" t="t" r="r" b="b"/>
            <a:pathLst>
              <a:path w="145" h="388">
                <a:moveTo>
                  <a:pt x="0" y="0"/>
                </a:moveTo>
                <a:lnTo>
                  <a:pt x="145" y="0"/>
                </a:lnTo>
                <a:lnTo>
                  <a:pt x="145" y="3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027600" y="1944720"/>
            <a:ext cx="40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ts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427120" y="2122560"/>
            <a:ext cx="3387960" cy="206280"/>
          </a:xfrm>
          <a:custGeom>
            <a:avLst/>
            <a:gdLst/>
            <a:ahLst/>
            <a:rect l="l" t="t" r="r" b="b"/>
            <a:pathLst>
              <a:path w="2134" h="130">
                <a:moveTo>
                  <a:pt x="0" y="130"/>
                </a:moveTo>
                <a:lnTo>
                  <a:pt x="0" y="0"/>
                </a:lnTo>
                <a:lnTo>
                  <a:pt x="21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70440" y="3192480"/>
            <a:ext cx="100476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970440" y="2454120"/>
            <a:ext cx="100476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983760" y="247032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983400" y="26114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983040" y="2752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81600" y="289548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83040" y="303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970440" y="2241720"/>
            <a:ext cx="1004760" cy="21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982680" y="2273400"/>
            <a:ext cx="94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ient of 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739960" y="2419200"/>
            <a:ext cx="1073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RecipientOfC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627280" y="2612880"/>
            <a:ext cx="1343160" cy="196920"/>
          </a:xfrm>
          <a:custGeom>
            <a:avLst/>
            <a:gdLst/>
            <a:ahLst/>
            <a:rect l="l" t="t" r="r" b="b"/>
            <a:pathLst>
              <a:path w="846" h="124">
                <a:moveTo>
                  <a:pt x="0" y="0"/>
                </a:moveTo>
                <a:lnTo>
                  <a:pt x="705" y="0"/>
                </a:lnTo>
                <a:lnTo>
                  <a:pt x="705" y="124"/>
                </a:lnTo>
                <a:lnTo>
                  <a:pt x="846" y="12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78680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78680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78680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807680" y="353700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Objec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5159520"/>
            <a:ext cx="761760" cy="13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562720" y="4564080"/>
            <a:ext cx="761760" cy="595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75320" y="45784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degre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573880" y="471960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potential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574960" y="4862520"/>
            <a:ext cx="34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acu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575680" y="500364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562720" y="4351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62720" y="4308480"/>
            <a:ext cx="76176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644800" y="438300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284880" y="2752560"/>
            <a:ext cx="1901880" cy="752760"/>
          </a:xfrm>
          <a:custGeom>
            <a:avLst/>
            <a:gdLst/>
            <a:ahLst/>
            <a:rect l="l" t="t" r="r" b="b"/>
            <a:pathLst>
              <a:path w="1198" h="474">
                <a:moveTo>
                  <a:pt x="0" y="0"/>
                </a:moveTo>
                <a:lnTo>
                  <a:pt x="0" y="131"/>
                </a:lnTo>
                <a:lnTo>
                  <a:pt x="1198" y="131"/>
                </a:lnTo>
                <a:lnTo>
                  <a:pt x="1198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932360" y="3967200"/>
            <a:ext cx="80028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3652920"/>
            <a:ext cx="800280" cy="31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945680" y="366876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944240" y="38116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ocusTyp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932360" y="3440160"/>
            <a:ext cx="80028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158080" y="347328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54320" y="6081840"/>
            <a:ext cx="129240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154320" y="5484960"/>
            <a:ext cx="1292400" cy="59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167280" y="55008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165840" y="56419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167280" y="57834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167280" y="592452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154320" y="5272200"/>
            <a:ext cx="129240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66200" y="530388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 of 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332320" y="5832360"/>
            <a:ext cx="727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bje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fIn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446720" y="4152960"/>
            <a:ext cx="885600" cy="1616040"/>
          </a:xfrm>
          <a:custGeom>
            <a:avLst/>
            <a:gdLst/>
            <a:ahLst/>
            <a:rect l="l" t="t" r="r" b="b"/>
            <a:pathLst>
              <a:path w="558" h="1018">
                <a:moveTo>
                  <a:pt x="0" y="1018"/>
                </a:moveTo>
                <a:lnTo>
                  <a:pt x="558" y="1018"/>
                </a:lnTo>
                <a:lnTo>
                  <a:pt x="55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493880" y="4842000"/>
            <a:ext cx="4230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84160" y="4152960"/>
            <a:ext cx="4249800" cy="900000"/>
          </a:xfrm>
          <a:custGeom>
            <a:avLst/>
            <a:gdLst/>
            <a:ahLst/>
            <a:rect l="l" t="t" r="r" b="b"/>
            <a:pathLst>
              <a:path w="2677" h="567">
                <a:moveTo>
                  <a:pt x="0" y="407"/>
                </a:moveTo>
                <a:lnTo>
                  <a:pt x="0" y="567"/>
                </a:lnTo>
                <a:lnTo>
                  <a:pt x="2677" y="567"/>
                </a:lnTo>
                <a:lnTo>
                  <a:pt x="2677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284880" y="2752560"/>
            <a:ext cx="895320" cy="752760"/>
          </a:xfrm>
          <a:custGeom>
            <a:avLst/>
            <a:gdLst/>
            <a:ahLst/>
            <a:rect l="l" t="t" r="r" b="b"/>
            <a:pathLst>
              <a:path w="564" h="474">
                <a:moveTo>
                  <a:pt x="0" y="0"/>
                </a:moveTo>
                <a:lnTo>
                  <a:pt x="0" y="131"/>
                </a:lnTo>
                <a:lnTo>
                  <a:pt x="564" y="131"/>
                </a:lnTo>
                <a:lnTo>
                  <a:pt x="564" y="4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52320" y="2714760"/>
            <a:ext cx="8035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52320" y="1976400"/>
            <a:ext cx="803520" cy="73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66000" y="19908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am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65640" y="213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5280" y="22748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63840" y="241632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65280" y="25574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52320" y="1763640"/>
            <a:ext cx="803520" cy="21276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65280" y="179712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r Ro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5840" y="2612880"/>
            <a:ext cx="371520" cy="3240"/>
          </a:xfrm>
          <a:custGeom>
            <a:avLst/>
            <a:gdLst/>
            <a:ahLst/>
            <a:rect l="l" t="t" r="r" b="b"/>
            <a:pathLst>
              <a:path w="234" h="2">
                <a:moveTo>
                  <a:pt x="0" y="2"/>
                </a:moveTo>
                <a:lnTo>
                  <a:pt x="126" y="2"/>
                </a:lnTo>
                <a:lnTo>
                  <a:pt x="126" y="0"/>
                </a:lnTo>
                <a:lnTo>
                  <a:pt x="23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780240" y="3903840"/>
            <a:ext cx="799920" cy="185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780240" y="371808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93200" y="3733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Resul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780240" y="350532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963120" y="353700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332320" y="2752560"/>
            <a:ext cx="952560" cy="687600"/>
          </a:xfrm>
          <a:custGeom>
            <a:avLst/>
            <a:gdLst/>
            <a:ahLst/>
            <a:rect l="l" t="t" r="r" b="b"/>
            <a:pathLst>
              <a:path w="600" h="433">
                <a:moveTo>
                  <a:pt x="600" y="0"/>
                </a:moveTo>
                <a:lnTo>
                  <a:pt x="600" y="131"/>
                </a:lnTo>
                <a:lnTo>
                  <a:pt x="0" y="131"/>
                </a:lnTo>
                <a:lnTo>
                  <a:pt x="0" y="43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02440" y="2620800"/>
            <a:ext cx="166680" cy="131760"/>
          </a:xfrm>
          <a:custGeom>
            <a:avLst/>
            <a:gdLst/>
            <a:ahLst/>
            <a:rect l="l" t="t" r="r" b="b"/>
            <a:pathLst>
              <a:path w="105" h="83">
                <a:moveTo>
                  <a:pt x="0" y="83"/>
                </a:moveTo>
                <a:lnTo>
                  <a:pt x="105" y="83"/>
                </a:lnTo>
                <a:lnTo>
                  <a:pt x="52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32640" y="3797280"/>
            <a:ext cx="1047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780240" y="495144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780240" y="4764240"/>
            <a:ext cx="799920" cy="18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80240" y="45514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94720" y="458460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180200" y="4222800"/>
            <a:ext cx="1800" cy="32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97760" y="4089240"/>
            <a:ext cx="166680" cy="133560"/>
          </a:xfrm>
          <a:custGeom>
            <a:avLst/>
            <a:gdLst/>
            <a:ahLst/>
            <a:rect l="l" t="t" r="r" b="b"/>
            <a:pathLst>
              <a:path w="105" h="84">
                <a:moveTo>
                  <a:pt x="0" y="84"/>
                </a:moveTo>
                <a:lnTo>
                  <a:pt x="105" y="84"/>
                </a:lnTo>
                <a:lnTo>
                  <a:pt x="52" y="0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21080" y="4613400"/>
            <a:ext cx="799920" cy="185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080" y="4010040"/>
            <a:ext cx="799920" cy="60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421080" y="3797280"/>
            <a:ext cx="799920" cy="212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621600" y="3828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815200" y="2952720"/>
            <a:ext cx="576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Suppl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817720" y="303228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627280" y="2898720"/>
            <a:ext cx="992160" cy="898560"/>
          </a:xfrm>
          <a:custGeom>
            <a:avLst/>
            <a:gdLst/>
            <a:ahLst/>
            <a:rect l="l" t="t" r="r" b="b"/>
            <a:pathLst>
              <a:path w="625" h="566">
                <a:moveTo>
                  <a:pt x="0" y="0"/>
                </a:moveTo>
                <a:lnTo>
                  <a:pt x="625" y="0"/>
                </a:lnTo>
                <a:lnTo>
                  <a:pt x="625" y="56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680160" y="5375160"/>
            <a:ext cx="1473120" cy="1254240"/>
          </a:xfrm>
          <a:custGeom>
            <a:avLst/>
            <a:gdLst/>
            <a:ahLst/>
            <a:rect l="l" t="t" r="r" b="b"/>
            <a:pathLst>
              <a:path w="832" h="790">
                <a:moveTo>
                  <a:pt x="832" y="101"/>
                </a:moveTo>
                <a:lnTo>
                  <a:pt x="749" y="0"/>
                </a:lnTo>
                <a:lnTo>
                  <a:pt x="749" y="101"/>
                </a:lnTo>
                <a:lnTo>
                  <a:pt x="832" y="101"/>
                </a:lnTo>
                <a:close/>
                <a:moveTo>
                  <a:pt x="0" y="790"/>
                </a:moveTo>
                <a:lnTo>
                  <a:pt x="832" y="790"/>
                </a:lnTo>
                <a:lnTo>
                  <a:pt x="832" y="101"/>
                </a:lnTo>
                <a:lnTo>
                  <a:pt x="749" y="101"/>
                </a:lnTo>
                <a:lnTo>
                  <a:pt x="749" y="0"/>
                </a:lnTo>
                <a:lnTo>
                  <a:pt x="0" y="0"/>
                </a:lnTo>
                <a:lnTo>
                  <a:pt x="0" y="79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734160" y="5437080"/>
            <a:ext cx="116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Type Value Set =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734520" y="5730840"/>
            <a:ext cx="105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ient Function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35600" y="6032520"/>
            <a:ext cx="117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F and other simila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in other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989760" y="1996920"/>
            <a:ext cx="1244520" cy="827280"/>
          </a:xfrm>
          <a:custGeom>
            <a:avLst/>
            <a:gdLst/>
            <a:ahLst/>
            <a:rect l="l" t="t" r="r" b="b"/>
            <a:pathLst>
              <a:path w="784" h="521">
                <a:moveTo>
                  <a:pt x="784" y="100"/>
                </a:moveTo>
                <a:lnTo>
                  <a:pt x="700" y="0"/>
                </a:lnTo>
                <a:lnTo>
                  <a:pt x="700" y="100"/>
                </a:lnTo>
                <a:lnTo>
                  <a:pt x="784" y="100"/>
                </a:lnTo>
                <a:close/>
                <a:moveTo>
                  <a:pt x="0" y="521"/>
                </a:moveTo>
                <a:lnTo>
                  <a:pt x="784" y="521"/>
                </a:lnTo>
                <a:lnTo>
                  <a:pt x="784" y="100"/>
                </a:lnTo>
                <a:lnTo>
                  <a:pt x="700" y="100"/>
                </a:lnTo>
                <a:lnTo>
                  <a:pt x="700" y="0"/>
                </a:lnTo>
                <a:lnTo>
                  <a:pt x="0" y="0"/>
                </a:lnTo>
                <a:lnTo>
                  <a:pt x="0" y="52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43400" y="2057400"/>
            <a:ext cx="102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ing includes th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43760" y="21985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s of Goal 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045200" y="234000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come depend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043760" y="24811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relationship tim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044480" y="2624040"/>
            <a:ext cx="88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ther actio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73200" y="5410080"/>
            <a:ext cx="1309680" cy="542880"/>
          </a:xfrm>
          <a:custGeom>
            <a:avLst/>
            <a:gdLst/>
            <a:ahLst/>
            <a:rect l="l" t="t" r="r" b="b"/>
            <a:pathLst>
              <a:path w="825" h="342">
                <a:moveTo>
                  <a:pt x="825" y="100"/>
                </a:moveTo>
                <a:lnTo>
                  <a:pt x="740" y="0"/>
                </a:lnTo>
                <a:lnTo>
                  <a:pt x="740" y="100"/>
                </a:lnTo>
                <a:lnTo>
                  <a:pt x="825" y="100"/>
                </a:lnTo>
                <a:close/>
                <a:moveTo>
                  <a:pt x="0" y="342"/>
                </a:moveTo>
                <a:lnTo>
                  <a:pt x="825" y="342"/>
                </a:lnTo>
                <a:lnTo>
                  <a:pt x="825" y="100"/>
                </a:lnTo>
                <a:lnTo>
                  <a:pt x="740" y="100"/>
                </a:lnTo>
                <a:lnTo>
                  <a:pt x="740" y="0"/>
                </a:lnTo>
                <a:lnTo>
                  <a:pt x="0" y="0"/>
                </a:lnTo>
                <a:lnTo>
                  <a:pt x="0" y="34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27200" y="5467320"/>
            <a:ext cx="101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ject is coded fo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27920" y="5610240"/>
            <a:ext cx="878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, family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626120" y="5751360"/>
            <a:ext cx="115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other physical entit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27560" y="40035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co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426120" y="4145040"/>
            <a:ext cx="59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ocabul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427560" y="42861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v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27560" y="442908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stex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941080" y="3622680"/>
            <a:ext cx="5385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Foc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399000" y="4232160"/>
            <a:ext cx="569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24480" y="484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972360" y="1924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973800" y="20829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15120" y="2235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188000" y="2362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84160" y="25146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058120" y="266688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55210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33640" y="29559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43720" y="31082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view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407320" y="280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184640" y="272736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233960" y="24382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688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530240" y="28796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368400" y="196524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27480" y="211788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cor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93080" y="22701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3349800" y="905040"/>
            <a:ext cx="137448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2120" y="765000"/>
            <a:ext cx="1406520" cy="205452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52600" y="5396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095480" y="5716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52600" y="738360"/>
            <a:ext cx="1406520" cy="18554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2600" y="2470320"/>
            <a:ext cx="1406520" cy="12348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80680" y="7603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79960" y="9018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79960" y="10414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78520" y="118440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81040" y="13255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79960" y="14684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79600" y="16095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9960" y="17496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1040" y="1892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1760" y="20336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80320" y="217656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016360" y="11080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1968480" y="10825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85240" y="957240"/>
            <a:ext cx="3603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071440" y="957240"/>
            <a:ext cx="1972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play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1968480" y="1984320"/>
            <a:ext cx="11224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61760" y="1857240"/>
            <a:ext cx="3801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dRo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8680" y="1857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cop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21400" y="2000160"/>
            <a:ext cx="11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1262160" y="2606400"/>
            <a:ext cx="1440" cy="39996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95560" y="260676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803760" y="2558880"/>
            <a:ext cx="1440" cy="44784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665360" y="366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381400" y="36608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602080" y="223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85760" y="3898800"/>
            <a:ext cx="1995480" cy="196056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47800" y="39830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85760" y="4145040"/>
            <a:ext cx="1995480" cy="17143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85760" y="5727600"/>
            <a:ext cx="1995480" cy="131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07360" y="415908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08440" y="4302000"/>
            <a:ext cx="71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r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07000" y="4443480"/>
            <a:ext cx="72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_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06280" y="458460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06640" y="47275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06640" y="4867200"/>
            <a:ext cx="108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reness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06280" y="5010120"/>
            <a:ext cx="95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atur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04120" y="5151600"/>
            <a:ext cx="191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nter_accommodati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07000" y="52927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08080" y="54356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3096720" y="4906800"/>
            <a:ext cx="76068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179880" y="49989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538440" y="4756320"/>
            <a:ext cx="1191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H="1">
            <a:off x="2284560" y="2376360"/>
            <a:ext cx="8064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2284560" y="2376000"/>
            <a:ext cx="1440" cy="1522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171840" y="594360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adapted from RIM V1.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00880" y="647640"/>
            <a:ext cx="1204560" cy="70812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692320" y="6843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600880" y="855720"/>
            <a:ext cx="1204560" cy="5000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600880" y="1231920"/>
            <a:ext cx="120456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623560" y="8701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625360" y="10112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114720" y="638280"/>
            <a:ext cx="1374840" cy="191448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66960" y="674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114720" y="846000"/>
            <a:ext cx="1374840" cy="17067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14720" y="2428920"/>
            <a:ext cx="137484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138840" y="860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137760" y="1003320"/>
            <a:ext cx="1233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IVL&lt;TS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39920" y="114444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139200" y="128592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37760" y="1427040"/>
            <a:ext cx="1462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onNumber : LIST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140640" y="156852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7760" y="171144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e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139920" y="185256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 : SET&lt;AD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39200" y="19940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39920" y="21351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4495320" y="903240"/>
            <a:ext cx="1089000" cy="180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58440" y="77148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18360" y="90792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510440" y="768240"/>
            <a:ext cx="21708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63000" y="90792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4495320" y="1270080"/>
            <a:ext cx="1089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55120" y="1138320"/>
            <a:ext cx="3877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n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418360" y="127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14040" y="113508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563000" y="127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738600" y="2558880"/>
            <a:ext cx="133200" cy="179640"/>
          </a:xfrm>
          <a:custGeom>
            <a:avLst/>
            <a:gdLst/>
            <a:ahLst/>
            <a:rect l="l" t="t" r="r" b="b"/>
            <a:pathLst>
              <a:path w="167" h="226">
                <a:moveTo>
                  <a:pt x="83" y="0"/>
                </a:moveTo>
                <a:lnTo>
                  <a:pt x="167" y="226"/>
                </a:lnTo>
                <a:lnTo>
                  <a:pt x="0" y="226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4920" y="110808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14920" y="200016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92960" y="2411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510240" y="3720960"/>
            <a:ext cx="1158840" cy="1914840"/>
          </a:xfrm>
          <a:prstGeom prst="rect">
            <a:avLst/>
          </a:prstGeom>
          <a:solidFill>
            <a:srgbClr val="ffff99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52800" y="3755880"/>
            <a:ext cx="87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Relationsh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510240" y="3919680"/>
            <a:ext cx="1158840" cy="17161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10240" y="5502240"/>
            <a:ext cx="1158840" cy="13356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535080" y="39355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533280" y="4076640"/>
            <a:ext cx="91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ers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534000" y="4218120"/>
            <a:ext cx="118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quence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534720" y="435924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Number : I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535440" y="45007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useQty : P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533280" y="4643280"/>
            <a:ext cx="10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poin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535080" y="4784760"/>
            <a:ext cx="73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lit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535080" y="4925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i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533640" y="5067360"/>
            <a:ext cx="89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on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533280" y="5208480"/>
            <a:ext cx="1113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junction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825720" y="368460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573080" y="371952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25720" y="387972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25720" y="621972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850920" y="3898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404028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850200" y="418140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851640" y="4322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50200" y="446400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49840" y="460692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849840" y="474804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7320" y="488952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849840" y="503064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848400" y="517212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849480" y="531504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48040" y="545616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48760" y="559908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51280" y="573876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48760" y="58802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11880" y="496728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502240" y="473076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107760" y="3895560"/>
            <a:ext cx="43056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outboundLin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539680" y="3895560"/>
            <a:ext cx="43344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is_source_f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619960" y="478620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329520" y="478620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5502240" y="4070520"/>
            <a:ext cx="1008000" cy="1440"/>
          </a:xfrm>
          <a:prstGeom prst="line">
            <a:avLst/>
          </a:prstGeom>
          <a:ln w="324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071040" y="4541760"/>
            <a:ext cx="33912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has_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329520" y="4130640"/>
            <a:ext cx="10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0..*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555520" y="4541760"/>
            <a:ext cx="183600" cy="1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619960" y="4130640"/>
            <a:ext cx="4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4664160" y="6356520"/>
            <a:ext cx="144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97560" y="6356520"/>
            <a:ext cx="133200" cy="18072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900680" y="1874520"/>
            <a:ext cx="37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pping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5" name=""/>
          <p:cNvSpPr/>
          <p:nvPr/>
        </p:nvSpPr>
        <p:spPr>
          <a:xfrm>
            <a:off x="1289880" y="198108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u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658320" y="21178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963240" y="211788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24535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95040" y="211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694400" y="19652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Register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N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108320" y="2575080"/>
            <a:ext cx="127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2B.2.1.1.1.1.1.1.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627000" y="25750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331960" y="2575080"/>
            <a:ext cx="49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ICN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4318200" y="5699160"/>
            <a:ext cx="25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312853008 Medical Record Review      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150800" y="4267080"/>
            <a:ext cx="117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viewed Cha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487880" y="25909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</a:rPr>
              <a:t>Chris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NOMED in the HL7 R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04800" y="1447920"/>
            <a:ext cx="7553520" cy="5092560"/>
            <a:chOff x="604800" y="1447920"/>
            <a:chExt cx="7553520" cy="5092560"/>
          </a:xfrm>
        </p:grpSpPr>
        <p:sp>
          <p:nvSpPr>
            <p:cNvPr id="159" name=""/>
            <p:cNvSpPr/>
            <p:nvPr/>
          </p:nvSpPr>
          <p:spPr>
            <a:xfrm>
              <a:off x="6048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u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1447920"/>
              <a:ext cx="205740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redic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1447920"/>
              <a:ext cx="1604880" cy="581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93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09720" y="175248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250668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serv-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7720" y="250668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ticipation Su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2506680"/>
              <a:ext cx="1605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t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43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414760" y="281160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4184640"/>
              <a:ext cx="160524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acture of Femu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7720" y="4184640"/>
              <a:ext cx="205740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nding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080" y="4184640"/>
              <a:ext cx="160524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ucture of Neck of Fem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43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14760" y="448956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175360"/>
              <a:ext cx="205740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ssociated Morph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48400" y="5264280"/>
              <a:ext cx="1604880" cy="642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ression Frac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09720" y="5479920"/>
              <a:ext cx="1143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914400" y="3205080"/>
              <a:ext cx="6620400" cy="3335400"/>
              <a:chOff x="914400" y="3205080"/>
              <a:chExt cx="6620400" cy="33354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914400" y="3504960"/>
                <a:ext cx="914400" cy="685080"/>
                <a:chOff x="914400" y="3504960"/>
                <a:chExt cx="914400" cy="685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914400" y="3676320"/>
                  <a:ext cx="914400" cy="3427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hasResul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371600" y="350496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371600" y="4019040"/>
                  <a:ext cx="1440" cy="171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788440" y="3205080"/>
                <a:ext cx="160092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L7 RI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8160" y="6019920"/>
                <a:ext cx="1736640" cy="52056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SNOME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ositions &amp; Asser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ositions in RDF tri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ject | Predicate |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sitions may be true or fal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ertions are believed by the author to be tr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4840" y="3657600"/>
            <a:ext cx="118404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0" y="3657600"/>
            <a:ext cx="92376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57480" y="38149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900320" y="38149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660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serv-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8080" y="420372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rticipation Subje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57680" y="4203720"/>
            <a:ext cx="924120" cy="23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60720" y="436104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02120" y="436104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6600" y="5067360"/>
            <a:ext cx="92412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racture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5067360"/>
            <a:ext cx="118404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ding Si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57680" y="5067360"/>
            <a:ext cx="92412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ure of Neck of Fem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60720" y="52243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02120" y="5224320"/>
            <a:ext cx="65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4840" y="5576760"/>
            <a:ext cx="1184040" cy="50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sociated Morpholog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54800" y="5626080"/>
            <a:ext cx="9237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ression Fract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7480" y="5735520"/>
            <a:ext cx="657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00320" y="5735520"/>
            <a:ext cx="657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1560" y="4495680"/>
            <a:ext cx="527040" cy="533160"/>
            <a:chOff x="2311560" y="4495680"/>
            <a:chExt cx="527040" cy="533160"/>
          </a:xfrm>
        </p:grpSpPr>
        <p:sp>
          <p:nvSpPr>
            <p:cNvPr id="207" name=""/>
            <p:cNvSpPr/>
            <p:nvPr/>
          </p:nvSpPr>
          <p:spPr>
            <a:xfrm>
              <a:off x="2311560" y="4628880"/>
              <a:ext cx="52704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hasResul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575080" y="449568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75080" y="4895640"/>
              <a:ext cx="7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9600" y="4673520"/>
            <a:ext cx="63792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HL7 RI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82640" y="6299280"/>
            <a:ext cx="680760" cy="23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SNOM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tologies:  Mass &amp; Energ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5810400" cy="5433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02320" y="1447920"/>
            <a:ext cx="336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posit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=mc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736560" y="1392120"/>
            <a:ext cx="2822400" cy="2447640"/>
            <a:chOff x="736560" y="1392120"/>
            <a:chExt cx="2822400" cy="2447640"/>
          </a:xfrm>
        </p:grpSpPr>
        <p:sp>
          <p:nvSpPr>
            <p:cNvPr id="216" name=""/>
            <p:cNvSpPr/>
            <p:nvPr/>
          </p:nvSpPr>
          <p:spPr>
            <a:xfrm>
              <a:off x="921960" y="2057400"/>
              <a:ext cx="324720" cy="606600"/>
            </a:xfrm>
            <a:custGeom>
              <a:avLst/>
              <a:gdLst/>
              <a:ahLst/>
              <a:rect l="l" t="t" r="r" b="b"/>
              <a:pathLst>
                <a:path w="220" h="437">
                  <a:moveTo>
                    <a:pt x="73" y="175"/>
                  </a:moveTo>
                  <a:lnTo>
                    <a:pt x="87" y="150"/>
                  </a:lnTo>
                  <a:lnTo>
                    <a:pt x="101" y="126"/>
                  </a:lnTo>
                  <a:lnTo>
                    <a:pt x="119" y="103"/>
                  </a:lnTo>
                  <a:lnTo>
                    <a:pt x="136" y="80"/>
                  </a:lnTo>
                  <a:lnTo>
                    <a:pt x="156" y="59"/>
                  </a:lnTo>
                  <a:lnTo>
                    <a:pt x="176" y="38"/>
                  </a:lnTo>
                  <a:lnTo>
                    <a:pt x="198" y="19"/>
                  </a:lnTo>
                  <a:lnTo>
                    <a:pt x="220" y="0"/>
                  </a:lnTo>
                  <a:lnTo>
                    <a:pt x="204" y="27"/>
                  </a:lnTo>
                  <a:lnTo>
                    <a:pt x="188" y="53"/>
                  </a:lnTo>
                  <a:lnTo>
                    <a:pt x="172" y="80"/>
                  </a:lnTo>
                  <a:lnTo>
                    <a:pt x="156" y="106"/>
                  </a:lnTo>
                  <a:lnTo>
                    <a:pt x="141" y="133"/>
                  </a:lnTo>
                  <a:lnTo>
                    <a:pt x="126" y="159"/>
                  </a:lnTo>
                  <a:lnTo>
                    <a:pt x="111" y="187"/>
                  </a:lnTo>
                  <a:lnTo>
                    <a:pt x="97" y="213"/>
                  </a:lnTo>
                  <a:lnTo>
                    <a:pt x="83" y="241"/>
                  </a:lnTo>
                  <a:lnTo>
                    <a:pt x="69" y="269"/>
                  </a:lnTo>
                  <a:lnTo>
                    <a:pt x="57" y="296"/>
                  </a:lnTo>
                  <a:lnTo>
                    <a:pt x="44" y="324"/>
                  </a:lnTo>
                  <a:lnTo>
                    <a:pt x="32" y="352"/>
                  </a:lnTo>
                  <a:lnTo>
                    <a:pt x="21" y="380"/>
                  </a:lnTo>
                  <a:lnTo>
                    <a:pt x="10" y="408"/>
                  </a:lnTo>
                  <a:lnTo>
                    <a:pt x="0" y="437"/>
                  </a:lnTo>
                  <a:lnTo>
                    <a:pt x="2" y="402"/>
                  </a:lnTo>
                  <a:lnTo>
                    <a:pt x="6" y="369"/>
                  </a:lnTo>
                  <a:lnTo>
                    <a:pt x="13" y="336"/>
                  </a:lnTo>
                  <a:lnTo>
                    <a:pt x="21" y="302"/>
                  </a:lnTo>
                  <a:lnTo>
                    <a:pt x="32" y="270"/>
                  </a:lnTo>
                  <a:lnTo>
                    <a:pt x="44" y="238"/>
                  </a:lnTo>
                  <a:lnTo>
                    <a:pt x="58" y="207"/>
                  </a:lnTo>
                  <a:lnTo>
                    <a:pt x="73" y="175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6560" y="1392120"/>
              <a:ext cx="2822400" cy="2447640"/>
            </a:xfrm>
            <a:custGeom>
              <a:avLst/>
              <a:gdLst/>
              <a:ahLst/>
              <a:rect l="l" t="t" r="r" b="b"/>
              <a:pathLst>
                <a:path w="1909" h="1758">
                  <a:moveTo>
                    <a:pt x="1592" y="406"/>
                  </a:moveTo>
                  <a:lnTo>
                    <a:pt x="1676" y="418"/>
                  </a:lnTo>
                  <a:lnTo>
                    <a:pt x="1678" y="403"/>
                  </a:lnTo>
                  <a:lnTo>
                    <a:pt x="1681" y="388"/>
                  </a:lnTo>
                  <a:lnTo>
                    <a:pt x="1687" y="376"/>
                  </a:lnTo>
                  <a:lnTo>
                    <a:pt x="1695" y="362"/>
                  </a:lnTo>
                  <a:lnTo>
                    <a:pt x="1703" y="350"/>
                  </a:lnTo>
                  <a:lnTo>
                    <a:pt x="1713" y="339"/>
                  </a:lnTo>
                  <a:lnTo>
                    <a:pt x="1724" y="327"/>
                  </a:lnTo>
                  <a:lnTo>
                    <a:pt x="1735" y="317"/>
                  </a:lnTo>
                  <a:lnTo>
                    <a:pt x="1739" y="305"/>
                  </a:lnTo>
                  <a:lnTo>
                    <a:pt x="1746" y="294"/>
                  </a:lnTo>
                  <a:lnTo>
                    <a:pt x="1749" y="284"/>
                  </a:lnTo>
                  <a:lnTo>
                    <a:pt x="1740" y="273"/>
                  </a:lnTo>
                  <a:lnTo>
                    <a:pt x="1734" y="258"/>
                  </a:lnTo>
                  <a:lnTo>
                    <a:pt x="1733" y="247"/>
                  </a:lnTo>
                  <a:lnTo>
                    <a:pt x="1736" y="236"/>
                  </a:lnTo>
                  <a:lnTo>
                    <a:pt x="1746" y="228"/>
                  </a:lnTo>
                  <a:lnTo>
                    <a:pt x="1750" y="225"/>
                  </a:lnTo>
                  <a:lnTo>
                    <a:pt x="1756" y="223"/>
                  </a:lnTo>
                  <a:lnTo>
                    <a:pt x="1761" y="220"/>
                  </a:lnTo>
                  <a:lnTo>
                    <a:pt x="1766" y="218"/>
                  </a:lnTo>
                  <a:lnTo>
                    <a:pt x="1772" y="217"/>
                  </a:lnTo>
                  <a:lnTo>
                    <a:pt x="1779" y="217"/>
                  </a:lnTo>
                  <a:lnTo>
                    <a:pt x="1785" y="217"/>
                  </a:lnTo>
                  <a:lnTo>
                    <a:pt x="1791" y="218"/>
                  </a:lnTo>
                  <a:lnTo>
                    <a:pt x="1797" y="221"/>
                  </a:lnTo>
                  <a:lnTo>
                    <a:pt x="1806" y="224"/>
                  </a:lnTo>
                  <a:lnTo>
                    <a:pt x="1815" y="225"/>
                  </a:lnTo>
                  <a:lnTo>
                    <a:pt x="1824" y="226"/>
                  </a:lnTo>
                  <a:lnTo>
                    <a:pt x="1833" y="227"/>
                  </a:lnTo>
                  <a:lnTo>
                    <a:pt x="1841" y="231"/>
                  </a:lnTo>
                  <a:lnTo>
                    <a:pt x="1849" y="235"/>
                  </a:lnTo>
                  <a:lnTo>
                    <a:pt x="1856" y="242"/>
                  </a:lnTo>
                  <a:lnTo>
                    <a:pt x="1865" y="248"/>
                  </a:lnTo>
                  <a:lnTo>
                    <a:pt x="1874" y="256"/>
                  </a:lnTo>
                  <a:lnTo>
                    <a:pt x="1880" y="264"/>
                  </a:lnTo>
                  <a:lnTo>
                    <a:pt x="1886" y="273"/>
                  </a:lnTo>
                  <a:lnTo>
                    <a:pt x="1892" y="282"/>
                  </a:lnTo>
                  <a:lnTo>
                    <a:pt x="1897" y="292"/>
                  </a:lnTo>
                  <a:lnTo>
                    <a:pt x="1902" y="302"/>
                  </a:lnTo>
                  <a:lnTo>
                    <a:pt x="1907" y="311"/>
                  </a:lnTo>
                  <a:lnTo>
                    <a:pt x="1909" y="330"/>
                  </a:lnTo>
                  <a:lnTo>
                    <a:pt x="1907" y="347"/>
                  </a:lnTo>
                  <a:lnTo>
                    <a:pt x="1902" y="364"/>
                  </a:lnTo>
                  <a:lnTo>
                    <a:pt x="1893" y="380"/>
                  </a:lnTo>
                  <a:lnTo>
                    <a:pt x="1898" y="390"/>
                  </a:lnTo>
                  <a:lnTo>
                    <a:pt x="1902" y="400"/>
                  </a:lnTo>
                  <a:lnTo>
                    <a:pt x="1902" y="411"/>
                  </a:lnTo>
                  <a:lnTo>
                    <a:pt x="1897" y="421"/>
                  </a:lnTo>
                  <a:lnTo>
                    <a:pt x="1890" y="429"/>
                  </a:lnTo>
                  <a:lnTo>
                    <a:pt x="1882" y="433"/>
                  </a:lnTo>
                  <a:lnTo>
                    <a:pt x="1874" y="438"/>
                  </a:lnTo>
                  <a:lnTo>
                    <a:pt x="1864" y="440"/>
                  </a:lnTo>
                  <a:lnTo>
                    <a:pt x="1855" y="443"/>
                  </a:lnTo>
                  <a:lnTo>
                    <a:pt x="1847" y="446"/>
                  </a:lnTo>
                  <a:lnTo>
                    <a:pt x="1839" y="451"/>
                  </a:lnTo>
                  <a:lnTo>
                    <a:pt x="1833" y="459"/>
                  </a:lnTo>
                  <a:lnTo>
                    <a:pt x="1846" y="474"/>
                  </a:lnTo>
                  <a:lnTo>
                    <a:pt x="1856" y="490"/>
                  </a:lnTo>
                  <a:lnTo>
                    <a:pt x="1864" y="508"/>
                  </a:lnTo>
                  <a:lnTo>
                    <a:pt x="1871" y="526"/>
                  </a:lnTo>
                  <a:lnTo>
                    <a:pt x="1876" y="545"/>
                  </a:lnTo>
                  <a:lnTo>
                    <a:pt x="1879" y="565"/>
                  </a:lnTo>
                  <a:lnTo>
                    <a:pt x="1883" y="584"/>
                  </a:lnTo>
                  <a:lnTo>
                    <a:pt x="1886" y="604"/>
                  </a:lnTo>
                  <a:lnTo>
                    <a:pt x="1886" y="627"/>
                  </a:lnTo>
                  <a:lnTo>
                    <a:pt x="1884" y="648"/>
                  </a:lnTo>
                  <a:lnTo>
                    <a:pt x="1879" y="668"/>
                  </a:lnTo>
                  <a:lnTo>
                    <a:pt x="1874" y="689"/>
                  </a:lnTo>
                  <a:lnTo>
                    <a:pt x="1867" y="709"/>
                  </a:lnTo>
                  <a:lnTo>
                    <a:pt x="1857" y="727"/>
                  </a:lnTo>
                  <a:lnTo>
                    <a:pt x="1846" y="746"/>
                  </a:lnTo>
                  <a:lnTo>
                    <a:pt x="1834" y="763"/>
                  </a:lnTo>
                  <a:lnTo>
                    <a:pt x="1847" y="808"/>
                  </a:lnTo>
                  <a:lnTo>
                    <a:pt x="1849" y="856"/>
                  </a:lnTo>
                  <a:lnTo>
                    <a:pt x="1845" y="906"/>
                  </a:lnTo>
                  <a:lnTo>
                    <a:pt x="1837" y="952"/>
                  </a:lnTo>
                  <a:lnTo>
                    <a:pt x="1848" y="1001"/>
                  </a:lnTo>
                  <a:lnTo>
                    <a:pt x="1849" y="1052"/>
                  </a:lnTo>
                  <a:lnTo>
                    <a:pt x="1842" y="1103"/>
                  </a:lnTo>
                  <a:lnTo>
                    <a:pt x="1826" y="1150"/>
                  </a:lnTo>
                  <a:lnTo>
                    <a:pt x="1834" y="1167"/>
                  </a:lnTo>
                  <a:lnTo>
                    <a:pt x="1841" y="1186"/>
                  </a:lnTo>
                  <a:lnTo>
                    <a:pt x="1842" y="1204"/>
                  </a:lnTo>
                  <a:lnTo>
                    <a:pt x="1834" y="1221"/>
                  </a:lnTo>
                  <a:lnTo>
                    <a:pt x="1830" y="1225"/>
                  </a:lnTo>
                  <a:lnTo>
                    <a:pt x="1826" y="1229"/>
                  </a:lnTo>
                  <a:lnTo>
                    <a:pt x="1822" y="1234"/>
                  </a:lnTo>
                  <a:lnTo>
                    <a:pt x="1817" y="1239"/>
                  </a:lnTo>
                  <a:lnTo>
                    <a:pt x="1812" y="1242"/>
                  </a:lnTo>
                  <a:lnTo>
                    <a:pt x="1807" y="1246"/>
                  </a:lnTo>
                  <a:lnTo>
                    <a:pt x="1801" y="1247"/>
                  </a:lnTo>
                  <a:lnTo>
                    <a:pt x="1794" y="1247"/>
                  </a:lnTo>
                  <a:lnTo>
                    <a:pt x="1786" y="1234"/>
                  </a:lnTo>
                  <a:lnTo>
                    <a:pt x="1779" y="1220"/>
                  </a:lnTo>
                  <a:lnTo>
                    <a:pt x="1774" y="1206"/>
                  </a:lnTo>
                  <a:lnTo>
                    <a:pt x="1770" y="1191"/>
                  </a:lnTo>
                  <a:lnTo>
                    <a:pt x="1782" y="1137"/>
                  </a:lnTo>
                  <a:lnTo>
                    <a:pt x="1765" y="1112"/>
                  </a:lnTo>
                  <a:lnTo>
                    <a:pt x="1747" y="1087"/>
                  </a:lnTo>
                  <a:lnTo>
                    <a:pt x="1727" y="1061"/>
                  </a:lnTo>
                  <a:lnTo>
                    <a:pt x="1709" y="1036"/>
                  </a:lnTo>
                  <a:lnTo>
                    <a:pt x="1689" y="1011"/>
                  </a:lnTo>
                  <a:lnTo>
                    <a:pt x="1671" y="985"/>
                  </a:lnTo>
                  <a:lnTo>
                    <a:pt x="1652" y="959"/>
                  </a:lnTo>
                  <a:lnTo>
                    <a:pt x="1636" y="932"/>
                  </a:lnTo>
                  <a:lnTo>
                    <a:pt x="1622" y="973"/>
                  </a:lnTo>
                  <a:lnTo>
                    <a:pt x="1606" y="1011"/>
                  </a:lnTo>
                  <a:lnTo>
                    <a:pt x="1588" y="1050"/>
                  </a:lnTo>
                  <a:lnTo>
                    <a:pt x="1568" y="1087"/>
                  </a:lnTo>
                  <a:lnTo>
                    <a:pt x="1545" y="1122"/>
                  </a:lnTo>
                  <a:lnTo>
                    <a:pt x="1520" y="1158"/>
                  </a:lnTo>
                  <a:lnTo>
                    <a:pt x="1492" y="1191"/>
                  </a:lnTo>
                  <a:lnTo>
                    <a:pt x="1461" y="1224"/>
                  </a:lnTo>
                  <a:lnTo>
                    <a:pt x="1471" y="1256"/>
                  </a:lnTo>
                  <a:lnTo>
                    <a:pt x="1484" y="1287"/>
                  </a:lnTo>
                  <a:lnTo>
                    <a:pt x="1496" y="1319"/>
                  </a:lnTo>
                  <a:lnTo>
                    <a:pt x="1507" y="1352"/>
                  </a:lnTo>
                  <a:lnTo>
                    <a:pt x="1517" y="1384"/>
                  </a:lnTo>
                  <a:lnTo>
                    <a:pt x="1525" y="1416"/>
                  </a:lnTo>
                  <a:lnTo>
                    <a:pt x="1531" y="1451"/>
                  </a:lnTo>
                  <a:lnTo>
                    <a:pt x="1534" y="1486"/>
                  </a:lnTo>
                  <a:lnTo>
                    <a:pt x="1530" y="1493"/>
                  </a:lnTo>
                  <a:lnTo>
                    <a:pt x="1524" y="1497"/>
                  </a:lnTo>
                  <a:lnTo>
                    <a:pt x="1517" y="1498"/>
                  </a:lnTo>
                  <a:lnTo>
                    <a:pt x="1510" y="1498"/>
                  </a:lnTo>
                  <a:lnTo>
                    <a:pt x="1504" y="1499"/>
                  </a:lnTo>
                  <a:lnTo>
                    <a:pt x="1498" y="1501"/>
                  </a:lnTo>
                  <a:lnTo>
                    <a:pt x="1496" y="1505"/>
                  </a:lnTo>
                  <a:lnTo>
                    <a:pt x="1496" y="1513"/>
                  </a:lnTo>
                  <a:lnTo>
                    <a:pt x="1498" y="1529"/>
                  </a:lnTo>
                  <a:lnTo>
                    <a:pt x="1498" y="1546"/>
                  </a:lnTo>
                  <a:lnTo>
                    <a:pt x="1496" y="1564"/>
                  </a:lnTo>
                  <a:lnTo>
                    <a:pt x="1489" y="1582"/>
                  </a:lnTo>
                  <a:lnTo>
                    <a:pt x="1485" y="1589"/>
                  </a:lnTo>
                  <a:lnTo>
                    <a:pt x="1478" y="1595"/>
                  </a:lnTo>
                  <a:lnTo>
                    <a:pt x="1470" y="1599"/>
                  </a:lnTo>
                  <a:lnTo>
                    <a:pt x="1461" y="1602"/>
                  </a:lnTo>
                  <a:lnTo>
                    <a:pt x="1461" y="1608"/>
                  </a:lnTo>
                  <a:lnTo>
                    <a:pt x="1463" y="1617"/>
                  </a:lnTo>
                  <a:lnTo>
                    <a:pt x="1467" y="1623"/>
                  </a:lnTo>
                  <a:lnTo>
                    <a:pt x="1468" y="1630"/>
                  </a:lnTo>
                  <a:lnTo>
                    <a:pt x="1475" y="1632"/>
                  </a:lnTo>
                  <a:lnTo>
                    <a:pt x="1483" y="1634"/>
                  </a:lnTo>
                  <a:lnTo>
                    <a:pt x="1491" y="1637"/>
                  </a:lnTo>
                  <a:lnTo>
                    <a:pt x="1500" y="1640"/>
                  </a:lnTo>
                  <a:lnTo>
                    <a:pt x="1508" y="1643"/>
                  </a:lnTo>
                  <a:lnTo>
                    <a:pt x="1514" y="1645"/>
                  </a:lnTo>
                  <a:lnTo>
                    <a:pt x="1519" y="1649"/>
                  </a:lnTo>
                  <a:lnTo>
                    <a:pt x="1520" y="1651"/>
                  </a:lnTo>
                  <a:lnTo>
                    <a:pt x="1510" y="1659"/>
                  </a:lnTo>
                  <a:lnTo>
                    <a:pt x="1500" y="1665"/>
                  </a:lnTo>
                  <a:lnTo>
                    <a:pt x="1489" y="1670"/>
                  </a:lnTo>
                  <a:lnTo>
                    <a:pt x="1478" y="1674"/>
                  </a:lnTo>
                  <a:lnTo>
                    <a:pt x="1466" y="1676"/>
                  </a:lnTo>
                  <a:lnTo>
                    <a:pt x="1454" y="1680"/>
                  </a:lnTo>
                  <a:lnTo>
                    <a:pt x="1444" y="1683"/>
                  </a:lnTo>
                  <a:lnTo>
                    <a:pt x="1432" y="1687"/>
                  </a:lnTo>
                  <a:lnTo>
                    <a:pt x="1419" y="1685"/>
                  </a:lnTo>
                  <a:lnTo>
                    <a:pt x="1413" y="1679"/>
                  </a:lnTo>
                  <a:lnTo>
                    <a:pt x="1408" y="1670"/>
                  </a:lnTo>
                  <a:lnTo>
                    <a:pt x="1407" y="1659"/>
                  </a:lnTo>
                  <a:lnTo>
                    <a:pt x="1407" y="1648"/>
                  </a:lnTo>
                  <a:lnTo>
                    <a:pt x="1407" y="1636"/>
                  </a:lnTo>
                  <a:lnTo>
                    <a:pt x="1404" y="1626"/>
                  </a:lnTo>
                  <a:lnTo>
                    <a:pt x="1399" y="1618"/>
                  </a:lnTo>
                  <a:lnTo>
                    <a:pt x="1305" y="1660"/>
                  </a:lnTo>
                  <a:lnTo>
                    <a:pt x="1309" y="1668"/>
                  </a:lnTo>
                  <a:lnTo>
                    <a:pt x="1305" y="1678"/>
                  </a:lnTo>
                  <a:lnTo>
                    <a:pt x="1300" y="1686"/>
                  </a:lnTo>
                  <a:lnTo>
                    <a:pt x="1297" y="1696"/>
                  </a:lnTo>
                  <a:lnTo>
                    <a:pt x="1294" y="1711"/>
                  </a:lnTo>
                  <a:lnTo>
                    <a:pt x="1289" y="1727"/>
                  </a:lnTo>
                  <a:lnTo>
                    <a:pt x="1281" y="1739"/>
                  </a:lnTo>
                  <a:lnTo>
                    <a:pt x="1267" y="1746"/>
                  </a:lnTo>
                  <a:lnTo>
                    <a:pt x="1257" y="1748"/>
                  </a:lnTo>
                  <a:lnTo>
                    <a:pt x="1245" y="1750"/>
                  </a:lnTo>
                  <a:lnTo>
                    <a:pt x="1234" y="1754"/>
                  </a:lnTo>
                  <a:lnTo>
                    <a:pt x="1222" y="1757"/>
                  </a:lnTo>
                  <a:lnTo>
                    <a:pt x="1211" y="1758"/>
                  </a:lnTo>
                  <a:lnTo>
                    <a:pt x="1200" y="1758"/>
                  </a:lnTo>
                  <a:lnTo>
                    <a:pt x="1190" y="1756"/>
                  </a:lnTo>
                  <a:lnTo>
                    <a:pt x="1181" y="1750"/>
                  </a:lnTo>
                  <a:lnTo>
                    <a:pt x="1185" y="1741"/>
                  </a:lnTo>
                  <a:lnTo>
                    <a:pt x="1192" y="1733"/>
                  </a:lnTo>
                  <a:lnTo>
                    <a:pt x="1202" y="1726"/>
                  </a:lnTo>
                  <a:lnTo>
                    <a:pt x="1211" y="1719"/>
                  </a:lnTo>
                  <a:lnTo>
                    <a:pt x="1215" y="1709"/>
                  </a:lnTo>
                  <a:lnTo>
                    <a:pt x="1222" y="1698"/>
                  </a:lnTo>
                  <a:lnTo>
                    <a:pt x="1226" y="1688"/>
                  </a:lnTo>
                  <a:lnTo>
                    <a:pt x="1225" y="1675"/>
                  </a:lnTo>
                  <a:lnTo>
                    <a:pt x="1219" y="1674"/>
                  </a:lnTo>
                  <a:lnTo>
                    <a:pt x="1213" y="1673"/>
                  </a:lnTo>
                  <a:lnTo>
                    <a:pt x="1207" y="1672"/>
                  </a:lnTo>
                  <a:lnTo>
                    <a:pt x="1202" y="1671"/>
                  </a:lnTo>
                  <a:lnTo>
                    <a:pt x="1196" y="1670"/>
                  </a:lnTo>
                  <a:lnTo>
                    <a:pt x="1191" y="1667"/>
                  </a:lnTo>
                  <a:lnTo>
                    <a:pt x="1185" y="1664"/>
                  </a:lnTo>
                  <a:lnTo>
                    <a:pt x="1181" y="1660"/>
                  </a:lnTo>
                  <a:lnTo>
                    <a:pt x="1179" y="1655"/>
                  </a:lnTo>
                  <a:lnTo>
                    <a:pt x="1179" y="1646"/>
                  </a:lnTo>
                  <a:lnTo>
                    <a:pt x="1180" y="1637"/>
                  </a:lnTo>
                  <a:lnTo>
                    <a:pt x="1180" y="1627"/>
                  </a:lnTo>
                  <a:lnTo>
                    <a:pt x="1179" y="1619"/>
                  </a:lnTo>
                  <a:lnTo>
                    <a:pt x="1176" y="1613"/>
                  </a:lnTo>
                  <a:lnTo>
                    <a:pt x="1169" y="1611"/>
                  </a:lnTo>
                  <a:lnTo>
                    <a:pt x="1158" y="1612"/>
                  </a:lnTo>
                  <a:lnTo>
                    <a:pt x="1147" y="1411"/>
                  </a:lnTo>
                  <a:lnTo>
                    <a:pt x="1124" y="1417"/>
                  </a:lnTo>
                  <a:lnTo>
                    <a:pt x="1101" y="1422"/>
                  </a:lnTo>
                  <a:lnTo>
                    <a:pt x="1077" y="1425"/>
                  </a:lnTo>
                  <a:lnTo>
                    <a:pt x="1053" y="1429"/>
                  </a:lnTo>
                  <a:lnTo>
                    <a:pt x="1028" y="1432"/>
                  </a:lnTo>
                  <a:lnTo>
                    <a:pt x="1002" y="1435"/>
                  </a:lnTo>
                  <a:lnTo>
                    <a:pt x="977" y="1436"/>
                  </a:lnTo>
                  <a:lnTo>
                    <a:pt x="952" y="1437"/>
                  </a:lnTo>
                  <a:lnTo>
                    <a:pt x="926" y="1437"/>
                  </a:lnTo>
                  <a:lnTo>
                    <a:pt x="901" y="1436"/>
                  </a:lnTo>
                  <a:lnTo>
                    <a:pt x="875" y="1433"/>
                  </a:lnTo>
                  <a:lnTo>
                    <a:pt x="850" y="1431"/>
                  </a:lnTo>
                  <a:lnTo>
                    <a:pt x="826" y="1428"/>
                  </a:lnTo>
                  <a:lnTo>
                    <a:pt x="802" y="1423"/>
                  </a:lnTo>
                  <a:lnTo>
                    <a:pt x="779" y="1418"/>
                  </a:lnTo>
                  <a:lnTo>
                    <a:pt x="756" y="1411"/>
                  </a:lnTo>
                  <a:lnTo>
                    <a:pt x="757" y="1423"/>
                  </a:lnTo>
                  <a:lnTo>
                    <a:pt x="757" y="1436"/>
                  </a:lnTo>
                  <a:lnTo>
                    <a:pt x="753" y="1447"/>
                  </a:lnTo>
                  <a:lnTo>
                    <a:pt x="741" y="1453"/>
                  </a:lnTo>
                  <a:lnTo>
                    <a:pt x="733" y="1453"/>
                  </a:lnTo>
                  <a:lnTo>
                    <a:pt x="736" y="1469"/>
                  </a:lnTo>
                  <a:lnTo>
                    <a:pt x="741" y="1484"/>
                  </a:lnTo>
                  <a:lnTo>
                    <a:pt x="748" y="1500"/>
                  </a:lnTo>
                  <a:lnTo>
                    <a:pt x="753" y="1516"/>
                  </a:lnTo>
                  <a:lnTo>
                    <a:pt x="757" y="1534"/>
                  </a:lnTo>
                  <a:lnTo>
                    <a:pt x="759" y="1550"/>
                  </a:lnTo>
                  <a:lnTo>
                    <a:pt x="756" y="1567"/>
                  </a:lnTo>
                  <a:lnTo>
                    <a:pt x="748" y="1584"/>
                  </a:lnTo>
                  <a:lnTo>
                    <a:pt x="750" y="1605"/>
                  </a:lnTo>
                  <a:lnTo>
                    <a:pt x="754" y="1626"/>
                  </a:lnTo>
                  <a:lnTo>
                    <a:pt x="763" y="1645"/>
                  </a:lnTo>
                  <a:lnTo>
                    <a:pt x="773" y="1664"/>
                  </a:lnTo>
                  <a:lnTo>
                    <a:pt x="786" y="1681"/>
                  </a:lnTo>
                  <a:lnTo>
                    <a:pt x="801" y="1696"/>
                  </a:lnTo>
                  <a:lnTo>
                    <a:pt x="818" y="1708"/>
                  </a:lnTo>
                  <a:lnTo>
                    <a:pt x="837" y="1717"/>
                  </a:lnTo>
                  <a:lnTo>
                    <a:pt x="843" y="1721"/>
                  </a:lnTo>
                  <a:lnTo>
                    <a:pt x="847" y="1727"/>
                  </a:lnTo>
                  <a:lnTo>
                    <a:pt x="849" y="1734"/>
                  </a:lnTo>
                  <a:lnTo>
                    <a:pt x="848" y="1742"/>
                  </a:lnTo>
                  <a:lnTo>
                    <a:pt x="836" y="1744"/>
                  </a:lnTo>
                  <a:lnTo>
                    <a:pt x="825" y="1747"/>
                  </a:lnTo>
                  <a:lnTo>
                    <a:pt x="812" y="1749"/>
                  </a:lnTo>
                  <a:lnTo>
                    <a:pt x="801" y="1751"/>
                  </a:lnTo>
                  <a:lnTo>
                    <a:pt x="788" y="1752"/>
                  </a:lnTo>
                  <a:lnTo>
                    <a:pt x="776" y="1754"/>
                  </a:lnTo>
                  <a:lnTo>
                    <a:pt x="766" y="1752"/>
                  </a:lnTo>
                  <a:lnTo>
                    <a:pt x="756" y="1749"/>
                  </a:lnTo>
                  <a:lnTo>
                    <a:pt x="744" y="1719"/>
                  </a:lnTo>
                  <a:lnTo>
                    <a:pt x="728" y="1712"/>
                  </a:lnTo>
                  <a:lnTo>
                    <a:pt x="712" y="1704"/>
                  </a:lnTo>
                  <a:lnTo>
                    <a:pt x="697" y="1694"/>
                  </a:lnTo>
                  <a:lnTo>
                    <a:pt x="683" y="1682"/>
                  </a:lnTo>
                  <a:lnTo>
                    <a:pt x="668" y="1671"/>
                  </a:lnTo>
                  <a:lnTo>
                    <a:pt x="654" y="1659"/>
                  </a:lnTo>
                  <a:lnTo>
                    <a:pt x="639" y="1649"/>
                  </a:lnTo>
                  <a:lnTo>
                    <a:pt x="624" y="1638"/>
                  </a:lnTo>
                  <a:lnTo>
                    <a:pt x="610" y="1629"/>
                  </a:lnTo>
                  <a:lnTo>
                    <a:pt x="598" y="1621"/>
                  </a:lnTo>
                  <a:lnTo>
                    <a:pt x="585" y="1612"/>
                  </a:lnTo>
                  <a:lnTo>
                    <a:pt x="572" y="1603"/>
                  </a:lnTo>
                  <a:lnTo>
                    <a:pt x="560" y="1592"/>
                  </a:lnTo>
                  <a:lnTo>
                    <a:pt x="547" y="1582"/>
                  </a:lnTo>
                  <a:lnTo>
                    <a:pt x="534" y="1572"/>
                  </a:lnTo>
                  <a:lnTo>
                    <a:pt x="523" y="1559"/>
                  </a:lnTo>
                  <a:lnTo>
                    <a:pt x="516" y="1573"/>
                  </a:lnTo>
                  <a:lnTo>
                    <a:pt x="508" y="1588"/>
                  </a:lnTo>
                  <a:lnTo>
                    <a:pt x="499" y="1600"/>
                  </a:lnTo>
                  <a:lnTo>
                    <a:pt x="489" y="1614"/>
                  </a:lnTo>
                  <a:lnTo>
                    <a:pt x="479" y="1628"/>
                  </a:lnTo>
                  <a:lnTo>
                    <a:pt x="470" y="1642"/>
                  </a:lnTo>
                  <a:lnTo>
                    <a:pt x="462" y="1656"/>
                  </a:lnTo>
                  <a:lnTo>
                    <a:pt x="454" y="1671"/>
                  </a:lnTo>
                  <a:lnTo>
                    <a:pt x="457" y="1678"/>
                  </a:lnTo>
                  <a:lnTo>
                    <a:pt x="463" y="1683"/>
                  </a:lnTo>
                  <a:lnTo>
                    <a:pt x="471" y="1689"/>
                  </a:lnTo>
                  <a:lnTo>
                    <a:pt x="478" y="1695"/>
                  </a:lnTo>
                  <a:lnTo>
                    <a:pt x="484" y="1701"/>
                  </a:lnTo>
                  <a:lnTo>
                    <a:pt x="487" y="1706"/>
                  </a:lnTo>
                  <a:lnTo>
                    <a:pt x="486" y="1712"/>
                  </a:lnTo>
                  <a:lnTo>
                    <a:pt x="479" y="1719"/>
                  </a:lnTo>
                  <a:lnTo>
                    <a:pt x="470" y="1719"/>
                  </a:lnTo>
                  <a:lnTo>
                    <a:pt x="459" y="1720"/>
                  </a:lnTo>
                  <a:lnTo>
                    <a:pt x="448" y="1721"/>
                  </a:lnTo>
                  <a:lnTo>
                    <a:pt x="436" y="1723"/>
                  </a:lnTo>
                  <a:lnTo>
                    <a:pt x="426" y="1724"/>
                  </a:lnTo>
                  <a:lnTo>
                    <a:pt x="416" y="1723"/>
                  </a:lnTo>
                  <a:lnTo>
                    <a:pt x="405" y="1718"/>
                  </a:lnTo>
                  <a:lnTo>
                    <a:pt x="397" y="1711"/>
                  </a:lnTo>
                  <a:lnTo>
                    <a:pt x="398" y="1696"/>
                  </a:lnTo>
                  <a:lnTo>
                    <a:pt x="400" y="1681"/>
                  </a:lnTo>
                  <a:lnTo>
                    <a:pt x="402" y="1667"/>
                  </a:lnTo>
                  <a:lnTo>
                    <a:pt x="405" y="1653"/>
                  </a:lnTo>
                  <a:lnTo>
                    <a:pt x="395" y="1476"/>
                  </a:lnTo>
                  <a:lnTo>
                    <a:pt x="390" y="1456"/>
                  </a:lnTo>
                  <a:lnTo>
                    <a:pt x="390" y="1436"/>
                  </a:lnTo>
                  <a:lnTo>
                    <a:pt x="387" y="1417"/>
                  </a:lnTo>
                  <a:lnTo>
                    <a:pt x="374" y="1402"/>
                  </a:lnTo>
                  <a:lnTo>
                    <a:pt x="374" y="1386"/>
                  </a:lnTo>
                  <a:lnTo>
                    <a:pt x="370" y="1371"/>
                  </a:lnTo>
                  <a:lnTo>
                    <a:pt x="361" y="1357"/>
                  </a:lnTo>
                  <a:lnTo>
                    <a:pt x="351" y="1345"/>
                  </a:lnTo>
                  <a:lnTo>
                    <a:pt x="340" y="1333"/>
                  </a:lnTo>
                  <a:lnTo>
                    <a:pt x="328" y="1320"/>
                  </a:lnTo>
                  <a:lnTo>
                    <a:pt x="318" y="1309"/>
                  </a:lnTo>
                  <a:lnTo>
                    <a:pt x="308" y="1295"/>
                  </a:lnTo>
                  <a:lnTo>
                    <a:pt x="302" y="1282"/>
                  </a:lnTo>
                  <a:lnTo>
                    <a:pt x="298" y="1269"/>
                  </a:lnTo>
                  <a:lnTo>
                    <a:pt x="295" y="1255"/>
                  </a:lnTo>
                  <a:lnTo>
                    <a:pt x="290" y="1243"/>
                  </a:lnTo>
                  <a:lnTo>
                    <a:pt x="283" y="1244"/>
                  </a:lnTo>
                  <a:lnTo>
                    <a:pt x="274" y="1246"/>
                  </a:lnTo>
                  <a:lnTo>
                    <a:pt x="266" y="1248"/>
                  </a:lnTo>
                  <a:lnTo>
                    <a:pt x="258" y="1250"/>
                  </a:lnTo>
                  <a:lnTo>
                    <a:pt x="254" y="1270"/>
                  </a:lnTo>
                  <a:lnTo>
                    <a:pt x="249" y="1288"/>
                  </a:lnTo>
                  <a:lnTo>
                    <a:pt x="243" y="1307"/>
                  </a:lnTo>
                  <a:lnTo>
                    <a:pt x="236" y="1325"/>
                  </a:lnTo>
                  <a:lnTo>
                    <a:pt x="229" y="1342"/>
                  </a:lnTo>
                  <a:lnTo>
                    <a:pt x="221" y="1361"/>
                  </a:lnTo>
                  <a:lnTo>
                    <a:pt x="215" y="1379"/>
                  </a:lnTo>
                  <a:lnTo>
                    <a:pt x="209" y="1398"/>
                  </a:lnTo>
                  <a:lnTo>
                    <a:pt x="201" y="1411"/>
                  </a:lnTo>
                  <a:lnTo>
                    <a:pt x="198" y="1426"/>
                  </a:lnTo>
                  <a:lnTo>
                    <a:pt x="197" y="1443"/>
                  </a:lnTo>
                  <a:lnTo>
                    <a:pt x="197" y="1459"/>
                  </a:lnTo>
                  <a:lnTo>
                    <a:pt x="197" y="1474"/>
                  </a:lnTo>
                  <a:lnTo>
                    <a:pt x="193" y="1489"/>
                  </a:lnTo>
                  <a:lnTo>
                    <a:pt x="187" y="1502"/>
                  </a:lnTo>
                  <a:lnTo>
                    <a:pt x="176" y="1514"/>
                  </a:lnTo>
                  <a:lnTo>
                    <a:pt x="169" y="1511"/>
                  </a:lnTo>
                  <a:lnTo>
                    <a:pt x="162" y="1507"/>
                  </a:lnTo>
                  <a:lnTo>
                    <a:pt x="155" y="1502"/>
                  </a:lnTo>
                  <a:lnTo>
                    <a:pt x="149" y="1498"/>
                  </a:lnTo>
                  <a:lnTo>
                    <a:pt x="144" y="1492"/>
                  </a:lnTo>
                  <a:lnTo>
                    <a:pt x="140" y="1485"/>
                  </a:lnTo>
                  <a:lnTo>
                    <a:pt x="137" y="1478"/>
                  </a:lnTo>
                  <a:lnTo>
                    <a:pt x="136" y="1470"/>
                  </a:lnTo>
                  <a:lnTo>
                    <a:pt x="136" y="1458"/>
                  </a:lnTo>
                  <a:lnTo>
                    <a:pt x="137" y="1446"/>
                  </a:lnTo>
                  <a:lnTo>
                    <a:pt x="139" y="1435"/>
                  </a:lnTo>
                  <a:lnTo>
                    <a:pt x="144" y="1424"/>
                  </a:lnTo>
                  <a:lnTo>
                    <a:pt x="139" y="1399"/>
                  </a:lnTo>
                  <a:lnTo>
                    <a:pt x="134" y="1375"/>
                  </a:lnTo>
                  <a:lnTo>
                    <a:pt x="129" y="1350"/>
                  </a:lnTo>
                  <a:lnTo>
                    <a:pt x="123" y="1325"/>
                  </a:lnTo>
                  <a:lnTo>
                    <a:pt x="118" y="1301"/>
                  </a:lnTo>
                  <a:lnTo>
                    <a:pt x="115" y="1276"/>
                  </a:lnTo>
                  <a:lnTo>
                    <a:pt x="113" y="1250"/>
                  </a:lnTo>
                  <a:lnTo>
                    <a:pt x="113" y="1224"/>
                  </a:lnTo>
                  <a:lnTo>
                    <a:pt x="106" y="1218"/>
                  </a:lnTo>
                  <a:lnTo>
                    <a:pt x="99" y="1212"/>
                  </a:lnTo>
                  <a:lnTo>
                    <a:pt x="91" y="1208"/>
                  </a:lnTo>
                  <a:lnTo>
                    <a:pt x="83" y="1203"/>
                  </a:lnTo>
                  <a:lnTo>
                    <a:pt x="76" y="1198"/>
                  </a:lnTo>
                  <a:lnTo>
                    <a:pt x="69" y="1193"/>
                  </a:lnTo>
                  <a:lnTo>
                    <a:pt x="64" y="1187"/>
                  </a:lnTo>
                  <a:lnTo>
                    <a:pt x="60" y="1180"/>
                  </a:lnTo>
                  <a:lnTo>
                    <a:pt x="64" y="1142"/>
                  </a:lnTo>
                  <a:lnTo>
                    <a:pt x="69" y="1104"/>
                  </a:lnTo>
                  <a:lnTo>
                    <a:pt x="75" y="1066"/>
                  </a:lnTo>
                  <a:lnTo>
                    <a:pt x="80" y="1029"/>
                  </a:lnTo>
                  <a:lnTo>
                    <a:pt x="58" y="1008"/>
                  </a:lnTo>
                  <a:lnTo>
                    <a:pt x="40" y="985"/>
                  </a:lnTo>
                  <a:lnTo>
                    <a:pt x="25" y="962"/>
                  </a:lnTo>
                  <a:lnTo>
                    <a:pt x="12" y="936"/>
                  </a:lnTo>
                  <a:lnTo>
                    <a:pt x="4" y="909"/>
                  </a:lnTo>
                  <a:lnTo>
                    <a:pt x="0" y="882"/>
                  </a:lnTo>
                  <a:lnTo>
                    <a:pt x="0" y="853"/>
                  </a:lnTo>
                  <a:lnTo>
                    <a:pt x="5" y="823"/>
                  </a:lnTo>
                  <a:lnTo>
                    <a:pt x="12" y="800"/>
                  </a:lnTo>
                  <a:lnTo>
                    <a:pt x="20" y="777"/>
                  </a:lnTo>
                  <a:lnTo>
                    <a:pt x="30" y="754"/>
                  </a:lnTo>
                  <a:lnTo>
                    <a:pt x="40" y="732"/>
                  </a:lnTo>
                  <a:lnTo>
                    <a:pt x="51" y="710"/>
                  </a:lnTo>
                  <a:lnTo>
                    <a:pt x="64" y="689"/>
                  </a:lnTo>
                  <a:lnTo>
                    <a:pt x="79" y="668"/>
                  </a:lnTo>
                  <a:lnTo>
                    <a:pt x="95" y="649"/>
                  </a:lnTo>
                  <a:lnTo>
                    <a:pt x="88" y="644"/>
                  </a:lnTo>
                  <a:lnTo>
                    <a:pt x="81" y="643"/>
                  </a:lnTo>
                  <a:lnTo>
                    <a:pt x="75" y="641"/>
                  </a:lnTo>
                  <a:lnTo>
                    <a:pt x="69" y="637"/>
                  </a:lnTo>
                  <a:lnTo>
                    <a:pt x="63" y="634"/>
                  </a:lnTo>
                  <a:lnTo>
                    <a:pt x="57" y="632"/>
                  </a:lnTo>
                  <a:lnTo>
                    <a:pt x="50" y="628"/>
                  </a:lnTo>
                  <a:lnTo>
                    <a:pt x="45" y="626"/>
                  </a:lnTo>
                  <a:lnTo>
                    <a:pt x="39" y="621"/>
                  </a:lnTo>
                  <a:lnTo>
                    <a:pt x="35" y="617"/>
                  </a:lnTo>
                  <a:lnTo>
                    <a:pt x="33" y="611"/>
                  </a:lnTo>
                  <a:lnTo>
                    <a:pt x="34" y="604"/>
                  </a:lnTo>
                  <a:lnTo>
                    <a:pt x="53" y="583"/>
                  </a:lnTo>
                  <a:lnTo>
                    <a:pt x="66" y="560"/>
                  </a:lnTo>
                  <a:lnTo>
                    <a:pt x="79" y="536"/>
                  </a:lnTo>
                  <a:lnTo>
                    <a:pt x="91" y="512"/>
                  </a:lnTo>
                  <a:lnTo>
                    <a:pt x="103" y="489"/>
                  </a:lnTo>
                  <a:lnTo>
                    <a:pt x="119" y="467"/>
                  </a:lnTo>
                  <a:lnTo>
                    <a:pt x="139" y="448"/>
                  </a:lnTo>
                  <a:lnTo>
                    <a:pt x="164" y="433"/>
                  </a:lnTo>
                  <a:lnTo>
                    <a:pt x="172" y="431"/>
                  </a:lnTo>
                  <a:lnTo>
                    <a:pt x="179" y="431"/>
                  </a:lnTo>
                  <a:lnTo>
                    <a:pt x="185" y="431"/>
                  </a:lnTo>
                  <a:lnTo>
                    <a:pt x="190" y="431"/>
                  </a:lnTo>
                  <a:lnTo>
                    <a:pt x="193" y="432"/>
                  </a:lnTo>
                  <a:lnTo>
                    <a:pt x="197" y="431"/>
                  </a:lnTo>
                  <a:lnTo>
                    <a:pt x="199" y="430"/>
                  </a:lnTo>
                  <a:lnTo>
                    <a:pt x="202" y="426"/>
                  </a:lnTo>
                  <a:lnTo>
                    <a:pt x="215" y="425"/>
                  </a:lnTo>
                  <a:lnTo>
                    <a:pt x="227" y="426"/>
                  </a:lnTo>
                  <a:lnTo>
                    <a:pt x="238" y="428"/>
                  </a:lnTo>
                  <a:lnTo>
                    <a:pt x="249" y="431"/>
                  </a:lnTo>
                  <a:lnTo>
                    <a:pt x="258" y="436"/>
                  </a:lnTo>
                  <a:lnTo>
                    <a:pt x="267" y="441"/>
                  </a:lnTo>
                  <a:lnTo>
                    <a:pt x="276" y="448"/>
                  </a:lnTo>
                  <a:lnTo>
                    <a:pt x="283" y="456"/>
                  </a:lnTo>
                  <a:lnTo>
                    <a:pt x="288" y="443"/>
                  </a:lnTo>
                  <a:lnTo>
                    <a:pt x="292" y="430"/>
                  </a:lnTo>
                  <a:lnTo>
                    <a:pt x="298" y="416"/>
                  </a:lnTo>
                  <a:lnTo>
                    <a:pt x="304" y="403"/>
                  </a:lnTo>
                  <a:lnTo>
                    <a:pt x="310" y="390"/>
                  </a:lnTo>
                  <a:lnTo>
                    <a:pt x="317" y="376"/>
                  </a:lnTo>
                  <a:lnTo>
                    <a:pt x="325" y="362"/>
                  </a:lnTo>
                  <a:lnTo>
                    <a:pt x="334" y="347"/>
                  </a:lnTo>
                  <a:lnTo>
                    <a:pt x="352" y="316"/>
                  </a:lnTo>
                  <a:lnTo>
                    <a:pt x="370" y="289"/>
                  </a:lnTo>
                  <a:lnTo>
                    <a:pt x="387" y="267"/>
                  </a:lnTo>
                  <a:lnTo>
                    <a:pt x="404" y="247"/>
                  </a:lnTo>
                  <a:lnTo>
                    <a:pt x="421" y="227"/>
                  </a:lnTo>
                  <a:lnTo>
                    <a:pt x="441" y="209"/>
                  </a:lnTo>
                  <a:lnTo>
                    <a:pt x="462" y="188"/>
                  </a:lnTo>
                  <a:lnTo>
                    <a:pt x="487" y="166"/>
                  </a:lnTo>
                  <a:lnTo>
                    <a:pt x="504" y="151"/>
                  </a:lnTo>
                  <a:lnTo>
                    <a:pt x="523" y="137"/>
                  </a:lnTo>
                  <a:lnTo>
                    <a:pt x="542" y="123"/>
                  </a:lnTo>
                  <a:lnTo>
                    <a:pt x="562" y="111"/>
                  </a:lnTo>
                  <a:lnTo>
                    <a:pt x="583" y="98"/>
                  </a:lnTo>
                  <a:lnTo>
                    <a:pt x="603" y="87"/>
                  </a:lnTo>
                  <a:lnTo>
                    <a:pt x="624" y="76"/>
                  </a:lnTo>
                  <a:lnTo>
                    <a:pt x="646" y="66"/>
                  </a:lnTo>
                  <a:lnTo>
                    <a:pt x="668" y="57"/>
                  </a:lnTo>
                  <a:lnTo>
                    <a:pt x="691" y="47"/>
                  </a:lnTo>
                  <a:lnTo>
                    <a:pt x="714" y="39"/>
                  </a:lnTo>
                  <a:lnTo>
                    <a:pt x="738" y="31"/>
                  </a:lnTo>
                  <a:lnTo>
                    <a:pt x="761" y="26"/>
                  </a:lnTo>
                  <a:lnTo>
                    <a:pt x="786" y="19"/>
                  </a:lnTo>
                  <a:lnTo>
                    <a:pt x="810" y="14"/>
                  </a:lnTo>
                  <a:lnTo>
                    <a:pt x="834" y="9"/>
                  </a:lnTo>
                  <a:lnTo>
                    <a:pt x="858" y="6"/>
                  </a:lnTo>
                  <a:lnTo>
                    <a:pt x="882" y="4"/>
                  </a:lnTo>
                  <a:lnTo>
                    <a:pt x="907" y="1"/>
                  </a:lnTo>
                  <a:lnTo>
                    <a:pt x="931" y="0"/>
                  </a:lnTo>
                  <a:lnTo>
                    <a:pt x="955" y="0"/>
                  </a:lnTo>
                  <a:lnTo>
                    <a:pt x="979" y="1"/>
                  </a:lnTo>
                  <a:lnTo>
                    <a:pt x="1003" y="2"/>
                  </a:lnTo>
                  <a:lnTo>
                    <a:pt x="1028" y="5"/>
                  </a:lnTo>
                  <a:lnTo>
                    <a:pt x="1051" y="7"/>
                  </a:lnTo>
                  <a:lnTo>
                    <a:pt x="1075" y="11"/>
                  </a:lnTo>
                  <a:lnTo>
                    <a:pt x="1098" y="15"/>
                  </a:lnTo>
                  <a:lnTo>
                    <a:pt x="1121" y="21"/>
                  </a:lnTo>
                  <a:lnTo>
                    <a:pt x="1144" y="28"/>
                  </a:lnTo>
                  <a:lnTo>
                    <a:pt x="1167" y="35"/>
                  </a:lnTo>
                  <a:lnTo>
                    <a:pt x="1189" y="43"/>
                  </a:lnTo>
                  <a:lnTo>
                    <a:pt x="1211" y="52"/>
                  </a:lnTo>
                  <a:lnTo>
                    <a:pt x="1240" y="65"/>
                  </a:lnTo>
                  <a:lnTo>
                    <a:pt x="1268" y="79"/>
                  </a:lnTo>
                  <a:lnTo>
                    <a:pt x="1297" y="95"/>
                  </a:lnTo>
                  <a:lnTo>
                    <a:pt x="1325" y="112"/>
                  </a:lnTo>
                  <a:lnTo>
                    <a:pt x="1353" y="130"/>
                  </a:lnTo>
                  <a:lnTo>
                    <a:pt x="1380" y="150"/>
                  </a:lnTo>
                  <a:lnTo>
                    <a:pt x="1407" y="172"/>
                  </a:lnTo>
                  <a:lnTo>
                    <a:pt x="1432" y="194"/>
                  </a:lnTo>
                  <a:lnTo>
                    <a:pt x="1456" y="218"/>
                  </a:lnTo>
                  <a:lnTo>
                    <a:pt x="1481" y="242"/>
                  </a:lnTo>
                  <a:lnTo>
                    <a:pt x="1502" y="269"/>
                  </a:lnTo>
                  <a:lnTo>
                    <a:pt x="1524" y="294"/>
                  </a:lnTo>
                  <a:lnTo>
                    <a:pt x="1544" y="322"/>
                  </a:lnTo>
                  <a:lnTo>
                    <a:pt x="1561" y="349"/>
                  </a:lnTo>
                  <a:lnTo>
                    <a:pt x="1577" y="377"/>
                  </a:lnTo>
                  <a:lnTo>
                    <a:pt x="1592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97920" y="1414080"/>
              <a:ext cx="1276560" cy="1350720"/>
            </a:xfrm>
            <a:custGeom>
              <a:avLst/>
              <a:gdLst/>
              <a:ahLst/>
              <a:rect l="l" t="t" r="r" b="b"/>
              <a:pathLst>
                <a:path w="866" h="971">
                  <a:moveTo>
                    <a:pt x="312" y="16"/>
                  </a:moveTo>
                  <a:lnTo>
                    <a:pt x="348" y="26"/>
                  </a:lnTo>
                  <a:lnTo>
                    <a:pt x="385" y="37"/>
                  </a:lnTo>
                  <a:lnTo>
                    <a:pt x="421" y="51"/>
                  </a:lnTo>
                  <a:lnTo>
                    <a:pt x="456" y="66"/>
                  </a:lnTo>
                  <a:lnTo>
                    <a:pt x="490" y="83"/>
                  </a:lnTo>
                  <a:lnTo>
                    <a:pt x="524" y="103"/>
                  </a:lnTo>
                  <a:lnTo>
                    <a:pt x="555" y="125"/>
                  </a:lnTo>
                  <a:lnTo>
                    <a:pt x="586" y="147"/>
                  </a:lnTo>
                  <a:lnTo>
                    <a:pt x="616" y="172"/>
                  </a:lnTo>
                  <a:lnTo>
                    <a:pt x="645" y="198"/>
                  </a:lnTo>
                  <a:lnTo>
                    <a:pt x="672" y="226"/>
                  </a:lnTo>
                  <a:lnTo>
                    <a:pt x="698" y="256"/>
                  </a:lnTo>
                  <a:lnTo>
                    <a:pt x="723" y="287"/>
                  </a:lnTo>
                  <a:lnTo>
                    <a:pt x="746" y="319"/>
                  </a:lnTo>
                  <a:lnTo>
                    <a:pt x="768" y="353"/>
                  </a:lnTo>
                  <a:lnTo>
                    <a:pt x="788" y="389"/>
                  </a:lnTo>
                  <a:lnTo>
                    <a:pt x="807" y="432"/>
                  </a:lnTo>
                  <a:lnTo>
                    <a:pt x="824" y="477"/>
                  </a:lnTo>
                  <a:lnTo>
                    <a:pt x="838" y="524"/>
                  </a:lnTo>
                  <a:lnTo>
                    <a:pt x="851" y="572"/>
                  </a:lnTo>
                  <a:lnTo>
                    <a:pt x="859" y="620"/>
                  </a:lnTo>
                  <a:lnTo>
                    <a:pt x="865" y="670"/>
                  </a:lnTo>
                  <a:lnTo>
                    <a:pt x="866" y="720"/>
                  </a:lnTo>
                  <a:lnTo>
                    <a:pt x="862" y="771"/>
                  </a:lnTo>
                  <a:lnTo>
                    <a:pt x="858" y="777"/>
                  </a:lnTo>
                  <a:lnTo>
                    <a:pt x="851" y="785"/>
                  </a:lnTo>
                  <a:lnTo>
                    <a:pt x="842" y="793"/>
                  </a:lnTo>
                  <a:lnTo>
                    <a:pt x="831" y="801"/>
                  </a:lnTo>
                  <a:lnTo>
                    <a:pt x="819" y="809"/>
                  </a:lnTo>
                  <a:lnTo>
                    <a:pt x="807" y="817"/>
                  </a:lnTo>
                  <a:lnTo>
                    <a:pt x="796" y="823"/>
                  </a:lnTo>
                  <a:lnTo>
                    <a:pt x="784" y="826"/>
                  </a:lnTo>
                  <a:lnTo>
                    <a:pt x="785" y="837"/>
                  </a:lnTo>
                  <a:lnTo>
                    <a:pt x="778" y="844"/>
                  </a:lnTo>
                  <a:lnTo>
                    <a:pt x="771" y="851"/>
                  </a:lnTo>
                  <a:lnTo>
                    <a:pt x="766" y="859"/>
                  </a:lnTo>
                  <a:lnTo>
                    <a:pt x="760" y="866"/>
                  </a:lnTo>
                  <a:lnTo>
                    <a:pt x="755" y="874"/>
                  </a:lnTo>
                  <a:lnTo>
                    <a:pt x="751" y="882"/>
                  </a:lnTo>
                  <a:lnTo>
                    <a:pt x="747" y="890"/>
                  </a:lnTo>
                  <a:lnTo>
                    <a:pt x="744" y="898"/>
                  </a:lnTo>
                  <a:lnTo>
                    <a:pt x="732" y="909"/>
                  </a:lnTo>
                  <a:lnTo>
                    <a:pt x="721" y="921"/>
                  </a:lnTo>
                  <a:lnTo>
                    <a:pt x="707" y="930"/>
                  </a:lnTo>
                  <a:lnTo>
                    <a:pt x="694" y="939"/>
                  </a:lnTo>
                  <a:lnTo>
                    <a:pt x="680" y="947"/>
                  </a:lnTo>
                  <a:lnTo>
                    <a:pt x="665" y="955"/>
                  </a:lnTo>
                  <a:lnTo>
                    <a:pt x="652" y="963"/>
                  </a:lnTo>
                  <a:lnTo>
                    <a:pt x="638" y="971"/>
                  </a:lnTo>
                  <a:lnTo>
                    <a:pt x="632" y="966"/>
                  </a:lnTo>
                  <a:lnTo>
                    <a:pt x="627" y="959"/>
                  </a:lnTo>
                  <a:lnTo>
                    <a:pt x="622" y="953"/>
                  </a:lnTo>
                  <a:lnTo>
                    <a:pt x="617" y="946"/>
                  </a:lnTo>
                  <a:lnTo>
                    <a:pt x="614" y="939"/>
                  </a:lnTo>
                  <a:lnTo>
                    <a:pt x="611" y="932"/>
                  </a:lnTo>
                  <a:lnTo>
                    <a:pt x="612" y="924"/>
                  </a:lnTo>
                  <a:lnTo>
                    <a:pt x="617" y="916"/>
                  </a:lnTo>
                  <a:lnTo>
                    <a:pt x="623" y="905"/>
                  </a:lnTo>
                  <a:lnTo>
                    <a:pt x="625" y="892"/>
                  </a:lnTo>
                  <a:lnTo>
                    <a:pt x="625" y="879"/>
                  </a:lnTo>
                  <a:lnTo>
                    <a:pt x="626" y="867"/>
                  </a:lnTo>
                  <a:lnTo>
                    <a:pt x="627" y="854"/>
                  </a:lnTo>
                  <a:lnTo>
                    <a:pt x="631" y="844"/>
                  </a:lnTo>
                  <a:lnTo>
                    <a:pt x="639" y="833"/>
                  </a:lnTo>
                  <a:lnTo>
                    <a:pt x="652" y="826"/>
                  </a:lnTo>
                  <a:lnTo>
                    <a:pt x="664" y="822"/>
                  </a:lnTo>
                  <a:lnTo>
                    <a:pt x="678" y="819"/>
                  </a:lnTo>
                  <a:lnTo>
                    <a:pt x="692" y="819"/>
                  </a:lnTo>
                  <a:lnTo>
                    <a:pt x="706" y="819"/>
                  </a:lnTo>
                  <a:lnTo>
                    <a:pt x="720" y="818"/>
                  </a:lnTo>
                  <a:lnTo>
                    <a:pt x="732" y="816"/>
                  </a:lnTo>
                  <a:lnTo>
                    <a:pt x="743" y="810"/>
                  </a:lnTo>
                  <a:lnTo>
                    <a:pt x="751" y="801"/>
                  </a:lnTo>
                  <a:lnTo>
                    <a:pt x="754" y="794"/>
                  </a:lnTo>
                  <a:lnTo>
                    <a:pt x="758" y="787"/>
                  </a:lnTo>
                  <a:lnTo>
                    <a:pt x="761" y="780"/>
                  </a:lnTo>
                  <a:lnTo>
                    <a:pt x="765" y="774"/>
                  </a:lnTo>
                  <a:lnTo>
                    <a:pt x="768" y="768"/>
                  </a:lnTo>
                  <a:lnTo>
                    <a:pt x="773" y="762"/>
                  </a:lnTo>
                  <a:lnTo>
                    <a:pt x="778" y="757"/>
                  </a:lnTo>
                  <a:lnTo>
                    <a:pt x="785" y="753"/>
                  </a:lnTo>
                  <a:lnTo>
                    <a:pt x="799" y="757"/>
                  </a:lnTo>
                  <a:lnTo>
                    <a:pt x="811" y="756"/>
                  </a:lnTo>
                  <a:lnTo>
                    <a:pt x="820" y="750"/>
                  </a:lnTo>
                  <a:lnTo>
                    <a:pt x="828" y="741"/>
                  </a:lnTo>
                  <a:lnTo>
                    <a:pt x="835" y="731"/>
                  </a:lnTo>
                  <a:lnTo>
                    <a:pt x="843" y="719"/>
                  </a:lnTo>
                  <a:lnTo>
                    <a:pt x="850" y="708"/>
                  </a:lnTo>
                  <a:lnTo>
                    <a:pt x="859" y="700"/>
                  </a:lnTo>
                  <a:lnTo>
                    <a:pt x="861" y="692"/>
                  </a:lnTo>
                  <a:lnTo>
                    <a:pt x="860" y="682"/>
                  </a:lnTo>
                  <a:lnTo>
                    <a:pt x="858" y="674"/>
                  </a:lnTo>
                  <a:lnTo>
                    <a:pt x="854" y="666"/>
                  </a:lnTo>
                  <a:lnTo>
                    <a:pt x="850" y="663"/>
                  </a:lnTo>
                  <a:lnTo>
                    <a:pt x="845" y="660"/>
                  </a:lnTo>
                  <a:lnTo>
                    <a:pt x="839" y="659"/>
                  </a:lnTo>
                  <a:lnTo>
                    <a:pt x="834" y="659"/>
                  </a:lnTo>
                  <a:lnTo>
                    <a:pt x="827" y="659"/>
                  </a:lnTo>
                  <a:lnTo>
                    <a:pt x="821" y="659"/>
                  </a:lnTo>
                  <a:lnTo>
                    <a:pt x="815" y="659"/>
                  </a:lnTo>
                  <a:lnTo>
                    <a:pt x="809" y="659"/>
                  </a:lnTo>
                  <a:lnTo>
                    <a:pt x="814" y="647"/>
                  </a:lnTo>
                  <a:lnTo>
                    <a:pt x="814" y="633"/>
                  </a:lnTo>
                  <a:lnTo>
                    <a:pt x="812" y="620"/>
                  </a:lnTo>
                  <a:lnTo>
                    <a:pt x="808" y="606"/>
                  </a:lnTo>
                  <a:lnTo>
                    <a:pt x="803" y="599"/>
                  </a:lnTo>
                  <a:lnTo>
                    <a:pt x="796" y="594"/>
                  </a:lnTo>
                  <a:lnTo>
                    <a:pt x="786" y="589"/>
                  </a:lnTo>
                  <a:lnTo>
                    <a:pt x="777" y="588"/>
                  </a:lnTo>
                  <a:lnTo>
                    <a:pt x="770" y="601"/>
                  </a:lnTo>
                  <a:lnTo>
                    <a:pt x="767" y="616"/>
                  </a:lnTo>
                  <a:lnTo>
                    <a:pt x="763" y="629"/>
                  </a:lnTo>
                  <a:lnTo>
                    <a:pt x="760" y="644"/>
                  </a:lnTo>
                  <a:lnTo>
                    <a:pt x="755" y="658"/>
                  </a:lnTo>
                  <a:lnTo>
                    <a:pt x="748" y="671"/>
                  </a:lnTo>
                  <a:lnTo>
                    <a:pt x="739" y="682"/>
                  </a:lnTo>
                  <a:lnTo>
                    <a:pt x="725" y="692"/>
                  </a:lnTo>
                  <a:lnTo>
                    <a:pt x="721" y="701"/>
                  </a:lnTo>
                  <a:lnTo>
                    <a:pt x="717" y="711"/>
                  </a:lnTo>
                  <a:lnTo>
                    <a:pt x="714" y="723"/>
                  </a:lnTo>
                  <a:lnTo>
                    <a:pt x="710" y="733"/>
                  </a:lnTo>
                  <a:lnTo>
                    <a:pt x="705" y="742"/>
                  </a:lnTo>
                  <a:lnTo>
                    <a:pt x="698" y="751"/>
                  </a:lnTo>
                  <a:lnTo>
                    <a:pt x="690" y="758"/>
                  </a:lnTo>
                  <a:lnTo>
                    <a:pt x="677" y="763"/>
                  </a:lnTo>
                  <a:lnTo>
                    <a:pt x="668" y="763"/>
                  </a:lnTo>
                  <a:lnTo>
                    <a:pt x="658" y="763"/>
                  </a:lnTo>
                  <a:lnTo>
                    <a:pt x="649" y="760"/>
                  </a:lnTo>
                  <a:lnTo>
                    <a:pt x="644" y="753"/>
                  </a:lnTo>
                  <a:lnTo>
                    <a:pt x="641" y="732"/>
                  </a:lnTo>
                  <a:lnTo>
                    <a:pt x="642" y="711"/>
                  </a:lnTo>
                  <a:lnTo>
                    <a:pt x="648" y="693"/>
                  </a:lnTo>
                  <a:lnTo>
                    <a:pt x="654" y="674"/>
                  </a:lnTo>
                  <a:lnTo>
                    <a:pt x="660" y="656"/>
                  </a:lnTo>
                  <a:lnTo>
                    <a:pt x="662" y="637"/>
                  </a:lnTo>
                  <a:lnTo>
                    <a:pt x="662" y="619"/>
                  </a:lnTo>
                  <a:lnTo>
                    <a:pt x="655" y="599"/>
                  </a:lnTo>
                  <a:lnTo>
                    <a:pt x="650" y="595"/>
                  </a:lnTo>
                  <a:lnTo>
                    <a:pt x="649" y="589"/>
                  </a:lnTo>
                  <a:lnTo>
                    <a:pt x="650" y="584"/>
                  </a:lnTo>
                  <a:lnTo>
                    <a:pt x="652" y="580"/>
                  </a:lnTo>
                  <a:lnTo>
                    <a:pt x="656" y="571"/>
                  </a:lnTo>
                  <a:lnTo>
                    <a:pt x="663" y="561"/>
                  </a:lnTo>
                  <a:lnTo>
                    <a:pt x="669" y="553"/>
                  </a:lnTo>
                  <a:lnTo>
                    <a:pt x="675" y="544"/>
                  </a:lnTo>
                  <a:lnTo>
                    <a:pt x="679" y="535"/>
                  </a:lnTo>
                  <a:lnTo>
                    <a:pt x="683" y="526"/>
                  </a:lnTo>
                  <a:lnTo>
                    <a:pt x="683" y="515"/>
                  </a:lnTo>
                  <a:lnTo>
                    <a:pt x="680" y="504"/>
                  </a:lnTo>
                  <a:lnTo>
                    <a:pt x="673" y="490"/>
                  </a:lnTo>
                  <a:lnTo>
                    <a:pt x="663" y="480"/>
                  </a:lnTo>
                  <a:lnTo>
                    <a:pt x="650" y="473"/>
                  </a:lnTo>
                  <a:lnTo>
                    <a:pt x="638" y="467"/>
                  </a:lnTo>
                  <a:lnTo>
                    <a:pt x="624" y="462"/>
                  </a:lnTo>
                  <a:lnTo>
                    <a:pt x="612" y="455"/>
                  </a:lnTo>
                  <a:lnTo>
                    <a:pt x="603" y="446"/>
                  </a:lnTo>
                  <a:lnTo>
                    <a:pt x="597" y="432"/>
                  </a:lnTo>
                  <a:lnTo>
                    <a:pt x="594" y="413"/>
                  </a:lnTo>
                  <a:lnTo>
                    <a:pt x="596" y="394"/>
                  </a:lnTo>
                  <a:lnTo>
                    <a:pt x="602" y="377"/>
                  </a:lnTo>
                  <a:lnTo>
                    <a:pt x="610" y="360"/>
                  </a:lnTo>
                  <a:lnTo>
                    <a:pt x="619" y="344"/>
                  </a:lnTo>
                  <a:lnTo>
                    <a:pt x="631" y="329"/>
                  </a:lnTo>
                  <a:lnTo>
                    <a:pt x="641" y="313"/>
                  </a:lnTo>
                  <a:lnTo>
                    <a:pt x="650" y="296"/>
                  </a:lnTo>
                  <a:lnTo>
                    <a:pt x="653" y="281"/>
                  </a:lnTo>
                  <a:lnTo>
                    <a:pt x="652" y="266"/>
                  </a:lnTo>
                  <a:lnTo>
                    <a:pt x="646" y="254"/>
                  </a:lnTo>
                  <a:lnTo>
                    <a:pt x="638" y="241"/>
                  </a:lnTo>
                  <a:lnTo>
                    <a:pt x="625" y="230"/>
                  </a:lnTo>
                  <a:lnTo>
                    <a:pt x="612" y="221"/>
                  </a:lnTo>
                  <a:lnTo>
                    <a:pt x="599" y="216"/>
                  </a:lnTo>
                  <a:lnTo>
                    <a:pt x="584" y="211"/>
                  </a:lnTo>
                  <a:lnTo>
                    <a:pt x="567" y="209"/>
                  </a:lnTo>
                  <a:lnTo>
                    <a:pt x="551" y="208"/>
                  </a:lnTo>
                  <a:lnTo>
                    <a:pt x="535" y="207"/>
                  </a:lnTo>
                  <a:lnTo>
                    <a:pt x="519" y="207"/>
                  </a:lnTo>
                  <a:lnTo>
                    <a:pt x="508" y="195"/>
                  </a:lnTo>
                  <a:lnTo>
                    <a:pt x="496" y="182"/>
                  </a:lnTo>
                  <a:lnTo>
                    <a:pt x="486" y="170"/>
                  </a:lnTo>
                  <a:lnTo>
                    <a:pt x="474" y="157"/>
                  </a:lnTo>
                  <a:lnTo>
                    <a:pt x="464" y="144"/>
                  </a:lnTo>
                  <a:lnTo>
                    <a:pt x="451" y="133"/>
                  </a:lnTo>
                  <a:lnTo>
                    <a:pt x="437" y="124"/>
                  </a:lnTo>
                  <a:lnTo>
                    <a:pt x="422" y="116"/>
                  </a:lnTo>
                  <a:lnTo>
                    <a:pt x="416" y="110"/>
                  </a:lnTo>
                  <a:lnTo>
                    <a:pt x="412" y="103"/>
                  </a:lnTo>
                  <a:lnTo>
                    <a:pt x="407" y="96"/>
                  </a:lnTo>
                  <a:lnTo>
                    <a:pt x="404" y="88"/>
                  </a:lnTo>
                  <a:lnTo>
                    <a:pt x="400" y="81"/>
                  </a:lnTo>
                  <a:lnTo>
                    <a:pt x="397" y="74"/>
                  </a:lnTo>
                  <a:lnTo>
                    <a:pt x="392" y="67"/>
                  </a:lnTo>
                  <a:lnTo>
                    <a:pt x="387" y="61"/>
                  </a:lnTo>
                  <a:lnTo>
                    <a:pt x="385" y="57"/>
                  </a:lnTo>
                  <a:lnTo>
                    <a:pt x="382" y="53"/>
                  </a:lnTo>
                  <a:lnTo>
                    <a:pt x="376" y="50"/>
                  </a:lnTo>
                  <a:lnTo>
                    <a:pt x="372" y="46"/>
                  </a:lnTo>
                  <a:lnTo>
                    <a:pt x="357" y="53"/>
                  </a:lnTo>
                  <a:lnTo>
                    <a:pt x="342" y="58"/>
                  </a:lnTo>
                  <a:lnTo>
                    <a:pt x="329" y="61"/>
                  </a:lnTo>
                  <a:lnTo>
                    <a:pt x="316" y="65"/>
                  </a:lnTo>
                  <a:lnTo>
                    <a:pt x="304" y="67"/>
                  </a:lnTo>
                  <a:lnTo>
                    <a:pt x="293" y="71"/>
                  </a:lnTo>
                  <a:lnTo>
                    <a:pt x="283" y="74"/>
                  </a:lnTo>
                  <a:lnTo>
                    <a:pt x="272" y="79"/>
                  </a:lnTo>
                  <a:lnTo>
                    <a:pt x="256" y="81"/>
                  </a:lnTo>
                  <a:lnTo>
                    <a:pt x="241" y="80"/>
                  </a:lnTo>
                  <a:lnTo>
                    <a:pt x="226" y="77"/>
                  </a:lnTo>
                  <a:lnTo>
                    <a:pt x="212" y="73"/>
                  </a:lnTo>
                  <a:lnTo>
                    <a:pt x="198" y="68"/>
                  </a:lnTo>
                  <a:lnTo>
                    <a:pt x="184" y="64"/>
                  </a:lnTo>
                  <a:lnTo>
                    <a:pt x="169" y="61"/>
                  </a:lnTo>
                  <a:lnTo>
                    <a:pt x="153" y="61"/>
                  </a:lnTo>
                  <a:lnTo>
                    <a:pt x="133" y="59"/>
                  </a:lnTo>
                  <a:lnTo>
                    <a:pt x="112" y="64"/>
                  </a:lnTo>
                  <a:lnTo>
                    <a:pt x="91" y="69"/>
                  </a:lnTo>
                  <a:lnTo>
                    <a:pt x="72" y="76"/>
                  </a:lnTo>
                  <a:lnTo>
                    <a:pt x="53" y="80"/>
                  </a:lnTo>
                  <a:lnTo>
                    <a:pt x="37" y="79"/>
                  </a:lnTo>
                  <a:lnTo>
                    <a:pt x="23" y="68"/>
                  </a:lnTo>
                  <a:lnTo>
                    <a:pt x="13" y="46"/>
                  </a:lnTo>
                  <a:lnTo>
                    <a:pt x="12" y="39"/>
                  </a:lnTo>
                  <a:lnTo>
                    <a:pt x="10" y="33"/>
                  </a:lnTo>
                  <a:lnTo>
                    <a:pt x="6" y="27"/>
                  </a:lnTo>
                  <a:lnTo>
                    <a:pt x="0" y="21"/>
                  </a:lnTo>
                  <a:lnTo>
                    <a:pt x="20" y="16"/>
                  </a:lnTo>
                  <a:lnTo>
                    <a:pt x="41" y="12"/>
                  </a:lnTo>
                  <a:lnTo>
                    <a:pt x="60" y="8"/>
                  </a:lnTo>
                  <a:lnTo>
                    <a:pt x="80" y="6"/>
                  </a:lnTo>
                  <a:lnTo>
                    <a:pt x="101" y="4"/>
                  </a:lnTo>
                  <a:lnTo>
                    <a:pt x="120" y="3"/>
                  </a:lnTo>
                  <a:lnTo>
                    <a:pt x="140" y="1"/>
                  </a:lnTo>
                  <a:lnTo>
                    <a:pt x="159" y="0"/>
                  </a:lnTo>
                  <a:lnTo>
                    <a:pt x="179" y="0"/>
                  </a:lnTo>
                  <a:lnTo>
                    <a:pt x="198" y="1"/>
                  </a:lnTo>
                  <a:lnTo>
                    <a:pt x="217" y="3"/>
                  </a:lnTo>
                  <a:lnTo>
                    <a:pt x="237" y="4"/>
                  </a:lnTo>
                  <a:lnTo>
                    <a:pt x="255" y="6"/>
                  </a:lnTo>
                  <a:lnTo>
                    <a:pt x="275" y="10"/>
                  </a:lnTo>
                  <a:lnTo>
                    <a:pt x="293" y="13"/>
                  </a:lnTo>
                  <a:lnTo>
                    <a:pt x="312" y="1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2280" y="1447560"/>
              <a:ext cx="1447560" cy="1572840"/>
            </a:xfrm>
            <a:custGeom>
              <a:avLst/>
              <a:gdLst/>
              <a:ahLst/>
              <a:rect l="l" t="t" r="r" b="b"/>
              <a:pathLst>
                <a:path w="981" h="1129">
                  <a:moveTo>
                    <a:pt x="203" y="79"/>
                  </a:moveTo>
                  <a:lnTo>
                    <a:pt x="213" y="75"/>
                  </a:lnTo>
                  <a:lnTo>
                    <a:pt x="225" y="70"/>
                  </a:lnTo>
                  <a:lnTo>
                    <a:pt x="236" y="66"/>
                  </a:lnTo>
                  <a:lnTo>
                    <a:pt x="248" y="63"/>
                  </a:lnTo>
                  <a:lnTo>
                    <a:pt x="261" y="61"/>
                  </a:lnTo>
                  <a:lnTo>
                    <a:pt x="272" y="60"/>
                  </a:lnTo>
                  <a:lnTo>
                    <a:pt x="285" y="58"/>
                  </a:lnTo>
                  <a:lnTo>
                    <a:pt x="298" y="58"/>
                  </a:lnTo>
                  <a:lnTo>
                    <a:pt x="310" y="58"/>
                  </a:lnTo>
                  <a:lnTo>
                    <a:pt x="322" y="60"/>
                  </a:lnTo>
                  <a:lnTo>
                    <a:pt x="334" y="61"/>
                  </a:lnTo>
                  <a:lnTo>
                    <a:pt x="347" y="63"/>
                  </a:lnTo>
                  <a:lnTo>
                    <a:pt x="359" y="66"/>
                  </a:lnTo>
                  <a:lnTo>
                    <a:pt x="370" y="70"/>
                  </a:lnTo>
                  <a:lnTo>
                    <a:pt x="382" y="73"/>
                  </a:lnTo>
                  <a:lnTo>
                    <a:pt x="393" y="78"/>
                  </a:lnTo>
                  <a:lnTo>
                    <a:pt x="411" y="77"/>
                  </a:lnTo>
                  <a:lnTo>
                    <a:pt x="427" y="72"/>
                  </a:lnTo>
                  <a:lnTo>
                    <a:pt x="442" y="65"/>
                  </a:lnTo>
                  <a:lnTo>
                    <a:pt x="458" y="58"/>
                  </a:lnTo>
                  <a:lnTo>
                    <a:pt x="473" y="51"/>
                  </a:lnTo>
                  <a:lnTo>
                    <a:pt x="488" y="46"/>
                  </a:lnTo>
                  <a:lnTo>
                    <a:pt x="504" y="42"/>
                  </a:lnTo>
                  <a:lnTo>
                    <a:pt x="521" y="42"/>
                  </a:lnTo>
                  <a:lnTo>
                    <a:pt x="527" y="64"/>
                  </a:lnTo>
                  <a:lnTo>
                    <a:pt x="538" y="81"/>
                  </a:lnTo>
                  <a:lnTo>
                    <a:pt x="555" y="98"/>
                  </a:lnTo>
                  <a:lnTo>
                    <a:pt x="572" y="111"/>
                  </a:lnTo>
                  <a:lnTo>
                    <a:pt x="590" y="125"/>
                  </a:lnTo>
                  <a:lnTo>
                    <a:pt x="608" y="140"/>
                  </a:lnTo>
                  <a:lnTo>
                    <a:pt x="623" y="156"/>
                  </a:lnTo>
                  <a:lnTo>
                    <a:pt x="633" y="176"/>
                  </a:lnTo>
                  <a:lnTo>
                    <a:pt x="648" y="195"/>
                  </a:lnTo>
                  <a:lnTo>
                    <a:pt x="670" y="205"/>
                  </a:lnTo>
                  <a:lnTo>
                    <a:pt x="694" y="208"/>
                  </a:lnTo>
                  <a:lnTo>
                    <a:pt x="719" y="209"/>
                  </a:lnTo>
                  <a:lnTo>
                    <a:pt x="742" y="213"/>
                  </a:lnTo>
                  <a:lnTo>
                    <a:pt x="760" y="220"/>
                  </a:lnTo>
                  <a:lnTo>
                    <a:pt x="770" y="236"/>
                  </a:lnTo>
                  <a:lnTo>
                    <a:pt x="770" y="265"/>
                  </a:lnTo>
                  <a:lnTo>
                    <a:pt x="748" y="299"/>
                  </a:lnTo>
                  <a:lnTo>
                    <a:pt x="750" y="287"/>
                  </a:lnTo>
                  <a:lnTo>
                    <a:pt x="749" y="273"/>
                  </a:lnTo>
                  <a:lnTo>
                    <a:pt x="746" y="260"/>
                  </a:lnTo>
                  <a:lnTo>
                    <a:pt x="740" y="248"/>
                  </a:lnTo>
                  <a:lnTo>
                    <a:pt x="733" y="242"/>
                  </a:lnTo>
                  <a:lnTo>
                    <a:pt x="725" y="238"/>
                  </a:lnTo>
                  <a:lnTo>
                    <a:pt x="716" y="238"/>
                  </a:lnTo>
                  <a:lnTo>
                    <a:pt x="707" y="238"/>
                  </a:lnTo>
                  <a:lnTo>
                    <a:pt x="699" y="240"/>
                  </a:lnTo>
                  <a:lnTo>
                    <a:pt x="689" y="244"/>
                  </a:lnTo>
                  <a:lnTo>
                    <a:pt x="681" y="247"/>
                  </a:lnTo>
                  <a:lnTo>
                    <a:pt x="673" y="250"/>
                  </a:lnTo>
                  <a:lnTo>
                    <a:pt x="666" y="254"/>
                  </a:lnTo>
                  <a:lnTo>
                    <a:pt x="659" y="259"/>
                  </a:lnTo>
                  <a:lnTo>
                    <a:pt x="654" y="266"/>
                  </a:lnTo>
                  <a:lnTo>
                    <a:pt x="649" y="273"/>
                  </a:lnTo>
                  <a:lnTo>
                    <a:pt x="644" y="280"/>
                  </a:lnTo>
                  <a:lnTo>
                    <a:pt x="642" y="287"/>
                  </a:lnTo>
                  <a:lnTo>
                    <a:pt x="639" y="295"/>
                  </a:lnTo>
                  <a:lnTo>
                    <a:pt x="638" y="303"/>
                  </a:lnTo>
                  <a:lnTo>
                    <a:pt x="647" y="326"/>
                  </a:lnTo>
                  <a:lnTo>
                    <a:pt x="654" y="349"/>
                  </a:lnTo>
                  <a:lnTo>
                    <a:pt x="659" y="373"/>
                  </a:lnTo>
                  <a:lnTo>
                    <a:pt x="666" y="397"/>
                  </a:lnTo>
                  <a:lnTo>
                    <a:pt x="670" y="403"/>
                  </a:lnTo>
                  <a:lnTo>
                    <a:pt x="673" y="409"/>
                  </a:lnTo>
                  <a:lnTo>
                    <a:pt x="677" y="416"/>
                  </a:lnTo>
                  <a:lnTo>
                    <a:pt x="681" y="421"/>
                  </a:lnTo>
                  <a:lnTo>
                    <a:pt x="686" y="426"/>
                  </a:lnTo>
                  <a:lnTo>
                    <a:pt x="693" y="429"/>
                  </a:lnTo>
                  <a:lnTo>
                    <a:pt x="699" y="432"/>
                  </a:lnTo>
                  <a:lnTo>
                    <a:pt x="707" y="432"/>
                  </a:lnTo>
                  <a:lnTo>
                    <a:pt x="715" y="421"/>
                  </a:lnTo>
                  <a:lnTo>
                    <a:pt x="719" y="409"/>
                  </a:lnTo>
                  <a:lnTo>
                    <a:pt x="721" y="396"/>
                  </a:lnTo>
                  <a:lnTo>
                    <a:pt x="722" y="383"/>
                  </a:lnTo>
                  <a:lnTo>
                    <a:pt x="723" y="397"/>
                  </a:lnTo>
                  <a:lnTo>
                    <a:pt x="725" y="411"/>
                  </a:lnTo>
                  <a:lnTo>
                    <a:pt x="729" y="425"/>
                  </a:lnTo>
                  <a:lnTo>
                    <a:pt x="737" y="436"/>
                  </a:lnTo>
                  <a:lnTo>
                    <a:pt x="746" y="445"/>
                  </a:lnTo>
                  <a:lnTo>
                    <a:pt x="757" y="452"/>
                  </a:lnTo>
                  <a:lnTo>
                    <a:pt x="770" y="457"/>
                  </a:lnTo>
                  <a:lnTo>
                    <a:pt x="784" y="462"/>
                  </a:lnTo>
                  <a:lnTo>
                    <a:pt x="794" y="467"/>
                  </a:lnTo>
                  <a:lnTo>
                    <a:pt x="802" y="475"/>
                  </a:lnTo>
                  <a:lnTo>
                    <a:pt x="805" y="488"/>
                  </a:lnTo>
                  <a:lnTo>
                    <a:pt x="801" y="505"/>
                  </a:lnTo>
                  <a:lnTo>
                    <a:pt x="790" y="519"/>
                  </a:lnTo>
                  <a:lnTo>
                    <a:pt x="779" y="535"/>
                  </a:lnTo>
                  <a:lnTo>
                    <a:pt x="774" y="551"/>
                  </a:lnTo>
                  <a:lnTo>
                    <a:pt x="774" y="570"/>
                  </a:lnTo>
                  <a:lnTo>
                    <a:pt x="782" y="579"/>
                  </a:lnTo>
                  <a:lnTo>
                    <a:pt x="785" y="592"/>
                  </a:lnTo>
                  <a:lnTo>
                    <a:pt x="784" y="604"/>
                  </a:lnTo>
                  <a:lnTo>
                    <a:pt x="783" y="617"/>
                  </a:lnTo>
                  <a:lnTo>
                    <a:pt x="775" y="645"/>
                  </a:lnTo>
                  <a:lnTo>
                    <a:pt x="769" y="672"/>
                  </a:lnTo>
                  <a:lnTo>
                    <a:pt x="768" y="701"/>
                  </a:lnTo>
                  <a:lnTo>
                    <a:pt x="770" y="731"/>
                  </a:lnTo>
                  <a:lnTo>
                    <a:pt x="774" y="737"/>
                  </a:lnTo>
                  <a:lnTo>
                    <a:pt x="777" y="742"/>
                  </a:lnTo>
                  <a:lnTo>
                    <a:pt x="782" y="745"/>
                  </a:lnTo>
                  <a:lnTo>
                    <a:pt x="787" y="748"/>
                  </a:lnTo>
                  <a:lnTo>
                    <a:pt x="792" y="752"/>
                  </a:lnTo>
                  <a:lnTo>
                    <a:pt x="797" y="754"/>
                  </a:lnTo>
                  <a:lnTo>
                    <a:pt x="802" y="758"/>
                  </a:lnTo>
                  <a:lnTo>
                    <a:pt x="807" y="760"/>
                  </a:lnTo>
                  <a:lnTo>
                    <a:pt x="815" y="760"/>
                  </a:lnTo>
                  <a:lnTo>
                    <a:pt x="822" y="760"/>
                  </a:lnTo>
                  <a:lnTo>
                    <a:pt x="829" y="759"/>
                  </a:lnTo>
                  <a:lnTo>
                    <a:pt x="836" y="758"/>
                  </a:lnTo>
                  <a:lnTo>
                    <a:pt x="842" y="757"/>
                  </a:lnTo>
                  <a:lnTo>
                    <a:pt x="847" y="753"/>
                  </a:lnTo>
                  <a:lnTo>
                    <a:pt x="853" y="750"/>
                  </a:lnTo>
                  <a:lnTo>
                    <a:pt x="859" y="745"/>
                  </a:lnTo>
                  <a:lnTo>
                    <a:pt x="867" y="734"/>
                  </a:lnTo>
                  <a:lnTo>
                    <a:pt x="875" y="722"/>
                  </a:lnTo>
                  <a:lnTo>
                    <a:pt x="881" y="709"/>
                  </a:lnTo>
                  <a:lnTo>
                    <a:pt x="886" y="695"/>
                  </a:lnTo>
                  <a:lnTo>
                    <a:pt x="893" y="684"/>
                  </a:lnTo>
                  <a:lnTo>
                    <a:pt x="900" y="671"/>
                  </a:lnTo>
                  <a:lnTo>
                    <a:pt x="911" y="661"/>
                  </a:lnTo>
                  <a:lnTo>
                    <a:pt x="922" y="651"/>
                  </a:lnTo>
                  <a:lnTo>
                    <a:pt x="936" y="595"/>
                  </a:lnTo>
                  <a:lnTo>
                    <a:pt x="937" y="610"/>
                  </a:lnTo>
                  <a:lnTo>
                    <a:pt x="934" y="629"/>
                  </a:lnTo>
                  <a:lnTo>
                    <a:pt x="936" y="647"/>
                  </a:lnTo>
                  <a:lnTo>
                    <a:pt x="951" y="659"/>
                  </a:lnTo>
                  <a:lnTo>
                    <a:pt x="981" y="661"/>
                  </a:lnTo>
                  <a:lnTo>
                    <a:pt x="953" y="701"/>
                  </a:lnTo>
                  <a:lnTo>
                    <a:pt x="944" y="700"/>
                  </a:lnTo>
                  <a:lnTo>
                    <a:pt x="935" y="700"/>
                  </a:lnTo>
                  <a:lnTo>
                    <a:pt x="926" y="702"/>
                  </a:lnTo>
                  <a:lnTo>
                    <a:pt x="916" y="705"/>
                  </a:lnTo>
                  <a:lnTo>
                    <a:pt x="908" y="709"/>
                  </a:lnTo>
                  <a:lnTo>
                    <a:pt x="900" y="715"/>
                  </a:lnTo>
                  <a:lnTo>
                    <a:pt x="895" y="722"/>
                  </a:lnTo>
                  <a:lnTo>
                    <a:pt x="890" y="731"/>
                  </a:lnTo>
                  <a:lnTo>
                    <a:pt x="884" y="743"/>
                  </a:lnTo>
                  <a:lnTo>
                    <a:pt x="878" y="754"/>
                  </a:lnTo>
                  <a:lnTo>
                    <a:pt x="871" y="765"/>
                  </a:lnTo>
                  <a:lnTo>
                    <a:pt x="860" y="769"/>
                  </a:lnTo>
                  <a:lnTo>
                    <a:pt x="845" y="770"/>
                  </a:lnTo>
                  <a:lnTo>
                    <a:pt x="830" y="770"/>
                  </a:lnTo>
                  <a:lnTo>
                    <a:pt x="814" y="772"/>
                  </a:lnTo>
                  <a:lnTo>
                    <a:pt x="798" y="774"/>
                  </a:lnTo>
                  <a:lnTo>
                    <a:pt x="784" y="778"/>
                  </a:lnTo>
                  <a:lnTo>
                    <a:pt x="770" y="787"/>
                  </a:lnTo>
                  <a:lnTo>
                    <a:pt x="760" y="798"/>
                  </a:lnTo>
                  <a:lnTo>
                    <a:pt x="752" y="813"/>
                  </a:lnTo>
                  <a:lnTo>
                    <a:pt x="747" y="833"/>
                  </a:lnTo>
                  <a:lnTo>
                    <a:pt x="747" y="853"/>
                  </a:lnTo>
                  <a:lnTo>
                    <a:pt x="746" y="873"/>
                  </a:lnTo>
                  <a:lnTo>
                    <a:pt x="737" y="890"/>
                  </a:lnTo>
                  <a:lnTo>
                    <a:pt x="738" y="909"/>
                  </a:lnTo>
                  <a:lnTo>
                    <a:pt x="744" y="925"/>
                  </a:lnTo>
                  <a:lnTo>
                    <a:pt x="753" y="940"/>
                  </a:lnTo>
                  <a:lnTo>
                    <a:pt x="763" y="954"/>
                  </a:lnTo>
                  <a:lnTo>
                    <a:pt x="756" y="958"/>
                  </a:lnTo>
                  <a:lnTo>
                    <a:pt x="749" y="960"/>
                  </a:lnTo>
                  <a:lnTo>
                    <a:pt x="741" y="963"/>
                  </a:lnTo>
                  <a:lnTo>
                    <a:pt x="733" y="965"/>
                  </a:lnTo>
                  <a:lnTo>
                    <a:pt x="732" y="944"/>
                  </a:lnTo>
                  <a:lnTo>
                    <a:pt x="730" y="925"/>
                  </a:lnTo>
                  <a:lnTo>
                    <a:pt x="726" y="905"/>
                  </a:lnTo>
                  <a:lnTo>
                    <a:pt x="722" y="887"/>
                  </a:lnTo>
                  <a:lnTo>
                    <a:pt x="715" y="868"/>
                  </a:lnTo>
                  <a:lnTo>
                    <a:pt x="706" y="850"/>
                  </a:lnTo>
                  <a:lnTo>
                    <a:pt x="696" y="833"/>
                  </a:lnTo>
                  <a:lnTo>
                    <a:pt x="685" y="816"/>
                  </a:lnTo>
                  <a:lnTo>
                    <a:pt x="669" y="806"/>
                  </a:lnTo>
                  <a:lnTo>
                    <a:pt x="654" y="795"/>
                  </a:lnTo>
                  <a:lnTo>
                    <a:pt x="638" y="784"/>
                  </a:lnTo>
                  <a:lnTo>
                    <a:pt x="620" y="774"/>
                  </a:lnTo>
                  <a:lnTo>
                    <a:pt x="603" y="766"/>
                  </a:lnTo>
                  <a:lnTo>
                    <a:pt x="586" y="762"/>
                  </a:lnTo>
                  <a:lnTo>
                    <a:pt x="566" y="763"/>
                  </a:lnTo>
                  <a:lnTo>
                    <a:pt x="546" y="770"/>
                  </a:lnTo>
                  <a:lnTo>
                    <a:pt x="538" y="775"/>
                  </a:lnTo>
                  <a:lnTo>
                    <a:pt x="532" y="782"/>
                  </a:lnTo>
                  <a:lnTo>
                    <a:pt x="526" y="791"/>
                  </a:lnTo>
                  <a:lnTo>
                    <a:pt x="522" y="800"/>
                  </a:lnTo>
                  <a:lnTo>
                    <a:pt x="514" y="810"/>
                  </a:lnTo>
                  <a:lnTo>
                    <a:pt x="506" y="820"/>
                  </a:lnTo>
                  <a:lnTo>
                    <a:pt x="498" y="830"/>
                  </a:lnTo>
                  <a:lnTo>
                    <a:pt x="490" y="841"/>
                  </a:lnTo>
                  <a:lnTo>
                    <a:pt x="484" y="852"/>
                  </a:lnTo>
                  <a:lnTo>
                    <a:pt x="478" y="864"/>
                  </a:lnTo>
                  <a:lnTo>
                    <a:pt x="476" y="876"/>
                  </a:lnTo>
                  <a:lnTo>
                    <a:pt x="475" y="889"/>
                  </a:lnTo>
                  <a:lnTo>
                    <a:pt x="491" y="906"/>
                  </a:lnTo>
                  <a:lnTo>
                    <a:pt x="497" y="929"/>
                  </a:lnTo>
                  <a:lnTo>
                    <a:pt x="499" y="954"/>
                  </a:lnTo>
                  <a:lnTo>
                    <a:pt x="508" y="975"/>
                  </a:lnTo>
                  <a:lnTo>
                    <a:pt x="514" y="981"/>
                  </a:lnTo>
                  <a:lnTo>
                    <a:pt x="520" y="986"/>
                  </a:lnTo>
                  <a:lnTo>
                    <a:pt x="527" y="989"/>
                  </a:lnTo>
                  <a:lnTo>
                    <a:pt x="534" y="992"/>
                  </a:lnTo>
                  <a:lnTo>
                    <a:pt x="542" y="994"/>
                  </a:lnTo>
                  <a:lnTo>
                    <a:pt x="549" y="995"/>
                  </a:lnTo>
                  <a:lnTo>
                    <a:pt x="557" y="996"/>
                  </a:lnTo>
                  <a:lnTo>
                    <a:pt x="564" y="997"/>
                  </a:lnTo>
                  <a:lnTo>
                    <a:pt x="552" y="1004"/>
                  </a:lnTo>
                  <a:lnTo>
                    <a:pt x="541" y="1011"/>
                  </a:lnTo>
                  <a:lnTo>
                    <a:pt x="529" y="1017"/>
                  </a:lnTo>
                  <a:lnTo>
                    <a:pt x="518" y="1024"/>
                  </a:lnTo>
                  <a:lnTo>
                    <a:pt x="506" y="1030"/>
                  </a:lnTo>
                  <a:lnTo>
                    <a:pt x="495" y="1035"/>
                  </a:lnTo>
                  <a:lnTo>
                    <a:pt x="483" y="1041"/>
                  </a:lnTo>
                  <a:lnTo>
                    <a:pt x="472" y="1047"/>
                  </a:lnTo>
                  <a:lnTo>
                    <a:pt x="459" y="1053"/>
                  </a:lnTo>
                  <a:lnTo>
                    <a:pt x="447" y="1057"/>
                  </a:lnTo>
                  <a:lnTo>
                    <a:pt x="435" y="1063"/>
                  </a:lnTo>
                  <a:lnTo>
                    <a:pt x="423" y="1069"/>
                  </a:lnTo>
                  <a:lnTo>
                    <a:pt x="411" y="1073"/>
                  </a:lnTo>
                  <a:lnTo>
                    <a:pt x="399" y="1079"/>
                  </a:lnTo>
                  <a:lnTo>
                    <a:pt x="386" y="1084"/>
                  </a:lnTo>
                  <a:lnTo>
                    <a:pt x="375" y="1090"/>
                  </a:lnTo>
                  <a:lnTo>
                    <a:pt x="364" y="1091"/>
                  </a:lnTo>
                  <a:lnTo>
                    <a:pt x="354" y="1093"/>
                  </a:lnTo>
                  <a:lnTo>
                    <a:pt x="343" y="1094"/>
                  </a:lnTo>
                  <a:lnTo>
                    <a:pt x="332" y="1095"/>
                  </a:lnTo>
                  <a:lnTo>
                    <a:pt x="321" y="1098"/>
                  </a:lnTo>
                  <a:lnTo>
                    <a:pt x="310" y="1099"/>
                  </a:lnTo>
                  <a:lnTo>
                    <a:pt x="300" y="1099"/>
                  </a:lnTo>
                  <a:lnTo>
                    <a:pt x="291" y="1100"/>
                  </a:lnTo>
                  <a:lnTo>
                    <a:pt x="285" y="1094"/>
                  </a:lnTo>
                  <a:lnTo>
                    <a:pt x="278" y="1091"/>
                  </a:lnTo>
                  <a:lnTo>
                    <a:pt x="270" y="1087"/>
                  </a:lnTo>
                  <a:lnTo>
                    <a:pt x="262" y="1086"/>
                  </a:lnTo>
                  <a:lnTo>
                    <a:pt x="257" y="1079"/>
                  </a:lnTo>
                  <a:lnTo>
                    <a:pt x="251" y="1075"/>
                  </a:lnTo>
                  <a:lnTo>
                    <a:pt x="245" y="1070"/>
                  </a:lnTo>
                  <a:lnTo>
                    <a:pt x="238" y="1068"/>
                  </a:lnTo>
                  <a:lnTo>
                    <a:pt x="230" y="1065"/>
                  </a:lnTo>
                  <a:lnTo>
                    <a:pt x="221" y="1065"/>
                  </a:lnTo>
                  <a:lnTo>
                    <a:pt x="213" y="1066"/>
                  </a:lnTo>
                  <a:lnTo>
                    <a:pt x="205" y="1068"/>
                  </a:lnTo>
                  <a:lnTo>
                    <a:pt x="200" y="1070"/>
                  </a:lnTo>
                  <a:lnTo>
                    <a:pt x="194" y="1072"/>
                  </a:lnTo>
                  <a:lnTo>
                    <a:pt x="188" y="1076"/>
                  </a:lnTo>
                  <a:lnTo>
                    <a:pt x="183" y="1080"/>
                  </a:lnTo>
                  <a:lnTo>
                    <a:pt x="178" y="1085"/>
                  </a:lnTo>
                  <a:lnTo>
                    <a:pt x="174" y="1090"/>
                  </a:lnTo>
                  <a:lnTo>
                    <a:pt x="171" y="1094"/>
                  </a:lnTo>
                  <a:lnTo>
                    <a:pt x="167" y="1100"/>
                  </a:lnTo>
                  <a:lnTo>
                    <a:pt x="98" y="1129"/>
                  </a:lnTo>
                  <a:lnTo>
                    <a:pt x="84" y="1121"/>
                  </a:lnTo>
                  <a:lnTo>
                    <a:pt x="73" y="1109"/>
                  </a:lnTo>
                  <a:lnTo>
                    <a:pt x="64" y="1098"/>
                  </a:lnTo>
                  <a:lnTo>
                    <a:pt x="54" y="1084"/>
                  </a:lnTo>
                  <a:lnTo>
                    <a:pt x="45" y="1070"/>
                  </a:lnTo>
                  <a:lnTo>
                    <a:pt x="36" y="1056"/>
                  </a:lnTo>
                  <a:lnTo>
                    <a:pt x="26" y="1043"/>
                  </a:lnTo>
                  <a:lnTo>
                    <a:pt x="13" y="1032"/>
                  </a:lnTo>
                  <a:lnTo>
                    <a:pt x="20" y="1019"/>
                  </a:lnTo>
                  <a:lnTo>
                    <a:pt x="26" y="1007"/>
                  </a:lnTo>
                  <a:lnTo>
                    <a:pt x="29" y="992"/>
                  </a:lnTo>
                  <a:lnTo>
                    <a:pt x="31" y="978"/>
                  </a:lnTo>
                  <a:lnTo>
                    <a:pt x="35" y="963"/>
                  </a:lnTo>
                  <a:lnTo>
                    <a:pt x="39" y="949"/>
                  </a:lnTo>
                  <a:lnTo>
                    <a:pt x="46" y="935"/>
                  </a:lnTo>
                  <a:lnTo>
                    <a:pt x="56" y="924"/>
                  </a:lnTo>
                  <a:lnTo>
                    <a:pt x="58" y="913"/>
                  </a:lnTo>
                  <a:lnTo>
                    <a:pt x="57" y="903"/>
                  </a:lnTo>
                  <a:lnTo>
                    <a:pt x="51" y="894"/>
                  </a:lnTo>
                  <a:lnTo>
                    <a:pt x="41" y="889"/>
                  </a:lnTo>
                  <a:lnTo>
                    <a:pt x="31" y="884"/>
                  </a:lnTo>
                  <a:lnTo>
                    <a:pt x="23" y="879"/>
                  </a:lnTo>
                  <a:lnTo>
                    <a:pt x="18" y="872"/>
                  </a:lnTo>
                  <a:lnTo>
                    <a:pt x="15" y="861"/>
                  </a:lnTo>
                  <a:lnTo>
                    <a:pt x="24" y="852"/>
                  </a:lnTo>
                  <a:lnTo>
                    <a:pt x="34" y="842"/>
                  </a:lnTo>
                  <a:lnTo>
                    <a:pt x="42" y="831"/>
                  </a:lnTo>
                  <a:lnTo>
                    <a:pt x="49" y="820"/>
                  </a:lnTo>
                  <a:lnTo>
                    <a:pt x="54" y="810"/>
                  </a:lnTo>
                  <a:lnTo>
                    <a:pt x="57" y="797"/>
                  </a:lnTo>
                  <a:lnTo>
                    <a:pt x="57" y="785"/>
                  </a:lnTo>
                  <a:lnTo>
                    <a:pt x="53" y="773"/>
                  </a:lnTo>
                  <a:lnTo>
                    <a:pt x="49" y="768"/>
                  </a:lnTo>
                  <a:lnTo>
                    <a:pt x="44" y="765"/>
                  </a:lnTo>
                  <a:lnTo>
                    <a:pt x="39" y="761"/>
                  </a:lnTo>
                  <a:lnTo>
                    <a:pt x="34" y="760"/>
                  </a:lnTo>
                  <a:lnTo>
                    <a:pt x="28" y="760"/>
                  </a:lnTo>
                  <a:lnTo>
                    <a:pt x="22" y="761"/>
                  </a:lnTo>
                  <a:lnTo>
                    <a:pt x="16" y="762"/>
                  </a:lnTo>
                  <a:lnTo>
                    <a:pt x="11" y="765"/>
                  </a:lnTo>
                  <a:lnTo>
                    <a:pt x="0" y="770"/>
                  </a:lnTo>
                  <a:lnTo>
                    <a:pt x="3" y="761"/>
                  </a:lnTo>
                  <a:lnTo>
                    <a:pt x="9" y="750"/>
                  </a:lnTo>
                  <a:lnTo>
                    <a:pt x="19" y="739"/>
                  </a:lnTo>
                  <a:lnTo>
                    <a:pt x="31" y="732"/>
                  </a:lnTo>
                  <a:lnTo>
                    <a:pt x="44" y="731"/>
                  </a:lnTo>
                  <a:lnTo>
                    <a:pt x="58" y="730"/>
                  </a:lnTo>
                  <a:lnTo>
                    <a:pt x="72" y="728"/>
                  </a:lnTo>
                  <a:lnTo>
                    <a:pt x="84" y="725"/>
                  </a:lnTo>
                  <a:lnTo>
                    <a:pt x="96" y="721"/>
                  </a:lnTo>
                  <a:lnTo>
                    <a:pt x="107" y="715"/>
                  </a:lnTo>
                  <a:lnTo>
                    <a:pt x="115" y="705"/>
                  </a:lnTo>
                  <a:lnTo>
                    <a:pt x="122" y="692"/>
                  </a:lnTo>
                  <a:lnTo>
                    <a:pt x="125" y="685"/>
                  </a:lnTo>
                  <a:lnTo>
                    <a:pt x="127" y="677"/>
                  </a:lnTo>
                  <a:lnTo>
                    <a:pt x="129" y="670"/>
                  </a:lnTo>
                  <a:lnTo>
                    <a:pt x="133" y="663"/>
                  </a:lnTo>
                  <a:lnTo>
                    <a:pt x="137" y="656"/>
                  </a:lnTo>
                  <a:lnTo>
                    <a:pt x="143" y="651"/>
                  </a:lnTo>
                  <a:lnTo>
                    <a:pt x="149" y="646"/>
                  </a:lnTo>
                  <a:lnTo>
                    <a:pt x="157" y="643"/>
                  </a:lnTo>
                  <a:lnTo>
                    <a:pt x="167" y="644"/>
                  </a:lnTo>
                  <a:lnTo>
                    <a:pt x="178" y="644"/>
                  </a:lnTo>
                  <a:lnTo>
                    <a:pt x="188" y="643"/>
                  </a:lnTo>
                  <a:lnTo>
                    <a:pt x="197" y="639"/>
                  </a:lnTo>
                  <a:lnTo>
                    <a:pt x="207" y="636"/>
                  </a:lnTo>
                  <a:lnTo>
                    <a:pt x="216" y="629"/>
                  </a:lnTo>
                  <a:lnTo>
                    <a:pt x="224" y="622"/>
                  </a:lnTo>
                  <a:lnTo>
                    <a:pt x="231" y="613"/>
                  </a:lnTo>
                  <a:lnTo>
                    <a:pt x="240" y="611"/>
                  </a:lnTo>
                  <a:lnTo>
                    <a:pt x="246" y="615"/>
                  </a:lnTo>
                  <a:lnTo>
                    <a:pt x="251" y="619"/>
                  </a:lnTo>
                  <a:lnTo>
                    <a:pt x="256" y="625"/>
                  </a:lnTo>
                  <a:lnTo>
                    <a:pt x="261" y="632"/>
                  </a:lnTo>
                  <a:lnTo>
                    <a:pt x="265" y="638"/>
                  </a:lnTo>
                  <a:lnTo>
                    <a:pt x="271" y="641"/>
                  </a:lnTo>
                  <a:lnTo>
                    <a:pt x="279" y="643"/>
                  </a:lnTo>
                  <a:lnTo>
                    <a:pt x="285" y="645"/>
                  </a:lnTo>
                  <a:lnTo>
                    <a:pt x="289" y="645"/>
                  </a:lnTo>
                  <a:lnTo>
                    <a:pt x="295" y="644"/>
                  </a:lnTo>
                  <a:lnTo>
                    <a:pt x="300" y="641"/>
                  </a:lnTo>
                  <a:lnTo>
                    <a:pt x="304" y="638"/>
                  </a:lnTo>
                  <a:lnTo>
                    <a:pt x="308" y="634"/>
                  </a:lnTo>
                  <a:lnTo>
                    <a:pt x="311" y="630"/>
                  </a:lnTo>
                  <a:lnTo>
                    <a:pt x="315" y="625"/>
                  </a:lnTo>
                  <a:lnTo>
                    <a:pt x="314" y="617"/>
                  </a:lnTo>
                  <a:lnTo>
                    <a:pt x="311" y="610"/>
                  </a:lnTo>
                  <a:lnTo>
                    <a:pt x="308" y="603"/>
                  </a:lnTo>
                  <a:lnTo>
                    <a:pt x="304" y="598"/>
                  </a:lnTo>
                  <a:lnTo>
                    <a:pt x="299" y="591"/>
                  </a:lnTo>
                  <a:lnTo>
                    <a:pt x="293" y="586"/>
                  </a:lnTo>
                  <a:lnTo>
                    <a:pt x="287" y="581"/>
                  </a:lnTo>
                  <a:lnTo>
                    <a:pt x="280" y="577"/>
                  </a:lnTo>
                  <a:lnTo>
                    <a:pt x="280" y="569"/>
                  </a:lnTo>
                  <a:lnTo>
                    <a:pt x="285" y="560"/>
                  </a:lnTo>
                  <a:lnTo>
                    <a:pt x="287" y="550"/>
                  </a:lnTo>
                  <a:lnTo>
                    <a:pt x="285" y="541"/>
                  </a:lnTo>
                  <a:lnTo>
                    <a:pt x="278" y="532"/>
                  </a:lnTo>
                  <a:lnTo>
                    <a:pt x="270" y="526"/>
                  </a:lnTo>
                  <a:lnTo>
                    <a:pt x="260" y="523"/>
                  </a:lnTo>
                  <a:lnTo>
                    <a:pt x="250" y="520"/>
                  </a:lnTo>
                  <a:lnTo>
                    <a:pt x="240" y="518"/>
                  </a:lnTo>
                  <a:lnTo>
                    <a:pt x="231" y="515"/>
                  </a:lnTo>
                  <a:lnTo>
                    <a:pt x="223" y="509"/>
                  </a:lnTo>
                  <a:lnTo>
                    <a:pt x="217" y="500"/>
                  </a:lnTo>
                  <a:lnTo>
                    <a:pt x="209" y="482"/>
                  </a:lnTo>
                  <a:lnTo>
                    <a:pt x="202" y="465"/>
                  </a:lnTo>
                  <a:lnTo>
                    <a:pt x="195" y="448"/>
                  </a:lnTo>
                  <a:lnTo>
                    <a:pt x="188" y="431"/>
                  </a:lnTo>
                  <a:lnTo>
                    <a:pt x="179" y="414"/>
                  </a:lnTo>
                  <a:lnTo>
                    <a:pt x="170" y="399"/>
                  </a:lnTo>
                  <a:lnTo>
                    <a:pt x="157" y="386"/>
                  </a:lnTo>
                  <a:lnTo>
                    <a:pt x="142" y="373"/>
                  </a:lnTo>
                  <a:lnTo>
                    <a:pt x="136" y="372"/>
                  </a:lnTo>
                  <a:lnTo>
                    <a:pt x="130" y="372"/>
                  </a:lnTo>
                  <a:lnTo>
                    <a:pt x="126" y="373"/>
                  </a:lnTo>
                  <a:lnTo>
                    <a:pt x="120" y="375"/>
                  </a:lnTo>
                  <a:lnTo>
                    <a:pt x="117" y="378"/>
                  </a:lnTo>
                  <a:lnTo>
                    <a:pt x="112" y="381"/>
                  </a:lnTo>
                  <a:lnTo>
                    <a:pt x="109" y="384"/>
                  </a:lnTo>
                  <a:lnTo>
                    <a:pt x="105" y="389"/>
                  </a:lnTo>
                  <a:lnTo>
                    <a:pt x="102" y="406"/>
                  </a:lnTo>
                  <a:lnTo>
                    <a:pt x="99" y="424"/>
                  </a:lnTo>
                  <a:lnTo>
                    <a:pt x="96" y="440"/>
                  </a:lnTo>
                  <a:lnTo>
                    <a:pt x="87" y="455"/>
                  </a:lnTo>
                  <a:lnTo>
                    <a:pt x="79" y="455"/>
                  </a:lnTo>
                  <a:lnTo>
                    <a:pt x="72" y="458"/>
                  </a:lnTo>
                  <a:lnTo>
                    <a:pt x="65" y="464"/>
                  </a:lnTo>
                  <a:lnTo>
                    <a:pt x="56" y="470"/>
                  </a:lnTo>
                  <a:lnTo>
                    <a:pt x="59" y="449"/>
                  </a:lnTo>
                  <a:lnTo>
                    <a:pt x="58" y="428"/>
                  </a:lnTo>
                  <a:lnTo>
                    <a:pt x="50" y="409"/>
                  </a:lnTo>
                  <a:lnTo>
                    <a:pt x="38" y="391"/>
                  </a:lnTo>
                  <a:lnTo>
                    <a:pt x="42" y="382"/>
                  </a:lnTo>
                  <a:lnTo>
                    <a:pt x="46" y="372"/>
                  </a:lnTo>
                  <a:lnTo>
                    <a:pt x="51" y="363"/>
                  </a:lnTo>
                  <a:lnTo>
                    <a:pt x="58" y="353"/>
                  </a:lnTo>
                  <a:lnTo>
                    <a:pt x="65" y="345"/>
                  </a:lnTo>
                  <a:lnTo>
                    <a:pt x="74" y="338"/>
                  </a:lnTo>
                  <a:lnTo>
                    <a:pt x="83" y="334"/>
                  </a:lnTo>
                  <a:lnTo>
                    <a:pt x="94" y="330"/>
                  </a:lnTo>
                  <a:lnTo>
                    <a:pt x="105" y="331"/>
                  </a:lnTo>
                  <a:lnTo>
                    <a:pt x="118" y="334"/>
                  </a:lnTo>
                  <a:lnTo>
                    <a:pt x="129" y="335"/>
                  </a:lnTo>
                  <a:lnTo>
                    <a:pt x="141" y="335"/>
                  </a:lnTo>
                  <a:lnTo>
                    <a:pt x="151" y="334"/>
                  </a:lnTo>
                  <a:lnTo>
                    <a:pt x="162" y="329"/>
                  </a:lnTo>
                  <a:lnTo>
                    <a:pt x="171" y="321"/>
                  </a:lnTo>
                  <a:lnTo>
                    <a:pt x="178" y="310"/>
                  </a:lnTo>
                  <a:lnTo>
                    <a:pt x="178" y="293"/>
                  </a:lnTo>
                  <a:lnTo>
                    <a:pt x="180" y="277"/>
                  </a:lnTo>
                  <a:lnTo>
                    <a:pt x="185" y="263"/>
                  </a:lnTo>
                  <a:lnTo>
                    <a:pt x="190" y="248"/>
                  </a:lnTo>
                  <a:lnTo>
                    <a:pt x="196" y="235"/>
                  </a:lnTo>
                  <a:lnTo>
                    <a:pt x="201" y="221"/>
                  </a:lnTo>
                  <a:lnTo>
                    <a:pt x="203" y="206"/>
                  </a:lnTo>
                  <a:lnTo>
                    <a:pt x="203" y="190"/>
                  </a:lnTo>
                  <a:lnTo>
                    <a:pt x="197" y="179"/>
                  </a:lnTo>
                  <a:lnTo>
                    <a:pt x="189" y="175"/>
                  </a:lnTo>
                  <a:lnTo>
                    <a:pt x="180" y="174"/>
                  </a:lnTo>
                  <a:lnTo>
                    <a:pt x="171" y="174"/>
                  </a:lnTo>
                  <a:lnTo>
                    <a:pt x="163" y="175"/>
                  </a:lnTo>
                  <a:lnTo>
                    <a:pt x="155" y="172"/>
                  </a:lnTo>
                  <a:lnTo>
                    <a:pt x="149" y="168"/>
                  </a:lnTo>
                  <a:lnTo>
                    <a:pt x="145" y="157"/>
                  </a:lnTo>
                  <a:lnTo>
                    <a:pt x="141" y="153"/>
                  </a:lnTo>
                  <a:lnTo>
                    <a:pt x="136" y="149"/>
                  </a:lnTo>
                  <a:lnTo>
                    <a:pt x="130" y="147"/>
                  </a:lnTo>
                  <a:lnTo>
                    <a:pt x="125" y="146"/>
                  </a:lnTo>
                  <a:lnTo>
                    <a:pt x="118" y="145"/>
                  </a:lnTo>
                  <a:lnTo>
                    <a:pt x="111" y="145"/>
                  </a:lnTo>
                  <a:lnTo>
                    <a:pt x="105" y="145"/>
                  </a:lnTo>
                  <a:lnTo>
                    <a:pt x="98" y="145"/>
                  </a:lnTo>
                  <a:lnTo>
                    <a:pt x="98" y="126"/>
                  </a:lnTo>
                  <a:lnTo>
                    <a:pt x="103" y="110"/>
                  </a:lnTo>
                  <a:lnTo>
                    <a:pt x="105" y="94"/>
                  </a:lnTo>
                  <a:lnTo>
                    <a:pt x="99" y="78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7" y="57"/>
                  </a:lnTo>
                  <a:lnTo>
                    <a:pt x="69" y="51"/>
                  </a:lnTo>
                  <a:lnTo>
                    <a:pt x="61" y="47"/>
                  </a:lnTo>
                  <a:lnTo>
                    <a:pt x="53" y="41"/>
                  </a:lnTo>
                  <a:lnTo>
                    <a:pt x="46" y="35"/>
                  </a:lnTo>
                  <a:lnTo>
                    <a:pt x="41" y="28"/>
                  </a:lnTo>
                  <a:lnTo>
                    <a:pt x="51" y="25"/>
                  </a:lnTo>
                  <a:lnTo>
                    <a:pt x="61" y="22"/>
                  </a:lnTo>
                  <a:lnTo>
                    <a:pt x="72" y="17"/>
                  </a:lnTo>
                  <a:lnTo>
                    <a:pt x="82" y="13"/>
                  </a:lnTo>
                  <a:lnTo>
                    <a:pt x="92" y="9"/>
                  </a:lnTo>
                  <a:lnTo>
                    <a:pt x="103" y="5"/>
                  </a:lnTo>
                  <a:lnTo>
                    <a:pt x="113" y="2"/>
                  </a:lnTo>
                  <a:lnTo>
                    <a:pt x="125" y="0"/>
                  </a:lnTo>
                  <a:lnTo>
                    <a:pt x="130" y="11"/>
                  </a:lnTo>
                  <a:lnTo>
                    <a:pt x="136" y="24"/>
                  </a:lnTo>
                  <a:lnTo>
                    <a:pt x="144" y="38"/>
                  </a:lnTo>
                  <a:lnTo>
                    <a:pt x="152" y="49"/>
                  </a:lnTo>
                  <a:lnTo>
                    <a:pt x="163" y="61"/>
                  </a:lnTo>
                  <a:lnTo>
                    <a:pt x="174" y="70"/>
                  </a:lnTo>
                  <a:lnTo>
                    <a:pt x="188" y="77"/>
                  </a:lnTo>
                  <a:lnTo>
                    <a:pt x="203" y="79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6440" y="1503000"/>
              <a:ext cx="983880" cy="1194480"/>
            </a:xfrm>
            <a:custGeom>
              <a:avLst/>
              <a:gdLst/>
              <a:ahLst/>
              <a:rect l="l" t="t" r="r" b="b"/>
              <a:pathLst>
                <a:path w="664" h="858">
                  <a:moveTo>
                    <a:pt x="410" y="19"/>
                  </a:moveTo>
                  <a:lnTo>
                    <a:pt x="414" y="19"/>
                  </a:lnTo>
                  <a:lnTo>
                    <a:pt x="420" y="21"/>
                  </a:lnTo>
                  <a:lnTo>
                    <a:pt x="425" y="22"/>
                  </a:lnTo>
                  <a:lnTo>
                    <a:pt x="429" y="24"/>
                  </a:lnTo>
                  <a:lnTo>
                    <a:pt x="435" y="26"/>
                  </a:lnTo>
                  <a:lnTo>
                    <a:pt x="440" y="30"/>
                  </a:lnTo>
                  <a:lnTo>
                    <a:pt x="444" y="32"/>
                  </a:lnTo>
                  <a:lnTo>
                    <a:pt x="449" y="36"/>
                  </a:lnTo>
                  <a:lnTo>
                    <a:pt x="456" y="47"/>
                  </a:lnTo>
                  <a:lnTo>
                    <a:pt x="457" y="60"/>
                  </a:lnTo>
                  <a:lnTo>
                    <a:pt x="455" y="72"/>
                  </a:lnTo>
                  <a:lnTo>
                    <a:pt x="451" y="85"/>
                  </a:lnTo>
                  <a:lnTo>
                    <a:pt x="449" y="98"/>
                  </a:lnTo>
                  <a:lnTo>
                    <a:pt x="450" y="109"/>
                  </a:lnTo>
                  <a:lnTo>
                    <a:pt x="456" y="118"/>
                  </a:lnTo>
                  <a:lnTo>
                    <a:pt x="470" y="127"/>
                  </a:lnTo>
                  <a:lnTo>
                    <a:pt x="475" y="129"/>
                  </a:lnTo>
                  <a:lnTo>
                    <a:pt x="482" y="130"/>
                  </a:lnTo>
                  <a:lnTo>
                    <a:pt x="489" y="129"/>
                  </a:lnTo>
                  <a:lnTo>
                    <a:pt x="496" y="129"/>
                  </a:lnTo>
                  <a:lnTo>
                    <a:pt x="502" y="130"/>
                  </a:lnTo>
                  <a:lnTo>
                    <a:pt x="507" y="132"/>
                  </a:lnTo>
                  <a:lnTo>
                    <a:pt x="509" y="137"/>
                  </a:lnTo>
                  <a:lnTo>
                    <a:pt x="508" y="146"/>
                  </a:lnTo>
                  <a:lnTo>
                    <a:pt x="512" y="151"/>
                  </a:lnTo>
                  <a:lnTo>
                    <a:pt x="517" y="155"/>
                  </a:lnTo>
                  <a:lnTo>
                    <a:pt x="523" y="158"/>
                  </a:lnTo>
                  <a:lnTo>
                    <a:pt x="530" y="158"/>
                  </a:lnTo>
                  <a:lnTo>
                    <a:pt x="535" y="159"/>
                  </a:lnTo>
                  <a:lnTo>
                    <a:pt x="542" y="158"/>
                  </a:lnTo>
                  <a:lnTo>
                    <a:pt x="548" y="158"/>
                  </a:lnTo>
                  <a:lnTo>
                    <a:pt x="554" y="156"/>
                  </a:lnTo>
                  <a:lnTo>
                    <a:pt x="548" y="180"/>
                  </a:lnTo>
                  <a:lnTo>
                    <a:pt x="541" y="204"/>
                  </a:lnTo>
                  <a:lnTo>
                    <a:pt x="534" y="229"/>
                  </a:lnTo>
                  <a:lnTo>
                    <a:pt x="532" y="256"/>
                  </a:lnTo>
                  <a:lnTo>
                    <a:pt x="522" y="267"/>
                  </a:lnTo>
                  <a:lnTo>
                    <a:pt x="509" y="272"/>
                  </a:lnTo>
                  <a:lnTo>
                    <a:pt x="496" y="272"/>
                  </a:lnTo>
                  <a:lnTo>
                    <a:pt x="482" y="269"/>
                  </a:lnTo>
                  <a:lnTo>
                    <a:pt x="469" y="266"/>
                  </a:lnTo>
                  <a:lnTo>
                    <a:pt x="455" y="266"/>
                  </a:lnTo>
                  <a:lnTo>
                    <a:pt x="442" y="271"/>
                  </a:lnTo>
                  <a:lnTo>
                    <a:pt x="431" y="281"/>
                  </a:lnTo>
                  <a:lnTo>
                    <a:pt x="422" y="289"/>
                  </a:lnTo>
                  <a:lnTo>
                    <a:pt x="416" y="297"/>
                  </a:lnTo>
                  <a:lnTo>
                    <a:pt x="407" y="305"/>
                  </a:lnTo>
                  <a:lnTo>
                    <a:pt x="401" y="314"/>
                  </a:lnTo>
                  <a:lnTo>
                    <a:pt x="396" y="324"/>
                  </a:lnTo>
                  <a:lnTo>
                    <a:pt x="391" y="333"/>
                  </a:lnTo>
                  <a:lnTo>
                    <a:pt x="390" y="343"/>
                  </a:lnTo>
                  <a:lnTo>
                    <a:pt x="391" y="355"/>
                  </a:lnTo>
                  <a:lnTo>
                    <a:pt x="404" y="366"/>
                  </a:lnTo>
                  <a:lnTo>
                    <a:pt x="409" y="380"/>
                  </a:lnTo>
                  <a:lnTo>
                    <a:pt x="410" y="395"/>
                  </a:lnTo>
                  <a:lnTo>
                    <a:pt x="407" y="410"/>
                  </a:lnTo>
                  <a:lnTo>
                    <a:pt x="406" y="425"/>
                  </a:lnTo>
                  <a:lnTo>
                    <a:pt x="409" y="439"/>
                  </a:lnTo>
                  <a:lnTo>
                    <a:pt x="416" y="451"/>
                  </a:lnTo>
                  <a:lnTo>
                    <a:pt x="431" y="461"/>
                  </a:lnTo>
                  <a:lnTo>
                    <a:pt x="437" y="458"/>
                  </a:lnTo>
                  <a:lnTo>
                    <a:pt x="443" y="455"/>
                  </a:lnTo>
                  <a:lnTo>
                    <a:pt x="449" y="450"/>
                  </a:lnTo>
                  <a:lnTo>
                    <a:pt x="454" y="445"/>
                  </a:lnTo>
                  <a:lnTo>
                    <a:pt x="458" y="440"/>
                  </a:lnTo>
                  <a:lnTo>
                    <a:pt x="463" y="436"/>
                  </a:lnTo>
                  <a:lnTo>
                    <a:pt x="470" y="435"/>
                  </a:lnTo>
                  <a:lnTo>
                    <a:pt x="479" y="436"/>
                  </a:lnTo>
                  <a:lnTo>
                    <a:pt x="490" y="418"/>
                  </a:lnTo>
                  <a:lnTo>
                    <a:pt x="496" y="396"/>
                  </a:lnTo>
                  <a:lnTo>
                    <a:pt x="502" y="375"/>
                  </a:lnTo>
                  <a:lnTo>
                    <a:pt x="512" y="357"/>
                  </a:lnTo>
                  <a:lnTo>
                    <a:pt x="520" y="362"/>
                  </a:lnTo>
                  <a:lnTo>
                    <a:pt x="527" y="368"/>
                  </a:lnTo>
                  <a:lnTo>
                    <a:pt x="533" y="375"/>
                  </a:lnTo>
                  <a:lnTo>
                    <a:pt x="538" y="383"/>
                  </a:lnTo>
                  <a:lnTo>
                    <a:pt x="545" y="402"/>
                  </a:lnTo>
                  <a:lnTo>
                    <a:pt x="552" y="421"/>
                  </a:lnTo>
                  <a:lnTo>
                    <a:pt x="560" y="441"/>
                  </a:lnTo>
                  <a:lnTo>
                    <a:pt x="569" y="459"/>
                  </a:lnTo>
                  <a:lnTo>
                    <a:pt x="580" y="477"/>
                  </a:lnTo>
                  <a:lnTo>
                    <a:pt x="595" y="491"/>
                  </a:lnTo>
                  <a:lnTo>
                    <a:pt x="613" y="500"/>
                  </a:lnTo>
                  <a:lnTo>
                    <a:pt x="635" y="504"/>
                  </a:lnTo>
                  <a:lnTo>
                    <a:pt x="635" y="512"/>
                  </a:lnTo>
                  <a:lnTo>
                    <a:pt x="631" y="522"/>
                  </a:lnTo>
                  <a:lnTo>
                    <a:pt x="628" y="530"/>
                  </a:lnTo>
                  <a:lnTo>
                    <a:pt x="626" y="540"/>
                  </a:lnTo>
                  <a:lnTo>
                    <a:pt x="631" y="546"/>
                  </a:lnTo>
                  <a:lnTo>
                    <a:pt x="637" y="551"/>
                  </a:lnTo>
                  <a:lnTo>
                    <a:pt x="643" y="553"/>
                  </a:lnTo>
                  <a:lnTo>
                    <a:pt x="650" y="556"/>
                  </a:lnTo>
                  <a:lnTo>
                    <a:pt x="654" y="560"/>
                  </a:lnTo>
                  <a:lnTo>
                    <a:pt x="660" y="564"/>
                  </a:lnTo>
                  <a:lnTo>
                    <a:pt x="663" y="570"/>
                  </a:lnTo>
                  <a:lnTo>
                    <a:pt x="664" y="578"/>
                  </a:lnTo>
                  <a:lnTo>
                    <a:pt x="658" y="579"/>
                  </a:lnTo>
                  <a:lnTo>
                    <a:pt x="651" y="578"/>
                  </a:lnTo>
                  <a:lnTo>
                    <a:pt x="645" y="575"/>
                  </a:lnTo>
                  <a:lnTo>
                    <a:pt x="640" y="569"/>
                  </a:lnTo>
                  <a:lnTo>
                    <a:pt x="635" y="563"/>
                  </a:lnTo>
                  <a:lnTo>
                    <a:pt x="630" y="557"/>
                  </a:lnTo>
                  <a:lnTo>
                    <a:pt x="624" y="553"/>
                  </a:lnTo>
                  <a:lnTo>
                    <a:pt x="617" y="551"/>
                  </a:lnTo>
                  <a:lnTo>
                    <a:pt x="608" y="548"/>
                  </a:lnTo>
                  <a:lnTo>
                    <a:pt x="599" y="548"/>
                  </a:lnTo>
                  <a:lnTo>
                    <a:pt x="592" y="552"/>
                  </a:lnTo>
                  <a:lnTo>
                    <a:pt x="585" y="556"/>
                  </a:lnTo>
                  <a:lnTo>
                    <a:pt x="578" y="562"/>
                  </a:lnTo>
                  <a:lnTo>
                    <a:pt x="571" y="569"/>
                  </a:lnTo>
                  <a:lnTo>
                    <a:pt x="564" y="575"/>
                  </a:lnTo>
                  <a:lnTo>
                    <a:pt x="557" y="579"/>
                  </a:lnTo>
                  <a:lnTo>
                    <a:pt x="549" y="578"/>
                  </a:lnTo>
                  <a:lnTo>
                    <a:pt x="540" y="578"/>
                  </a:lnTo>
                  <a:lnTo>
                    <a:pt x="532" y="578"/>
                  </a:lnTo>
                  <a:lnTo>
                    <a:pt x="524" y="579"/>
                  </a:lnTo>
                  <a:lnTo>
                    <a:pt x="516" y="583"/>
                  </a:lnTo>
                  <a:lnTo>
                    <a:pt x="509" y="586"/>
                  </a:lnTo>
                  <a:lnTo>
                    <a:pt x="502" y="591"/>
                  </a:lnTo>
                  <a:lnTo>
                    <a:pt x="495" y="597"/>
                  </a:lnTo>
                  <a:lnTo>
                    <a:pt x="488" y="606"/>
                  </a:lnTo>
                  <a:lnTo>
                    <a:pt x="482" y="617"/>
                  </a:lnTo>
                  <a:lnTo>
                    <a:pt x="479" y="630"/>
                  </a:lnTo>
                  <a:lnTo>
                    <a:pt x="474" y="642"/>
                  </a:lnTo>
                  <a:lnTo>
                    <a:pt x="469" y="652"/>
                  </a:lnTo>
                  <a:lnTo>
                    <a:pt x="461" y="661"/>
                  </a:lnTo>
                  <a:lnTo>
                    <a:pt x="450" y="666"/>
                  </a:lnTo>
                  <a:lnTo>
                    <a:pt x="436" y="667"/>
                  </a:lnTo>
                  <a:lnTo>
                    <a:pt x="427" y="667"/>
                  </a:lnTo>
                  <a:lnTo>
                    <a:pt x="418" y="668"/>
                  </a:lnTo>
                  <a:lnTo>
                    <a:pt x="409" y="669"/>
                  </a:lnTo>
                  <a:lnTo>
                    <a:pt x="401" y="671"/>
                  </a:lnTo>
                  <a:lnTo>
                    <a:pt x="393" y="675"/>
                  </a:lnTo>
                  <a:lnTo>
                    <a:pt x="384" y="678"/>
                  </a:lnTo>
                  <a:lnTo>
                    <a:pt x="376" y="682"/>
                  </a:lnTo>
                  <a:lnTo>
                    <a:pt x="369" y="688"/>
                  </a:lnTo>
                  <a:lnTo>
                    <a:pt x="364" y="696"/>
                  </a:lnTo>
                  <a:lnTo>
                    <a:pt x="358" y="704"/>
                  </a:lnTo>
                  <a:lnTo>
                    <a:pt x="353" y="713"/>
                  </a:lnTo>
                  <a:lnTo>
                    <a:pt x="350" y="721"/>
                  </a:lnTo>
                  <a:lnTo>
                    <a:pt x="345" y="730"/>
                  </a:lnTo>
                  <a:lnTo>
                    <a:pt x="342" y="739"/>
                  </a:lnTo>
                  <a:lnTo>
                    <a:pt x="337" y="748"/>
                  </a:lnTo>
                  <a:lnTo>
                    <a:pt x="333" y="757"/>
                  </a:lnTo>
                  <a:lnTo>
                    <a:pt x="334" y="759"/>
                  </a:lnTo>
                  <a:lnTo>
                    <a:pt x="335" y="761"/>
                  </a:lnTo>
                  <a:lnTo>
                    <a:pt x="336" y="765"/>
                  </a:lnTo>
                  <a:lnTo>
                    <a:pt x="336" y="767"/>
                  </a:lnTo>
                  <a:lnTo>
                    <a:pt x="329" y="768"/>
                  </a:lnTo>
                  <a:lnTo>
                    <a:pt x="323" y="768"/>
                  </a:lnTo>
                  <a:lnTo>
                    <a:pt x="318" y="767"/>
                  </a:lnTo>
                  <a:lnTo>
                    <a:pt x="313" y="764"/>
                  </a:lnTo>
                  <a:lnTo>
                    <a:pt x="308" y="760"/>
                  </a:lnTo>
                  <a:lnTo>
                    <a:pt x="304" y="756"/>
                  </a:lnTo>
                  <a:lnTo>
                    <a:pt x="300" y="751"/>
                  </a:lnTo>
                  <a:lnTo>
                    <a:pt x="297" y="745"/>
                  </a:lnTo>
                  <a:lnTo>
                    <a:pt x="296" y="728"/>
                  </a:lnTo>
                  <a:lnTo>
                    <a:pt x="292" y="712"/>
                  </a:lnTo>
                  <a:lnTo>
                    <a:pt x="286" y="698"/>
                  </a:lnTo>
                  <a:lnTo>
                    <a:pt x="276" y="685"/>
                  </a:lnTo>
                  <a:lnTo>
                    <a:pt x="269" y="678"/>
                  </a:lnTo>
                  <a:lnTo>
                    <a:pt x="260" y="675"/>
                  </a:lnTo>
                  <a:lnTo>
                    <a:pt x="251" y="674"/>
                  </a:lnTo>
                  <a:lnTo>
                    <a:pt x="242" y="673"/>
                  </a:lnTo>
                  <a:lnTo>
                    <a:pt x="232" y="671"/>
                  </a:lnTo>
                  <a:lnTo>
                    <a:pt x="224" y="668"/>
                  </a:lnTo>
                  <a:lnTo>
                    <a:pt x="217" y="662"/>
                  </a:lnTo>
                  <a:lnTo>
                    <a:pt x="213" y="653"/>
                  </a:lnTo>
                  <a:lnTo>
                    <a:pt x="205" y="646"/>
                  </a:lnTo>
                  <a:lnTo>
                    <a:pt x="195" y="642"/>
                  </a:lnTo>
                  <a:lnTo>
                    <a:pt x="186" y="638"/>
                  </a:lnTo>
                  <a:lnTo>
                    <a:pt x="176" y="636"/>
                  </a:lnTo>
                  <a:lnTo>
                    <a:pt x="165" y="635"/>
                  </a:lnTo>
                  <a:lnTo>
                    <a:pt x="155" y="635"/>
                  </a:lnTo>
                  <a:lnTo>
                    <a:pt x="145" y="633"/>
                  </a:lnTo>
                  <a:lnTo>
                    <a:pt x="136" y="632"/>
                  </a:lnTo>
                  <a:lnTo>
                    <a:pt x="122" y="647"/>
                  </a:lnTo>
                  <a:lnTo>
                    <a:pt x="115" y="666"/>
                  </a:lnTo>
                  <a:lnTo>
                    <a:pt x="112" y="684"/>
                  </a:lnTo>
                  <a:lnTo>
                    <a:pt x="115" y="704"/>
                  </a:lnTo>
                  <a:lnTo>
                    <a:pt x="122" y="713"/>
                  </a:lnTo>
                  <a:lnTo>
                    <a:pt x="129" y="721"/>
                  </a:lnTo>
                  <a:lnTo>
                    <a:pt x="137" y="729"/>
                  </a:lnTo>
                  <a:lnTo>
                    <a:pt x="145" y="737"/>
                  </a:lnTo>
                  <a:lnTo>
                    <a:pt x="150" y="745"/>
                  </a:lnTo>
                  <a:lnTo>
                    <a:pt x="154" y="754"/>
                  </a:lnTo>
                  <a:lnTo>
                    <a:pt x="155" y="765"/>
                  </a:lnTo>
                  <a:lnTo>
                    <a:pt x="152" y="777"/>
                  </a:lnTo>
                  <a:lnTo>
                    <a:pt x="156" y="788"/>
                  </a:lnTo>
                  <a:lnTo>
                    <a:pt x="163" y="797"/>
                  </a:lnTo>
                  <a:lnTo>
                    <a:pt x="172" y="805"/>
                  </a:lnTo>
                  <a:lnTo>
                    <a:pt x="180" y="812"/>
                  </a:lnTo>
                  <a:lnTo>
                    <a:pt x="186" y="820"/>
                  </a:lnTo>
                  <a:lnTo>
                    <a:pt x="189" y="828"/>
                  </a:lnTo>
                  <a:lnTo>
                    <a:pt x="184" y="837"/>
                  </a:lnTo>
                  <a:lnTo>
                    <a:pt x="174" y="848"/>
                  </a:lnTo>
                  <a:lnTo>
                    <a:pt x="170" y="858"/>
                  </a:lnTo>
                  <a:lnTo>
                    <a:pt x="161" y="850"/>
                  </a:lnTo>
                  <a:lnTo>
                    <a:pt x="149" y="843"/>
                  </a:lnTo>
                  <a:lnTo>
                    <a:pt x="139" y="837"/>
                  </a:lnTo>
                  <a:lnTo>
                    <a:pt x="129" y="830"/>
                  </a:lnTo>
                  <a:lnTo>
                    <a:pt x="119" y="822"/>
                  </a:lnTo>
                  <a:lnTo>
                    <a:pt x="112" y="813"/>
                  </a:lnTo>
                  <a:lnTo>
                    <a:pt x="108" y="802"/>
                  </a:lnTo>
                  <a:lnTo>
                    <a:pt x="108" y="787"/>
                  </a:lnTo>
                  <a:lnTo>
                    <a:pt x="104" y="781"/>
                  </a:lnTo>
                  <a:lnTo>
                    <a:pt x="100" y="775"/>
                  </a:lnTo>
                  <a:lnTo>
                    <a:pt x="95" y="771"/>
                  </a:lnTo>
                  <a:lnTo>
                    <a:pt x="89" y="766"/>
                  </a:lnTo>
                  <a:lnTo>
                    <a:pt x="85" y="761"/>
                  </a:lnTo>
                  <a:lnTo>
                    <a:pt x="79" y="757"/>
                  </a:lnTo>
                  <a:lnTo>
                    <a:pt x="73" y="752"/>
                  </a:lnTo>
                  <a:lnTo>
                    <a:pt x="68" y="749"/>
                  </a:lnTo>
                  <a:lnTo>
                    <a:pt x="66" y="719"/>
                  </a:lnTo>
                  <a:lnTo>
                    <a:pt x="69" y="686"/>
                  </a:lnTo>
                  <a:lnTo>
                    <a:pt x="71" y="654"/>
                  </a:lnTo>
                  <a:lnTo>
                    <a:pt x="71" y="622"/>
                  </a:lnTo>
                  <a:lnTo>
                    <a:pt x="68" y="592"/>
                  </a:lnTo>
                  <a:lnTo>
                    <a:pt x="58" y="564"/>
                  </a:lnTo>
                  <a:lnTo>
                    <a:pt x="40" y="540"/>
                  </a:lnTo>
                  <a:lnTo>
                    <a:pt x="11" y="521"/>
                  </a:lnTo>
                  <a:lnTo>
                    <a:pt x="0" y="508"/>
                  </a:lnTo>
                  <a:lnTo>
                    <a:pt x="0" y="492"/>
                  </a:lnTo>
                  <a:lnTo>
                    <a:pt x="4" y="473"/>
                  </a:lnTo>
                  <a:lnTo>
                    <a:pt x="9" y="457"/>
                  </a:lnTo>
                  <a:lnTo>
                    <a:pt x="12" y="445"/>
                  </a:lnTo>
                  <a:lnTo>
                    <a:pt x="17" y="432"/>
                  </a:lnTo>
                  <a:lnTo>
                    <a:pt x="21" y="423"/>
                  </a:lnTo>
                  <a:lnTo>
                    <a:pt x="23" y="419"/>
                  </a:lnTo>
                  <a:lnTo>
                    <a:pt x="29" y="419"/>
                  </a:lnTo>
                  <a:lnTo>
                    <a:pt x="36" y="417"/>
                  </a:lnTo>
                  <a:lnTo>
                    <a:pt x="42" y="413"/>
                  </a:lnTo>
                  <a:lnTo>
                    <a:pt x="49" y="408"/>
                  </a:lnTo>
                  <a:lnTo>
                    <a:pt x="55" y="403"/>
                  </a:lnTo>
                  <a:lnTo>
                    <a:pt x="61" y="398"/>
                  </a:lnTo>
                  <a:lnTo>
                    <a:pt x="68" y="395"/>
                  </a:lnTo>
                  <a:lnTo>
                    <a:pt x="74" y="394"/>
                  </a:lnTo>
                  <a:lnTo>
                    <a:pt x="91" y="380"/>
                  </a:lnTo>
                  <a:lnTo>
                    <a:pt x="99" y="364"/>
                  </a:lnTo>
                  <a:lnTo>
                    <a:pt x="102" y="345"/>
                  </a:lnTo>
                  <a:lnTo>
                    <a:pt x="103" y="326"/>
                  </a:lnTo>
                  <a:lnTo>
                    <a:pt x="103" y="307"/>
                  </a:lnTo>
                  <a:lnTo>
                    <a:pt x="107" y="289"/>
                  </a:lnTo>
                  <a:lnTo>
                    <a:pt x="115" y="273"/>
                  </a:lnTo>
                  <a:lnTo>
                    <a:pt x="131" y="260"/>
                  </a:lnTo>
                  <a:lnTo>
                    <a:pt x="147" y="254"/>
                  </a:lnTo>
                  <a:lnTo>
                    <a:pt x="163" y="249"/>
                  </a:lnTo>
                  <a:lnTo>
                    <a:pt x="179" y="241"/>
                  </a:lnTo>
                  <a:lnTo>
                    <a:pt x="194" y="231"/>
                  </a:lnTo>
                  <a:lnTo>
                    <a:pt x="208" y="222"/>
                  </a:lnTo>
                  <a:lnTo>
                    <a:pt x="222" y="211"/>
                  </a:lnTo>
                  <a:lnTo>
                    <a:pt x="233" y="197"/>
                  </a:lnTo>
                  <a:lnTo>
                    <a:pt x="243" y="182"/>
                  </a:lnTo>
                  <a:lnTo>
                    <a:pt x="240" y="109"/>
                  </a:lnTo>
                  <a:lnTo>
                    <a:pt x="238" y="107"/>
                  </a:lnTo>
                  <a:lnTo>
                    <a:pt x="236" y="105"/>
                  </a:lnTo>
                  <a:lnTo>
                    <a:pt x="233" y="102"/>
                  </a:lnTo>
                  <a:lnTo>
                    <a:pt x="233" y="99"/>
                  </a:lnTo>
                  <a:lnTo>
                    <a:pt x="252" y="84"/>
                  </a:lnTo>
                  <a:lnTo>
                    <a:pt x="271" y="69"/>
                  </a:lnTo>
                  <a:lnTo>
                    <a:pt x="290" y="55"/>
                  </a:lnTo>
                  <a:lnTo>
                    <a:pt x="310" y="42"/>
                  </a:lnTo>
                  <a:lnTo>
                    <a:pt x="329" y="31"/>
                  </a:lnTo>
                  <a:lnTo>
                    <a:pt x="349" y="19"/>
                  </a:lnTo>
                  <a:lnTo>
                    <a:pt x="369" y="9"/>
                  </a:lnTo>
                  <a:lnTo>
                    <a:pt x="390" y="0"/>
                  </a:lnTo>
                  <a:lnTo>
                    <a:pt x="396" y="3"/>
                  </a:lnTo>
                  <a:lnTo>
                    <a:pt x="399" y="9"/>
                  </a:lnTo>
                  <a:lnTo>
                    <a:pt x="403" y="16"/>
                  </a:lnTo>
                  <a:lnTo>
                    <a:pt x="410" y="1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7840" y="1633680"/>
              <a:ext cx="306720" cy="462240"/>
            </a:xfrm>
            <a:custGeom>
              <a:avLst/>
              <a:gdLst/>
              <a:ahLst/>
              <a:rect l="l" t="t" r="r" b="b"/>
              <a:pathLst>
                <a:path w="207" h="332">
                  <a:moveTo>
                    <a:pt x="162" y="20"/>
                  </a:moveTo>
                  <a:lnTo>
                    <a:pt x="200" y="68"/>
                  </a:lnTo>
                  <a:lnTo>
                    <a:pt x="199" y="103"/>
                  </a:lnTo>
                  <a:lnTo>
                    <a:pt x="204" y="137"/>
                  </a:lnTo>
                  <a:lnTo>
                    <a:pt x="207" y="171"/>
                  </a:lnTo>
                  <a:lnTo>
                    <a:pt x="204" y="204"/>
                  </a:lnTo>
                  <a:lnTo>
                    <a:pt x="199" y="215"/>
                  </a:lnTo>
                  <a:lnTo>
                    <a:pt x="192" y="223"/>
                  </a:lnTo>
                  <a:lnTo>
                    <a:pt x="184" y="228"/>
                  </a:lnTo>
                  <a:lnTo>
                    <a:pt x="176" y="233"/>
                  </a:lnTo>
                  <a:lnTo>
                    <a:pt x="167" y="238"/>
                  </a:lnTo>
                  <a:lnTo>
                    <a:pt x="158" y="243"/>
                  </a:lnTo>
                  <a:lnTo>
                    <a:pt x="151" y="251"/>
                  </a:lnTo>
                  <a:lnTo>
                    <a:pt x="145" y="261"/>
                  </a:lnTo>
                  <a:lnTo>
                    <a:pt x="143" y="271"/>
                  </a:lnTo>
                  <a:lnTo>
                    <a:pt x="140" y="280"/>
                  </a:lnTo>
                  <a:lnTo>
                    <a:pt x="138" y="291"/>
                  </a:lnTo>
                  <a:lnTo>
                    <a:pt x="135" y="300"/>
                  </a:lnTo>
                  <a:lnTo>
                    <a:pt x="130" y="309"/>
                  </a:lnTo>
                  <a:lnTo>
                    <a:pt x="124" y="317"/>
                  </a:lnTo>
                  <a:lnTo>
                    <a:pt x="117" y="325"/>
                  </a:lnTo>
                  <a:lnTo>
                    <a:pt x="109" y="332"/>
                  </a:lnTo>
                  <a:lnTo>
                    <a:pt x="93" y="326"/>
                  </a:lnTo>
                  <a:lnTo>
                    <a:pt x="80" y="317"/>
                  </a:lnTo>
                  <a:lnTo>
                    <a:pt x="71" y="304"/>
                  </a:lnTo>
                  <a:lnTo>
                    <a:pt x="64" y="291"/>
                  </a:lnTo>
                  <a:lnTo>
                    <a:pt x="59" y="276"/>
                  </a:lnTo>
                  <a:lnTo>
                    <a:pt x="53" y="261"/>
                  </a:lnTo>
                  <a:lnTo>
                    <a:pt x="47" y="245"/>
                  </a:lnTo>
                  <a:lnTo>
                    <a:pt x="40" y="231"/>
                  </a:lnTo>
                  <a:lnTo>
                    <a:pt x="41" y="210"/>
                  </a:lnTo>
                  <a:lnTo>
                    <a:pt x="37" y="192"/>
                  </a:lnTo>
                  <a:lnTo>
                    <a:pt x="29" y="174"/>
                  </a:lnTo>
                  <a:lnTo>
                    <a:pt x="18" y="158"/>
                  </a:lnTo>
                  <a:lnTo>
                    <a:pt x="9" y="142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6" y="86"/>
                  </a:lnTo>
                  <a:lnTo>
                    <a:pt x="16" y="68"/>
                  </a:lnTo>
                  <a:lnTo>
                    <a:pt x="30" y="52"/>
                  </a:lnTo>
                  <a:lnTo>
                    <a:pt x="44" y="37"/>
                  </a:lnTo>
                  <a:lnTo>
                    <a:pt x="60" y="24"/>
                  </a:lnTo>
                  <a:lnTo>
                    <a:pt x="77" y="14"/>
                  </a:lnTo>
                  <a:lnTo>
                    <a:pt x="95" y="6"/>
                  </a:lnTo>
                  <a:lnTo>
                    <a:pt x="115" y="1"/>
                  </a:lnTo>
                  <a:lnTo>
                    <a:pt x="135" y="0"/>
                  </a:lnTo>
                  <a:lnTo>
                    <a:pt x="139" y="8"/>
                  </a:lnTo>
                  <a:lnTo>
                    <a:pt x="147" y="13"/>
                  </a:lnTo>
                  <a:lnTo>
                    <a:pt x="155" y="15"/>
                  </a:lnTo>
                  <a:lnTo>
                    <a:pt x="16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800" y="1664640"/>
              <a:ext cx="171360" cy="180360"/>
            </a:xfrm>
            <a:custGeom>
              <a:avLst/>
              <a:gdLst/>
              <a:ahLst/>
              <a:rect l="l" t="t" r="r" b="b"/>
              <a:pathLst>
                <a:path w="115" h="130">
                  <a:moveTo>
                    <a:pt x="112" y="66"/>
                  </a:moveTo>
                  <a:lnTo>
                    <a:pt x="101" y="79"/>
                  </a:lnTo>
                  <a:lnTo>
                    <a:pt x="87" y="89"/>
                  </a:lnTo>
                  <a:lnTo>
                    <a:pt x="73" y="97"/>
                  </a:lnTo>
                  <a:lnTo>
                    <a:pt x="59" y="104"/>
                  </a:lnTo>
                  <a:lnTo>
                    <a:pt x="44" y="110"/>
                  </a:lnTo>
                  <a:lnTo>
                    <a:pt x="29" y="117"/>
                  </a:lnTo>
                  <a:lnTo>
                    <a:pt x="14" y="122"/>
                  </a:lnTo>
                  <a:lnTo>
                    <a:pt x="0" y="130"/>
                  </a:lnTo>
                  <a:lnTo>
                    <a:pt x="12" y="113"/>
                  </a:lnTo>
                  <a:lnTo>
                    <a:pt x="24" y="97"/>
                  </a:lnTo>
                  <a:lnTo>
                    <a:pt x="37" y="80"/>
                  </a:lnTo>
                  <a:lnTo>
                    <a:pt x="51" y="64"/>
                  </a:lnTo>
                  <a:lnTo>
                    <a:pt x="65" y="47"/>
                  </a:lnTo>
                  <a:lnTo>
                    <a:pt x="80" y="31"/>
                  </a:lnTo>
                  <a:lnTo>
                    <a:pt x="96" y="16"/>
                  </a:lnTo>
                  <a:lnTo>
                    <a:pt x="112" y="0"/>
                  </a:lnTo>
                  <a:lnTo>
                    <a:pt x="113" y="16"/>
                  </a:lnTo>
                  <a:lnTo>
                    <a:pt x="115" y="32"/>
                  </a:lnTo>
                  <a:lnTo>
                    <a:pt x="115" y="50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7360" y="1664640"/>
              <a:ext cx="247680" cy="400680"/>
            </a:xfrm>
            <a:custGeom>
              <a:avLst/>
              <a:gdLst/>
              <a:ahLst/>
              <a:rect l="l" t="t" r="r" b="b"/>
              <a:pathLst>
                <a:path w="167" h="287">
                  <a:moveTo>
                    <a:pt x="159" y="45"/>
                  </a:moveTo>
                  <a:lnTo>
                    <a:pt x="157" y="66"/>
                  </a:lnTo>
                  <a:lnTo>
                    <a:pt x="159" y="89"/>
                  </a:lnTo>
                  <a:lnTo>
                    <a:pt x="163" y="112"/>
                  </a:lnTo>
                  <a:lnTo>
                    <a:pt x="166" y="136"/>
                  </a:lnTo>
                  <a:lnTo>
                    <a:pt x="167" y="158"/>
                  </a:lnTo>
                  <a:lnTo>
                    <a:pt x="162" y="178"/>
                  </a:lnTo>
                  <a:lnTo>
                    <a:pt x="147" y="193"/>
                  </a:lnTo>
                  <a:lnTo>
                    <a:pt x="121" y="203"/>
                  </a:lnTo>
                  <a:lnTo>
                    <a:pt x="113" y="212"/>
                  </a:lnTo>
                  <a:lnTo>
                    <a:pt x="109" y="224"/>
                  </a:lnTo>
                  <a:lnTo>
                    <a:pt x="105" y="235"/>
                  </a:lnTo>
                  <a:lnTo>
                    <a:pt x="102" y="247"/>
                  </a:lnTo>
                  <a:lnTo>
                    <a:pt x="98" y="258"/>
                  </a:lnTo>
                  <a:lnTo>
                    <a:pt x="94" y="270"/>
                  </a:lnTo>
                  <a:lnTo>
                    <a:pt x="87" y="279"/>
                  </a:lnTo>
                  <a:lnTo>
                    <a:pt x="78" y="287"/>
                  </a:lnTo>
                  <a:lnTo>
                    <a:pt x="64" y="269"/>
                  </a:lnTo>
                  <a:lnTo>
                    <a:pt x="53" y="247"/>
                  </a:lnTo>
                  <a:lnTo>
                    <a:pt x="46" y="225"/>
                  </a:lnTo>
                  <a:lnTo>
                    <a:pt x="41" y="202"/>
                  </a:lnTo>
                  <a:lnTo>
                    <a:pt x="35" y="179"/>
                  </a:lnTo>
                  <a:lnTo>
                    <a:pt x="28" y="156"/>
                  </a:lnTo>
                  <a:lnTo>
                    <a:pt x="19" y="134"/>
                  </a:lnTo>
                  <a:lnTo>
                    <a:pt x="6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3" y="84"/>
                  </a:lnTo>
                  <a:lnTo>
                    <a:pt x="6" y="75"/>
                  </a:lnTo>
                  <a:lnTo>
                    <a:pt x="12" y="67"/>
                  </a:lnTo>
                  <a:lnTo>
                    <a:pt x="19" y="58"/>
                  </a:lnTo>
                  <a:lnTo>
                    <a:pt x="25" y="50"/>
                  </a:lnTo>
                  <a:lnTo>
                    <a:pt x="31" y="42"/>
                  </a:lnTo>
                  <a:lnTo>
                    <a:pt x="41" y="35"/>
                  </a:lnTo>
                  <a:lnTo>
                    <a:pt x="50" y="27"/>
                  </a:lnTo>
                  <a:lnTo>
                    <a:pt x="58" y="20"/>
                  </a:lnTo>
                  <a:lnTo>
                    <a:pt x="68" y="13"/>
                  </a:lnTo>
                  <a:lnTo>
                    <a:pt x="78" y="7"/>
                  </a:lnTo>
                  <a:lnTo>
                    <a:pt x="88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8" y="4"/>
                  </a:lnTo>
                  <a:lnTo>
                    <a:pt x="125" y="8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3" y="26"/>
                  </a:lnTo>
                  <a:lnTo>
                    <a:pt x="149" y="32"/>
                  </a:lnTo>
                  <a:lnTo>
                    <a:pt x="154" y="39"/>
                  </a:lnTo>
                  <a:lnTo>
                    <a:pt x="159" y="45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1400" y="1809360"/>
              <a:ext cx="112320" cy="21132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76" y="11"/>
                  </a:moveTo>
                  <a:lnTo>
                    <a:pt x="75" y="30"/>
                  </a:lnTo>
                  <a:lnTo>
                    <a:pt x="69" y="46"/>
                  </a:lnTo>
                  <a:lnTo>
                    <a:pt x="61" y="60"/>
                  </a:lnTo>
                  <a:lnTo>
                    <a:pt x="53" y="75"/>
                  </a:lnTo>
                  <a:lnTo>
                    <a:pt x="51" y="94"/>
                  </a:lnTo>
                  <a:lnTo>
                    <a:pt x="50" y="114"/>
                  </a:lnTo>
                  <a:lnTo>
                    <a:pt x="47" y="134"/>
                  </a:lnTo>
                  <a:lnTo>
                    <a:pt x="43" y="152"/>
                  </a:lnTo>
                  <a:lnTo>
                    <a:pt x="32" y="143"/>
                  </a:lnTo>
                  <a:lnTo>
                    <a:pt x="26" y="131"/>
                  </a:lnTo>
                  <a:lnTo>
                    <a:pt x="22" y="119"/>
                  </a:lnTo>
                  <a:lnTo>
                    <a:pt x="18" y="105"/>
                  </a:lnTo>
                  <a:lnTo>
                    <a:pt x="15" y="91"/>
                  </a:lnTo>
                  <a:lnTo>
                    <a:pt x="12" y="77"/>
                  </a:lnTo>
                  <a:lnTo>
                    <a:pt x="7" y="63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5" y="26"/>
                  </a:lnTo>
                  <a:lnTo>
                    <a:pt x="12" y="15"/>
                  </a:lnTo>
                  <a:lnTo>
                    <a:pt x="22" y="8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4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080" y="1826280"/>
              <a:ext cx="97560" cy="10836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65" y="30"/>
                  </a:moveTo>
                  <a:lnTo>
                    <a:pt x="62" y="45"/>
                  </a:lnTo>
                  <a:lnTo>
                    <a:pt x="54" y="58"/>
                  </a:lnTo>
                  <a:lnTo>
                    <a:pt x="44" y="70"/>
                  </a:lnTo>
                  <a:lnTo>
                    <a:pt x="32" y="79"/>
                  </a:lnTo>
                  <a:lnTo>
                    <a:pt x="22" y="79"/>
                  </a:lnTo>
                  <a:lnTo>
                    <a:pt x="14" y="73"/>
                  </a:lnTo>
                  <a:lnTo>
                    <a:pt x="7" y="66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4" y="26"/>
                  </a:lnTo>
                  <a:lnTo>
                    <a:pt x="21" y="19"/>
                  </a:lnTo>
                  <a:lnTo>
                    <a:pt x="27" y="12"/>
                  </a:lnTo>
                  <a:lnTo>
                    <a:pt x="34" y="6"/>
                  </a:lnTo>
                  <a:lnTo>
                    <a:pt x="42" y="0"/>
                  </a:lnTo>
                  <a:lnTo>
                    <a:pt x="53" y="4"/>
                  </a:lnTo>
                  <a:lnTo>
                    <a:pt x="59" y="12"/>
                  </a:lnTo>
                  <a:lnTo>
                    <a:pt x="62" y="21"/>
                  </a:lnTo>
                  <a:lnTo>
                    <a:pt x="6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4960" y="1859400"/>
              <a:ext cx="53280" cy="529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4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1" y="3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7" y="33"/>
                  </a:lnTo>
                  <a:lnTo>
                    <a:pt x="3" y="31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73240" y="1890360"/>
              <a:ext cx="77040" cy="155880"/>
            </a:xfrm>
            <a:custGeom>
              <a:avLst/>
              <a:gdLst/>
              <a:ahLst/>
              <a:rect l="l" t="t" r="r" b="b"/>
              <a:pathLst>
                <a:path w="50" h="111">
                  <a:moveTo>
                    <a:pt x="33" y="93"/>
                  </a:moveTo>
                  <a:lnTo>
                    <a:pt x="24" y="95"/>
                  </a:lnTo>
                  <a:lnTo>
                    <a:pt x="16" y="100"/>
                  </a:lnTo>
                  <a:lnTo>
                    <a:pt x="8" y="104"/>
                  </a:lnTo>
                  <a:lnTo>
                    <a:pt x="0" y="111"/>
                  </a:lnTo>
                  <a:lnTo>
                    <a:pt x="3" y="101"/>
                  </a:lnTo>
                  <a:lnTo>
                    <a:pt x="7" y="89"/>
                  </a:lnTo>
                  <a:lnTo>
                    <a:pt x="11" y="79"/>
                  </a:lnTo>
                  <a:lnTo>
                    <a:pt x="16" y="68"/>
                  </a:lnTo>
                  <a:lnTo>
                    <a:pt x="22" y="56"/>
                  </a:lnTo>
                  <a:lnTo>
                    <a:pt x="27" y="45"/>
                  </a:lnTo>
                  <a:lnTo>
                    <a:pt x="32" y="34"/>
                  </a:lnTo>
                  <a:lnTo>
                    <a:pt x="38" y="23"/>
                  </a:lnTo>
                  <a:lnTo>
                    <a:pt x="50" y="0"/>
                  </a:lnTo>
                  <a:lnTo>
                    <a:pt x="48" y="23"/>
                  </a:lnTo>
                  <a:lnTo>
                    <a:pt x="48" y="48"/>
                  </a:lnTo>
                  <a:lnTo>
                    <a:pt x="45" y="72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95880" y="1901520"/>
              <a:ext cx="53280" cy="331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23"/>
                  </a:moveTo>
                  <a:lnTo>
                    <a:pt x="30" y="22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7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9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1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92560" y="1943280"/>
              <a:ext cx="35280" cy="439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4" y="27"/>
                  </a:moveTo>
                  <a:lnTo>
                    <a:pt x="19" y="31"/>
                  </a:lnTo>
                  <a:lnTo>
                    <a:pt x="14" y="30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2" y="0"/>
                  </a:lnTo>
                  <a:lnTo>
                    <a:pt x="12" y="1"/>
                  </a:lnTo>
                  <a:lnTo>
                    <a:pt x="17" y="9"/>
                  </a:lnTo>
                  <a:lnTo>
                    <a:pt x="20" y="18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680" y="2246400"/>
              <a:ext cx="351000" cy="637560"/>
            </a:xfrm>
            <a:custGeom>
              <a:avLst/>
              <a:gdLst/>
              <a:ahLst/>
              <a:rect l="l" t="t" r="r" b="b"/>
              <a:pathLst>
                <a:path w="239" h="458">
                  <a:moveTo>
                    <a:pt x="59" y="60"/>
                  </a:moveTo>
                  <a:lnTo>
                    <a:pt x="60" y="98"/>
                  </a:lnTo>
                  <a:lnTo>
                    <a:pt x="59" y="136"/>
                  </a:lnTo>
                  <a:lnTo>
                    <a:pt x="57" y="174"/>
                  </a:lnTo>
                  <a:lnTo>
                    <a:pt x="55" y="211"/>
                  </a:lnTo>
                  <a:lnTo>
                    <a:pt x="60" y="220"/>
                  </a:lnTo>
                  <a:lnTo>
                    <a:pt x="66" y="227"/>
                  </a:lnTo>
                  <a:lnTo>
                    <a:pt x="74" y="232"/>
                  </a:lnTo>
                  <a:lnTo>
                    <a:pt x="82" y="238"/>
                  </a:lnTo>
                  <a:lnTo>
                    <a:pt x="90" y="242"/>
                  </a:lnTo>
                  <a:lnTo>
                    <a:pt x="96" y="249"/>
                  </a:lnTo>
                  <a:lnTo>
                    <a:pt x="100" y="256"/>
                  </a:lnTo>
                  <a:lnTo>
                    <a:pt x="102" y="267"/>
                  </a:lnTo>
                  <a:lnTo>
                    <a:pt x="104" y="281"/>
                  </a:lnTo>
                  <a:lnTo>
                    <a:pt x="110" y="294"/>
                  </a:lnTo>
                  <a:lnTo>
                    <a:pt x="119" y="306"/>
                  </a:lnTo>
                  <a:lnTo>
                    <a:pt x="132" y="314"/>
                  </a:lnTo>
                  <a:lnTo>
                    <a:pt x="138" y="317"/>
                  </a:lnTo>
                  <a:lnTo>
                    <a:pt x="144" y="321"/>
                  </a:lnTo>
                  <a:lnTo>
                    <a:pt x="151" y="325"/>
                  </a:lnTo>
                  <a:lnTo>
                    <a:pt x="158" y="330"/>
                  </a:lnTo>
                  <a:lnTo>
                    <a:pt x="164" y="334"/>
                  </a:lnTo>
                  <a:lnTo>
                    <a:pt x="170" y="339"/>
                  </a:lnTo>
                  <a:lnTo>
                    <a:pt x="175" y="345"/>
                  </a:lnTo>
                  <a:lnTo>
                    <a:pt x="180" y="349"/>
                  </a:lnTo>
                  <a:lnTo>
                    <a:pt x="180" y="364"/>
                  </a:lnTo>
                  <a:lnTo>
                    <a:pt x="183" y="378"/>
                  </a:lnTo>
                  <a:lnTo>
                    <a:pt x="189" y="390"/>
                  </a:lnTo>
                  <a:lnTo>
                    <a:pt x="198" y="401"/>
                  </a:lnTo>
                  <a:lnTo>
                    <a:pt x="208" y="412"/>
                  </a:lnTo>
                  <a:lnTo>
                    <a:pt x="219" y="422"/>
                  </a:lnTo>
                  <a:lnTo>
                    <a:pt x="229" y="432"/>
                  </a:lnTo>
                  <a:lnTo>
                    <a:pt x="239" y="443"/>
                  </a:lnTo>
                  <a:lnTo>
                    <a:pt x="220" y="452"/>
                  </a:lnTo>
                  <a:lnTo>
                    <a:pt x="202" y="457"/>
                  </a:lnTo>
                  <a:lnTo>
                    <a:pt x="181" y="458"/>
                  </a:lnTo>
                  <a:lnTo>
                    <a:pt x="161" y="454"/>
                  </a:lnTo>
                  <a:lnTo>
                    <a:pt x="141" y="451"/>
                  </a:lnTo>
                  <a:lnTo>
                    <a:pt x="120" y="445"/>
                  </a:lnTo>
                  <a:lnTo>
                    <a:pt x="102" y="442"/>
                  </a:lnTo>
                  <a:lnTo>
                    <a:pt x="83" y="438"/>
                  </a:lnTo>
                  <a:lnTo>
                    <a:pt x="72" y="416"/>
                  </a:lnTo>
                  <a:lnTo>
                    <a:pt x="62" y="393"/>
                  </a:lnTo>
                  <a:lnTo>
                    <a:pt x="53" y="369"/>
                  </a:lnTo>
                  <a:lnTo>
                    <a:pt x="46" y="345"/>
                  </a:lnTo>
                  <a:lnTo>
                    <a:pt x="39" y="321"/>
                  </a:lnTo>
                  <a:lnTo>
                    <a:pt x="32" y="296"/>
                  </a:lnTo>
                  <a:lnTo>
                    <a:pt x="24" y="272"/>
                  </a:lnTo>
                  <a:lnTo>
                    <a:pt x="17" y="248"/>
                  </a:lnTo>
                  <a:lnTo>
                    <a:pt x="7" y="193"/>
                  </a:lnTo>
                  <a:lnTo>
                    <a:pt x="1" y="134"/>
                  </a:lnTo>
                  <a:lnTo>
                    <a:pt x="0" y="75"/>
                  </a:lnTo>
                  <a:lnTo>
                    <a:pt x="2" y="17"/>
                  </a:lnTo>
                  <a:lnTo>
                    <a:pt x="9" y="0"/>
                  </a:lnTo>
                  <a:lnTo>
                    <a:pt x="19" y="5"/>
                  </a:lnTo>
                  <a:lnTo>
                    <a:pt x="27" y="11"/>
                  </a:lnTo>
                  <a:lnTo>
                    <a:pt x="34" y="18"/>
                  </a:lnTo>
                  <a:lnTo>
                    <a:pt x="40" y="26"/>
                  </a:lnTo>
                  <a:lnTo>
                    <a:pt x="46" y="34"/>
                  </a:lnTo>
                  <a:lnTo>
                    <a:pt x="52" y="43"/>
                  </a:lnTo>
                  <a:lnTo>
                    <a:pt x="55" y="51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6000" y="2277360"/>
              <a:ext cx="40680" cy="33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7" y="23"/>
                  </a:moveTo>
                  <a:lnTo>
                    <a:pt x="21" y="25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5"/>
                  </a:lnTo>
                  <a:lnTo>
                    <a:pt x="16" y="10"/>
                  </a:lnTo>
                  <a:lnTo>
                    <a:pt x="21" y="16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4080" y="2413800"/>
              <a:ext cx="227880" cy="21456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68" y="14"/>
                  </a:moveTo>
                  <a:lnTo>
                    <a:pt x="74" y="25"/>
                  </a:lnTo>
                  <a:lnTo>
                    <a:pt x="82" y="32"/>
                  </a:lnTo>
                  <a:lnTo>
                    <a:pt x="91" y="36"/>
                  </a:lnTo>
                  <a:lnTo>
                    <a:pt x="103" y="38"/>
                  </a:lnTo>
                  <a:lnTo>
                    <a:pt x="114" y="40"/>
                  </a:lnTo>
                  <a:lnTo>
                    <a:pt x="125" y="43"/>
                  </a:lnTo>
                  <a:lnTo>
                    <a:pt x="134" y="48"/>
                  </a:lnTo>
                  <a:lnTo>
                    <a:pt x="141" y="58"/>
                  </a:lnTo>
                  <a:lnTo>
                    <a:pt x="142" y="73"/>
                  </a:lnTo>
                  <a:lnTo>
                    <a:pt x="144" y="88"/>
                  </a:lnTo>
                  <a:lnTo>
                    <a:pt x="148" y="101"/>
                  </a:lnTo>
                  <a:lnTo>
                    <a:pt x="154" y="114"/>
                  </a:lnTo>
                  <a:lnTo>
                    <a:pt x="143" y="118"/>
                  </a:lnTo>
                  <a:lnTo>
                    <a:pt x="131" y="121"/>
                  </a:lnTo>
                  <a:lnTo>
                    <a:pt x="121" y="124"/>
                  </a:lnTo>
                  <a:lnTo>
                    <a:pt x="111" y="129"/>
                  </a:lnTo>
                  <a:lnTo>
                    <a:pt x="100" y="135"/>
                  </a:lnTo>
                  <a:lnTo>
                    <a:pt x="90" y="141"/>
                  </a:lnTo>
                  <a:lnTo>
                    <a:pt x="80" y="148"/>
                  </a:lnTo>
                  <a:lnTo>
                    <a:pt x="70" y="154"/>
                  </a:lnTo>
                  <a:lnTo>
                    <a:pt x="57" y="148"/>
                  </a:lnTo>
                  <a:lnTo>
                    <a:pt x="48" y="138"/>
                  </a:lnTo>
                  <a:lnTo>
                    <a:pt x="45" y="129"/>
                  </a:lnTo>
                  <a:lnTo>
                    <a:pt x="44" y="118"/>
                  </a:lnTo>
                  <a:lnTo>
                    <a:pt x="44" y="107"/>
                  </a:lnTo>
                  <a:lnTo>
                    <a:pt x="43" y="96"/>
                  </a:lnTo>
                  <a:lnTo>
                    <a:pt x="39" y="84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8" y="63"/>
                  </a:lnTo>
                  <a:lnTo>
                    <a:pt x="13" y="58"/>
                  </a:lnTo>
                  <a:lnTo>
                    <a:pt x="7" y="53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9" y="12"/>
                  </a:lnTo>
                  <a:lnTo>
                    <a:pt x="12" y="6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040" y="2647440"/>
              <a:ext cx="32760" cy="30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13"/>
                  </a:moveTo>
                  <a:lnTo>
                    <a:pt x="20" y="21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9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05200" y="2692080"/>
              <a:ext cx="218880" cy="328320"/>
            </a:xfrm>
            <a:custGeom>
              <a:avLst/>
              <a:gdLst/>
              <a:ahLst/>
              <a:rect l="l" t="t" r="r" b="b"/>
              <a:pathLst>
                <a:path w="147" h="236">
                  <a:moveTo>
                    <a:pt x="21" y="236"/>
                  </a:moveTo>
                  <a:lnTo>
                    <a:pt x="13" y="228"/>
                  </a:lnTo>
                  <a:lnTo>
                    <a:pt x="7" y="216"/>
                  </a:lnTo>
                  <a:lnTo>
                    <a:pt x="3" y="205"/>
                  </a:lnTo>
                  <a:lnTo>
                    <a:pt x="0" y="193"/>
                  </a:lnTo>
                  <a:lnTo>
                    <a:pt x="105" y="31"/>
                  </a:lnTo>
                  <a:lnTo>
                    <a:pt x="109" y="27"/>
                  </a:lnTo>
                  <a:lnTo>
                    <a:pt x="115" y="24"/>
                  </a:lnTo>
                  <a:lnTo>
                    <a:pt x="121" y="21"/>
                  </a:lnTo>
                  <a:lnTo>
                    <a:pt x="127" y="18"/>
                  </a:lnTo>
                  <a:lnTo>
                    <a:pt x="132" y="14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47" y="0"/>
                  </a:lnTo>
                  <a:lnTo>
                    <a:pt x="138" y="32"/>
                  </a:lnTo>
                  <a:lnTo>
                    <a:pt x="127" y="63"/>
                  </a:lnTo>
                  <a:lnTo>
                    <a:pt x="113" y="94"/>
                  </a:lnTo>
                  <a:lnTo>
                    <a:pt x="98" y="123"/>
                  </a:lnTo>
                  <a:lnTo>
                    <a:pt x="81" y="152"/>
                  </a:lnTo>
                  <a:lnTo>
                    <a:pt x="61" y="180"/>
                  </a:lnTo>
                  <a:lnTo>
                    <a:pt x="41" y="208"/>
                  </a:lnTo>
                  <a:lnTo>
                    <a:pt x="21" y="23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2760" y="2700360"/>
              <a:ext cx="32040" cy="33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22" y="14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0" y="0"/>
                  </a:lnTo>
                  <a:lnTo>
                    <a:pt x="18" y="1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47080" y="2809080"/>
              <a:ext cx="120600" cy="159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76" y="53"/>
                  </a:moveTo>
                  <a:lnTo>
                    <a:pt x="78" y="68"/>
                  </a:lnTo>
                  <a:lnTo>
                    <a:pt x="80" y="84"/>
                  </a:lnTo>
                  <a:lnTo>
                    <a:pt x="82" y="99"/>
                  </a:lnTo>
                  <a:lnTo>
                    <a:pt x="83" y="114"/>
                  </a:lnTo>
                  <a:lnTo>
                    <a:pt x="73" y="114"/>
                  </a:lnTo>
                  <a:lnTo>
                    <a:pt x="66" y="106"/>
                  </a:lnTo>
                  <a:lnTo>
                    <a:pt x="60" y="94"/>
                  </a:lnTo>
                  <a:lnTo>
                    <a:pt x="54" y="87"/>
                  </a:lnTo>
                  <a:lnTo>
                    <a:pt x="47" y="84"/>
                  </a:lnTo>
                  <a:lnTo>
                    <a:pt x="42" y="80"/>
                  </a:lnTo>
                  <a:lnTo>
                    <a:pt x="36" y="76"/>
                  </a:lnTo>
                  <a:lnTo>
                    <a:pt x="31" y="71"/>
                  </a:lnTo>
                  <a:lnTo>
                    <a:pt x="27" y="66"/>
                  </a:lnTo>
                  <a:lnTo>
                    <a:pt x="22" y="63"/>
                  </a:lnTo>
                  <a:lnTo>
                    <a:pt x="17" y="60"/>
                  </a:lnTo>
                  <a:lnTo>
                    <a:pt x="12" y="57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4" y="0"/>
                  </a:lnTo>
                  <a:lnTo>
                    <a:pt x="24" y="2"/>
                  </a:lnTo>
                  <a:lnTo>
                    <a:pt x="33" y="8"/>
                  </a:lnTo>
                  <a:lnTo>
                    <a:pt x="42" y="15"/>
                  </a:lnTo>
                  <a:lnTo>
                    <a:pt x="47" y="23"/>
                  </a:lnTo>
                  <a:lnTo>
                    <a:pt x="54" y="31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2400" y="2812320"/>
              <a:ext cx="52920" cy="47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8"/>
                  </a:moveTo>
                  <a:lnTo>
                    <a:pt x="29" y="16"/>
                  </a:lnTo>
                  <a:lnTo>
                    <a:pt x="27" y="26"/>
                  </a:lnTo>
                  <a:lnTo>
                    <a:pt x="22" y="33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6" y="24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73360" y="2836800"/>
              <a:ext cx="79560" cy="10008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8" y="44"/>
                  </a:moveTo>
                  <a:lnTo>
                    <a:pt x="49" y="50"/>
                  </a:lnTo>
                  <a:lnTo>
                    <a:pt x="52" y="59"/>
                  </a:lnTo>
                  <a:lnTo>
                    <a:pt x="54" y="68"/>
                  </a:lnTo>
                  <a:lnTo>
                    <a:pt x="53" y="73"/>
                  </a:lnTo>
                  <a:lnTo>
                    <a:pt x="48" y="64"/>
                  </a:lnTo>
                  <a:lnTo>
                    <a:pt x="39" y="54"/>
                  </a:lnTo>
                  <a:lnTo>
                    <a:pt x="29" y="46"/>
                  </a:lnTo>
                  <a:lnTo>
                    <a:pt x="20" y="38"/>
                  </a:lnTo>
                  <a:lnTo>
                    <a:pt x="11" y="29"/>
                  </a:lnTo>
                  <a:lnTo>
                    <a:pt x="4" y="20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4"/>
                  </a:lnTo>
                  <a:lnTo>
                    <a:pt x="42" y="39"/>
                  </a:lnTo>
                  <a:lnTo>
                    <a:pt x="48" y="4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2880" y="2953800"/>
              <a:ext cx="38520" cy="50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4" y="25"/>
                  </a:moveTo>
                  <a:lnTo>
                    <a:pt x="14" y="35"/>
                  </a:lnTo>
                  <a:lnTo>
                    <a:pt x="7" y="34"/>
                  </a:lnTo>
                  <a:lnTo>
                    <a:pt x="2" y="26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3" y="5"/>
                  </a:lnTo>
                  <a:lnTo>
                    <a:pt x="25" y="12"/>
                  </a:lnTo>
                  <a:lnTo>
                    <a:pt x="27" y="19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120" y="2987280"/>
              <a:ext cx="84960" cy="4464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59" y="8"/>
                  </a:moveTo>
                  <a:lnTo>
                    <a:pt x="54" y="15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1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17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3" y="28"/>
                  </a:lnTo>
                  <a:lnTo>
                    <a:pt x="0" y="27"/>
                  </a:lnTo>
                  <a:lnTo>
                    <a:pt x="7" y="26"/>
                  </a:lnTo>
                  <a:lnTo>
                    <a:pt x="16" y="23"/>
                  </a:lnTo>
                  <a:lnTo>
                    <a:pt x="2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987280"/>
              <a:ext cx="20520" cy="8064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3" y="57"/>
                  </a:moveTo>
                  <a:lnTo>
                    <a:pt x="8" y="49"/>
                  </a:lnTo>
                  <a:lnTo>
                    <a:pt x="2" y="40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0"/>
                  </a:lnTo>
                  <a:lnTo>
                    <a:pt x="9" y="13"/>
                  </a:lnTo>
                  <a:lnTo>
                    <a:pt x="14" y="28"/>
                  </a:lnTo>
                  <a:lnTo>
                    <a:pt x="15" y="43"/>
                  </a:lnTo>
                  <a:lnTo>
                    <a:pt x="1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73160" y="2987280"/>
              <a:ext cx="43920" cy="748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38"/>
                  </a:moveTo>
                  <a:lnTo>
                    <a:pt x="12" y="54"/>
                  </a:lnTo>
                  <a:lnTo>
                    <a:pt x="8" y="39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16" y="20"/>
                  </a:lnTo>
                  <a:lnTo>
                    <a:pt x="22" y="30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3720" y="3048480"/>
              <a:ext cx="487800" cy="295200"/>
            </a:xfrm>
            <a:custGeom>
              <a:avLst/>
              <a:gdLst/>
              <a:ahLst/>
              <a:rect l="l" t="t" r="r" b="b"/>
              <a:pathLst>
                <a:path w="330" h="212">
                  <a:moveTo>
                    <a:pt x="100" y="11"/>
                  </a:moveTo>
                  <a:lnTo>
                    <a:pt x="112" y="16"/>
                  </a:lnTo>
                  <a:lnTo>
                    <a:pt x="135" y="18"/>
                  </a:lnTo>
                  <a:lnTo>
                    <a:pt x="157" y="16"/>
                  </a:lnTo>
                  <a:lnTo>
                    <a:pt x="180" y="16"/>
                  </a:lnTo>
                  <a:lnTo>
                    <a:pt x="203" y="16"/>
                  </a:lnTo>
                  <a:lnTo>
                    <a:pt x="225" y="18"/>
                  </a:lnTo>
                  <a:lnTo>
                    <a:pt x="247" y="21"/>
                  </a:lnTo>
                  <a:lnTo>
                    <a:pt x="268" y="27"/>
                  </a:lnTo>
                  <a:lnTo>
                    <a:pt x="287" y="36"/>
                  </a:lnTo>
                  <a:lnTo>
                    <a:pt x="295" y="41"/>
                  </a:lnTo>
                  <a:lnTo>
                    <a:pt x="305" y="45"/>
                  </a:lnTo>
                  <a:lnTo>
                    <a:pt x="312" y="50"/>
                  </a:lnTo>
                  <a:lnTo>
                    <a:pt x="313" y="57"/>
                  </a:lnTo>
                  <a:lnTo>
                    <a:pt x="307" y="72"/>
                  </a:lnTo>
                  <a:lnTo>
                    <a:pt x="307" y="88"/>
                  </a:lnTo>
                  <a:lnTo>
                    <a:pt x="310" y="104"/>
                  </a:lnTo>
                  <a:lnTo>
                    <a:pt x="317" y="118"/>
                  </a:lnTo>
                  <a:lnTo>
                    <a:pt x="330" y="125"/>
                  </a:lnTo>
                  <a:lnTo>
                    <a:pt x="330" y="135"/>
                  </a:lnTo>
                  <a:lnTo>
                    <a:pt x="327" y="148"/>
                  </a:lnTo>
                  <a:lnTo>
                    <a:pt x="325" y="160"/>
                  </a:lnTo>
                  <a:lnTo>
                    <a:pt x="325" y="202"/>
                  </a:lnTo>
                  <a:lnTo>
                    <a:pt x="320" y="203"/>
                  </a:lnTo>
                  <a:lnTo>
                    <a:pt x="315" y="205"/>
                  </a:lnTo>
                  <a:lnTo>
                    <a:pt x="309" y="206"/>
                  </a:lnTo>
                  <a:lnTo>
                    <a:pt x="305" y="209"/>
                  </a:lnTo>
                  <a:lnTo>
                    <a:pt x="300" y="210"/>
                  </a:lnTo>
                  <a:lnTo>
                    <a:pt x="294" y="211"/>
                  </a:lnTo>
                  <a:lnTo>
                    <a:pt x="290" y="212"/>
                  </a:lnTo>
                  <a:lnTo>
                    <a:pt x="284" y="212"/>
                  </a:lnTo>
                  <a:lnTo>
                    <a:pt x="279" y="202"/>
                  </a:lnTo>
                  <a:lnTo>
                    <a:pt x="275" y="192"/>
                  </a:lnTo>
                  <a:lnTo>
                    <a:pt x="272" y="181"/>
                  </a:lnTo>
                  <a:lnTo>
                    <a:pt x="277" y="171"/>
                  </a:lnTo>
                  <a:lnTo>
                    <a:pt x="285" y="162"/>
                  </a:lnTo>
                  <a:lnTo>
                    <a:pt x="291" y="151"/>
                  </a:lnTo>
                  <a:lnTo>
                    <a:pt x="294" y="141"/>
                  </a:lnTo>
                  <a:lnTo>
                    <a:pt x="292" y="128"/>
                  </a:lnTo>
                  <a:lnTo>
                    <a:pt x="286" y="115"/>
                  </a:lnTo>
                  <a:lnTo>
                    <a:pt x="277" y="107"/>
                  </a:lnTo>
                  <a:lnTo>
                    <a:pt x="266" y="103"/>
                  </a:lnTo>
                  <a:lnTo>
                    <a:pt x="253" y="99"/>
                  </a:lnTo>
                  <a:lnTo>
                    <a:pt x="240" y="97"/>
                  </a:lnTo>
                  <a:lnTo>
                    <a:pt x="229" y="94"/>
                  </a:lnTo>
                  <a:lnTo>
                    <a:pt x="218" y="87"/>
                  </a:lnTo>
                  <a:lnTo>
                    <a:pt x="210" y="75"/>
                  </a:lnTo>
                  <a:lnTo>
                    <a:pt x="189" y="68"/>
                  </a:lnTo>
                  <a:lnTo>
                    <a:pt x="168" y="69"/>
                  </a:lnTo>
                  <a:lnTo>
                    <a:pt x="143" y="73"/>
                  </a:lnTo>
                  <a:lnTo>
                    <a:pt x="120" y="79"/>
                  </a:lnTo>
                  <a:lnTo>
                    <a:pt x="98" y="82"/>
                  </a:lnTo>
                  <a:lnTo>
                    <a:pt x="79" y="80"/>
                  </a:lnTo>
                  <a:lnTo>
                    <a:pt x="62" y="71"/>
                  </a:lnTo>
                  <a:lnTo>
                    <a:pt x="48" y="49"/>
                  </a:lnTo>
                  <a:lnTo>
                    <a:pt x="42" y="43"/>
                  </a:lnTo>
                  <a:lnTo>
                    <a:pt x="36" y="38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7" y="4"/>
                  </a:lnTo>
                  <a:lnTo>
                    <a:pt x="34" y="6"/>
                  </a:lnTo>
                  <a:lnTo>
                    <a:pt x="41" y="9"/>
                  </a:lnTo>
                  <a:lnTo>
                    <a:pt x="48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2240" y="3098880"/>
              <a:ext cx="540720" cy="270000"/>
            </a:xfrm>
            <a:custGeom>
              <a:avLst/>
              <a:gdLst/>
              <a:ahLst/>
              <a:rect l="l" t="t" r="r" b="b"/>
              <a:pathLst>
                <a:path w="364" h="195">
                  <a:moveTo>
                    <a:pt x="160" y="62"/>
                  </a:moveTo>
                  <a:lnTo>
                    <a:pt x="176" y="67"/>
                  </a:lnTo>
                  <a:lnTo>
                    <a:pt x="191" y="69"/>
                  </a:lnTo>
                  <a:lnTo>
                    <a:pt x="207" y="68"/>
                  </a:lnTo>
                  <a:lnTo>
                    <a:pt x="222" y="66"/>
                  </a:lnTo>
                  <a:lnTo>
                    <a:pt x="239" y="61"/>
                  </a:lnTo>
                  <a:lnTo>
                    <a:pt x="254" y="58"/>
                  </a:lnTo>
                  <a:lnTo>
                    <a:pt x="270" y="54"/>
                  </a:lnTo>
                  <a:lnTo>
                    <a:pt x="285" y="52"/>
                  </a:lnTo>
                  <a:lnTo>
                    <a:pt x="294" y="57"/>
                  </a:lnTo>
                  <a:lnTo>
                    <a:pt x="303" y="63"/>
                  </a:lnTo>
                  <a:lnTo>
                    <a:pt x="311" y="69"/>
                  </a:lnTo>
                  <a:lnTo>
                    <a:pt x="320" y="76"/>
                  </a:lnTo>
                  <a:lnTo>
                    <a:pt x="331" y="82"/>
                  </a:lnTo>
                  <a:lnTo>
                    <a:pt x="341" y="87"/>
                  </a:lnTo>
                  <a:lnTo>
                    <a:pt x="351" y="89"/>
                  </a:lnTo>
                  <a:lnTo>
                    <a:pt x="363" y="90"/>
                  </a:lnTo>
                  <a:lnTo>
                    <a:pt x="364" y="100"/>
                  </a:lnTo>
                  <a:lnTo>
                    <a:pt x="358" y="108"/>
                  </a:lnTo>
                  <a:lnTo>
                    <a:pt x="350" y="116"/>
                  </a:lnTo>
                  <a:lnTo>
                    <a:pt x="346" y="126"/>
                  </a:lnTo>
                  <a:lnTo>
                    <a:pt x="343" y="141"/>
                  </a:lnTo>
                  <a:lnTo>
                    <a:pt x="345" y="155"/>
                  </a:lnTo>
                  <a:lnTo>
                    <a:pt x="350" y="168"/>
                  </a:lnTo>
                  <a:lnTo>
                    <a:pt x="360" y="180"/>
                  </a:lnTo>
                  <a:lnTo>
                    <a:pt x="339" y="184"/>
                  </a:lnTo>
                  <a:lnTo>
                    <a:pt x="318" y="188"/>
                  </a:lnTo>
                  <a:lnTo>
                    <a:pt x="297" y="191"/>
                  </a:lnTo>
                  <a:lnTo>
                    <a:pt x="275" y="194"/>
                  </a:lnTo>
                  <a:lnTo>
                    <a:pt x="254" y="195"/>
                  </a:lnTo>
                  <a:lnTo>
                    <a:pt x="232" y="195"/>
                  </a:lnTo>
                  <a:lnTo>
                    <a:pt x="210" y="194"/>
                  </a:lnTo>
                  <a:lnTo>
                    <a:pt x="188" y="193"/>
                  </a:lnTo>
                  <a:lnTo>
                    <a:pt x="166" y="191"/>
                  </a:lnTo>
                  <a:lnTo>
                    <a:pt x="144" y="188"/>
                  </a:lnTo>
                  <a:lnTo>
                    <a:pt x="122" y="184"/>
                  </a:lnTo>
                  <a:lnTo>
                    <a:pt x="101" y="181"/>
                  </a:lnTo>
                  <a:lnTo>
                    <a:pt x="81" y="176"/>
                  </a:lnTo>
                  <a:lnTo>
                    <a:pt x="60" y="171"/>
                  </a:lnTo>
                  <a:lnTo>
                    <a:pt x="40" y="165"/>
                  </a:lnTo>
                  <a:lnTo>
                    <a:pt x="21" y="159"/>
                  </a:lnTo>
                  <a:lnTo>
                    <a:pt x="17" y="136"/>
                  </a:lnTo>
                  <a:lnTo>
                    <a:pt x="11" y="114"/>
                  </a:lnTo>
                  <a:lnTo>
                    <a:pt x="5" y="92"/>
                  </a:lnTo>
                  <a:lnTo>
                    <a:pt x="0" y="70"/>
                  </a:lnTo>
                  <a:lnTo>
                    <a:pt x="13" y="68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6" y="46"/>
                  </a:lnTo>
                  <a:lnTo>
                    <a:pt x="55" y="36"/>
                  </a:lnTo>
                  <a:lnTo>
                    <a:pt x="63" y="24"/>
                  </a:lnTo>
                  <a:lnTo>
                    <a:pt x="71" y="14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5"/>
                  </a:lnTo>
                  <a:lnTo>
                    <a:pt x="107" y="6"/>
                  </a:lnTo>
                  <a:lnTo>
                    <a:pt x="112" y="8"/>
                  </a:lnTo>
                  <a:lnTo>
                    <a:pt x="116" y="9"/>
                  </a:lnTo>
                  <a:lnTo>
                    <a:pt x="123" y="15"/>
                  </a:lnTo>
                  <a:lnTo>
                    <a:pt x="128" y="23"/>
                  </a:lnTo>
                  <a:lnTo>
                    <a:pt x="132" y="31"/>
                  </a:lnTo>
                  <a:lnTo>
                    <a:pt x="136" y="39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1" y="59"/>
                  </a:lnTo>
                  <a:lnTo>
                    <a:pt x="160" y="62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7000" y="3109680"/>
              <a:ext cx="106560" cy="15084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71" y="0"/>
                  </a:moveTo>
                  <a:lnTo>
                    <a:pt x="69" y="27"/>
                  </a:lnTo>
                  <a:lnTo>
                    <a:pt x="65" y="54"/>
                  </a:lnTo>
                  <a:lnTo>
                    <a:pt x="62" y="81"/>
                  </a:lnTo>
                  <a:lnTo>
                    <a:pt x="59" y="108"/>
                  </a:lnTo>
                  <a:lnTo>
                    <a:pt x="47" y="97"/>
                  </a:lnTo>
                  <a:lnTo>
                    <a:pt x="37" y="85"/>
                  </a:lnTo>
                  <a:lnTo>
                    <a:pt x="26" y="73"/>
                  </a:lnTo>
                  <a:lnTo>
                    <a:pt x="17" y="60"/>
                  </a:lnTo>
                  <a:lnTo>
                    <a:pt x="10" y="46"/>
                  </a:lnTo>
                  <a:lnTo>
                    <a:pt x="4" y="32"/>
                  </a:lnTo>
                  <a:lnTo>
                    <a:pt x="1" y="18"/>
                  </a:lnTo>
                  <a:lnTo>
                    <a:pt x="0" y="5"/>
                  </a:lnTo>
                  <a:lnTo>
                    <a:pt x="9" y="3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7960" y="3120840"/>
              <a:ext cx="20520" cy="63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42"/>
                  </a:moveTo>
                  <a:lnTo>
                    <a:pt x="10" y="46"/>
                  </a:lnTo>
                  <a:lnTo>
                    <a:pt x="6" y="37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5" y="7"/>
                  </a:lnTo>
                  <a:lnTo>
                    <a:pt x="3" y="0"/>
                  </a:lnTo>
                  <a:lnTo>
                    <a:pt x="11" y="8"/>
                  </a:lnTo>
                  <a:lnTo>
                    <a:pt x="14" y="19"/>
                  </a:lnTo>
                  <a:lnTo>
                    <a:pt x="15" y="31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6600" y="3227040"/>
              <a:ext cx="11880" cy="4716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1" y="28"/>
                  </a:lnTo>
                  <a:lnTo>
                    <a:pt x="0" y="20"/>
                  </a:lnTo>
                  <a:lnTo>
                    <a:pt x="1" y="9"/>
                  </a:lnTo>
                  <a:lnTo>
                    <a:pt x="4" y="0"/>
                  </a:lnTo>
                  <a:lnTo>
                    <a:pt x="7" y="8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3800" y="2004480"/>
              <a:ext cx="842400" cy="846000"/>
            </a:xfrm>
            <a:custGeom>
              <a:avLst/>
              <a:gdLst/>
              <a:ahLst/>
              <a:rect l="l" t="t" r="r" b="b"/>
              <a:pathLst>
                <a:path w="571" h="608">
                  <a:moveTo>
                    <a:pt x="568" y="299"/>
                  </a:moveTo>
                  <a:lnTo>
                    <a:pt x="566" y="278"/>
                  </a:lnTo>
                  <a:lnTo>
                    <a:pt x="565" y="252"/>
                  </a:lnTo>
                  <a:lnTo>
                    <a:pt x="566" y="230"/>
                  </a:lnTo>
                  <a:lnTo>
                    <a:pt x="566" y="219"/>
                  </a:lnTo>
                  <a:lnTo>
                    <a:pt x="565" y="218"/>
                  </a:lnTo>
                  <a:lnTo>
                    <a:pt x="562" y="215"/>
                  </a:lnTo>
                  <a:lnTo>
                    <a:pt x="557" y="211"/>
                  </a:lnTo>
                  <a:lnTo>
                    <a:pt x="551" y="207"/>
                  </a:lnTo>
                  <a:lnTo>
                    <a:pt x="544" y="202"/>
                  </a:lnTo>
                  <a:lnTo>
                    <a:pt x="537" y="200"/>
                  </a:lnTo>
                  <a:lnTo>
                    <a:pt x="530" y="197"/>
                  </a:lnTo>
                  <a:lnTo>
                    <a:pt x="524" y="199"/>
                  </a:lnTo>
                  <a:lnTo>
                    <a:pt x="524" y="194"/>
                  </a:lnTo>
                  <a:lnTo>
                    <a:pt x="524" y="182"/>
                  </a:lnTo>
                  <a:lnTo>
                    <a:pt x="524" y="167"/>
                  </a:lnTo>
                  <a:lnTo>
                    <a:pt x="526" y="152"/>
                  </a:lnTo>
                  <a:lnTo>
                    <a:pt x="525" y="132"/>
                  </a:lnTo>
                  <a:lnTo>
                    <a:pt x="522" y="127"/>
                  </a:lnTo>
                  <a:lnTo>
                    <a:pt x="520" y="121"/>
                  </a:lnTo>
                  <a:lnTo>
                    <a:pt x="517" y="117"/>
                  </a:lnTo>
                  <a:lnTo>
                    <a:pt x="512" y="113"/>
                  </a:lnTo>
                  <a:lnTo>
                    <a:pt x="506" y="110"/>
                  </a:lnTo>
                  <a:lnTo>
                    <a:pt x="500" y="108"/>
                  </a:lnTo>
                  <a:lnTo>
                    <a:pt x="495" y="108"/>
                  </a:lnTo>
                  <a:lnTo>
                    <a:pt x="488" y="108"/>
                  </a:lnTo>
                  <a:lnTo>
                    <a:pt x="482" y="109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67" y="120"/>
                  </a:lnTo>
                  <a:lnTo>
                    <a:pt x="461" y="127"/>
                  </a:lnTo>
                  <a:lnTo>
                    <a:pt x="447" y="148"/>
                  </a:lnTo>
                  <a:lnTo>
                    <a:pt x="426" y="178"/>
                  </a:lnTo>
                  <a:lnTo>
                    <a:pt x="399" y="215"/>
                  </a:lnTo>
                  <a:lnTo>
                    <a:pt x="369" y="256"/>
                  </a:lnTo>
                  <a:lnTo>
                    <a:pt x="339" y="298"/>
                  </a:lnTo>
                  <a:lnTo>
                    <a:pt x="310" y="338"/>
                  </a:lnTo>
                  <a:lnTo>
                    <a:pt x="285" y="373"/>
                  </a:lnTo>
                  <a:lnTo>
                    <a:pt x="277" y="383"/>
                  </a:lnTo>
                  <a:lnTo>
                    <a:pt x="269" y="394"/>
                  </a:lnTo>
                  <a:lnTo>
                    <a:pt x="260" y="405"/>
                  </a:lnTo>
                  <a:lnTo>
                    <a:pt x="252" y="415"/>
                  </a:lnTo>
                  <a:lnTo>
                    <a:pt x="242" y="424"/>
                  </a:lnTo>
                  <a:lnTo>
                    <a:pt x="234" y="435"/>
                  </a:lnTo>
                  <a:lnTo>
                    <a:pt x="225" y="445"/>
                  </a:lnTo>
                  <a:lnTo>
                    <a:pt x="216" y="454"/>
                  </a:lnTo>
                  <a:lnTo>
                    <a:pt x="222" y="442"/>
                  </a:lnTo>
                  <a:lnTo>
                    <a:pt x="231" y="422"/>
                  </a:lnTo>
                  <a:lnTo>
                    <a:pt x="242" y="397"/>
                  </a:lnTo>
                  <a:lnTo>
                    <a:pt x="257" y="368"/>
                  </a:lnTo>
                  <a:lnTo>
                    <a:pt x="273" y="336"/>
                  </a:lnTo>
                  <a:lnTo>
                    <a:pt x="291" y="300"/>
                  </a:lnTo>
                  <a:lnTo>
                    <a:pt x="308" y="264"/>
                  </a:lnTo>
                  <a:lnTo>
                    <a:pt x="326" y="227"/>
                  </a:lnTo>
                  <a:lnTo>
                    <a:pt x="345" y="192"/>
                  </a:lnTo>
                  <a:lnTo>
                    <a:pt x="362" y="157"/>
                  </a:lnTo>
                  <a:lnTo>
                    <a:pt x="378" y="125"/>
                  </a:lnTo>
                  <a:lnTo>
                    <a:pt x="392" y="97"/>
                  </a:lnTo>
                  <a:lnTo>
                    <a:pt x="404" y="73"/>
                  </a:lnTo>
                  <a:lnTo>
                    <a:pt x="413" y="56"/>
                  </a:lnTo>
                  <a:lnTo>
                    <a:pt x="419" y="44"/>
                  </a:lnTo>
                  <a:lnTo>
                    <a:pt x="421" y="40"/>
                  </a:lnTo>
                  <a:lnTo>
                    <a:pt x="421" y="27"/>
                  </a:lnTo>
                  <a:lnTo>
                    <a:pt x="417" y="17"/>
                  </a:lnTo>
                  <a:lnTo>
                    <a:pt x="409" y="7"/>
                  </a:lnTo>
                  <a:lnTo>
                    <a:pt x="399" y="2"/>
                  </a:lnTo>
                  <a:lnTo>
                    <a:pt x="393" y="0"/>
                  </a:lnTo>
                  <a:lnTo>
                    <a:pt x="386" y="3"/>
                  </a:lnTo>
                  <a:lnTo>
                    <a:pt x="379" y="6"/>
                  </a:lnTo>
                  <a:lnTo>
                    <a:pt x="374" y="11"/>
                  </a:lnTo>
                  <a:lnTo>
                    <a:pt x="368" y="15"/>
                  </a:lnTo>
                  <a:lnTo>
                    <a:pt x="363" y="19"/>
                  </a:lnTo>
                  <a:lnTo>
                    <a:pt x="360" y="22"/>
                  </a:lnTo>
                  <a:lnTo>
                    <a:pt x="359" y="23"/>
                  </a:lnTo>
                  <a:lnTo>
                    <a:pt x="359" y="23"/>
                  </a:lnTo>
                  <a:lnTo>
                    <a:pt x="359" y="25"/>
                  </a:lnTo>
                  <a:lnTo>
                    <a:pt x="344" y="53"/>
                  </a:lnTo>
                  <a:lnTo>
                    <a:pt x="329" y="82"/>
                  </a:lnTo>
                  <a:lnTo>
                    <a:pt x="315" y="111"/>
                  </a:lnTo>
                  <a:lnTo>
                    <a:pt x="300" y="140"/>
                  </a:lnTo>
                  <a:lnTo>
                    <a:pt x="286" y="169"/>
                  </a:lnTo>
                  <a:lnTo>
                    <a:pt x="271" y="197"/>
                  </a:lnTo>
                  <a:lnTo>
                    <a:pt x="255" y="226"/>
                  </a:lnTo>
                  <a:lnTo>
                    <a:pt x="239" y="255"/>
                  </a:lnTo>
                  <a:lnTo>
                    <a:pt x="226" y="270"/>
                  </a:lnTo>
                  <a:lnTo>
                    <a:pt x="212" y="286"/>
                  </a:lnTo>
                  <a:lnTo>
                    <a:pt x="200" y="301"/>
                  </a:lnTo>
                  <a:lnTo>
                    <a:pt x="186" y="316"/>
                  </a:lnTo>
                  <a:lnTo>
                    <a:pt x="173" y="331"/>
                  </a:lnTo>
                  <a:lnTo>
                    <a:pt x="159" y="346"/>
                  </a:lnTo>
                  <a:lnTo>
                    <a:pt x="147" y="362"/>
                  </a:lnTo>
                  <a:lnTo>
                    <a:pt x="134" y="377"/>
                  </a:lnTo>
                  <a:lnTo>
                    <a:pt x="135" y="370"/>
                  </a:lnTo>
                  <a:lnTo>
                    <a:pt x="136" y="356"/>
                  </a:lnTo>
                  <a:lnTo>
                    <a:pt x="135" y="340"/>
                  </a:lnTo>
                  <a:lnTo>
                    <a:pt x="131" y="329"/>
                  </a:lnTo>
                  <a:lnTo>
                    <a:pt x="125" y="325"/>
                  </a:lnTo>
                  <a:lnTo>
                    <a:pt x="119" y="323"/>
                  </a:lnTo>
                  <a:lnTo>
                    <a:pt x="113" y="322"/>
                  </a:lnTo>
                  <a:lnTo>
                    <a:pt x="107" y="322"/>
                  </a:lnTo>
                  <a:lnTo>
                    <a:pt x="102" y="323"/>
                  </a:lnTo>
                  <a:lnTo>
                    <a:pt x="96" y="324"/>
                  </a:lnTo>
                  <a:lnTo>
                    <a:pt x="90" y="328"/>
                  </a:lnTo>
                  <a:lnTo>
                    <a:pt x="86" y="332"/>
                  </a:lnTo>
                  <a:lnTo>
                    <a:pt x="82" y="337"/>
                  </a:lnTo>
                  <a:lnTo>
                    <a:pt x="74" y="347"/>
                  </a:lnTo>
                  <a:lnTo>
                    <a:pt x="65" y="359"/>
                  </a:lnTo>
                  <a:lnTo>
                    <a:pt x="58" y="368"/>
                  </a:lnTo>
                  <a:lnTo>
                    <a:pt x="53" y="362"/>
                  </a:lnTo>
                  <a:lnTo>
                    <a:pt x="48" y="359"/>
                  </a:lnTo>
                  <a:lnTo>
                    <a:pt x="41" y="356"/>
                  </a:lnTo>
                  <a:lnTo>
                    <a:pt x="33" y="355"/>
                  </a:lnTo>
                  <a:lnTo>
                    <a:pt x="20" y="358"/>
                  </a:lnTo>
                  <a:lnTo>
                    <a:pt x="10" y="364"/>
                  </a:lnTo>
                  <a:lnTo>
                    <a:pt x="3" y="375"/>
                  </a:lnTo>
                  <a:lnTo>
                    <a:pt x="0" y="388"/>
                  </a:lnTo>
                  <a:lnTo>
                    <a:pt x="0" y="407"/>
                  </a:lnTo>
                  <a:lnTo>
                    <a:pt x="0" y="428"/>
                  </a:lnTo>
                  <a:lnTo>
                    <a:pt x="0" y="449"/>
                  </a:lnTo>
                  <a:lnTo>
                    <a:pt x="0" y="468"/>
                  </a:lnTo>
                  <a:lnTo>
                    <a:pt x="3" y="474"/>
                  </a:lnTo>
                  <a:lnTo>
                    <a:pt x="7" y="488"/>
                  </a:lnTo>
                  <a:lnTo>
                    <a:pt x="15" y="503"/>
                  </a:lnTo>
                  <a:lnTo>
                    <a:pt x="24" y="511"/>
                  </a:lnTo>
                  <a:lnTo>
                    <a:pt x="24" y="513"/>
                  </a:lnTo>
                  <a:lnTo>
                    <a:pt x="24" y="518"/>
                  </a:lnTo>
                  <a:lnTo>
                    <a:pt x="24" y="523"/>
                  </a:lnTo>
                  <a:lnTo>
                    <a:pt x="24" y="527"/>
                  </a:lnTo>
                  <a:lnTo>
                    <a:pt x="27" y="533"/>
                  </a:lnTo>
                  <a:lnTo>
                    <a:pt x="29" y="538"/>
                  </a:lnTo>
                  <a:lnTo>
                    <a:pt x="33" y="543"/>
                  </a:lnTo>
                  <a:lnTo>
                    <a:pt x="38" y="548"/>
                  </a:lnTo>
                  <a:lnTo>
                    <a:pt x="43" y="551"/>
                  </a:lnTo>
                  <a:lnTo>
                    <a:pt x="49" y="552"/>
                  </a:lnTo>
                  <a:lnTo>
                    <a:pt x="54" y="553"/>
                  </a:lnTo>
                  <a:lnTo>
                    <a:pt x="61" y="553"/>
                  </a:lnTo>
                  <a:lnTo>
                    <a:pt x="64" y="551"/>
                  </a:lnTo>
                  <a:lnTo>
                    <a:pt x="71" y="545"/>
                  </a:lnTo>
                  <a:lnTo>
                    <a:pt x="80" y="536"/>
                  </a:lnTo>
                  <a:lnTo>
                    <a:pt x="91" y="526"/>
                  </a:lnTo>
                  <a:lnTo>
                    <a:pt x="104" y="514"/>
                  </a:lnTo>
                  <a:lnTo>
                    <a:pt x="116" y="503"/>
                  </a:lnTo>
                  <a:lnTo>
                    <a:pt x="126" y="492"/>
                  </a:lnTo>
                  <a:lnTo>
                    <a:pt x="134" y="483"/>
                  </a:lnTo>
                  <a:lnTo>
                    <a:pt x="131" y="492"/>
                  </a:lnTo>
                  <a:lnTo>
                    <a:pt x="126" y="502"/>
                  </a:lnTo>
                  <a:lnTo>
                    <a:pt x="121" y="511"/>
                  </a:lnTo>
                  <a:lnTo>
                    <a:pt x="118" y="520"/>
                  </a:lnTo>
                  <a:lnTo>
                    <a:pt x="113" y="529"/>
                  </a:lnTo>
                  <a:lnTo>
                    <a:pt x="109" y="538"/>
                  </a:lnTo>
                  <a:lnTo>
                    <a:pt x="103" y="548"/>
                  </a:lnTo>
                  <a:lnTo>
                    <a:pt x="98" y="557"/>
                  </a:lnTo>
                  <a:lnTo>
                    <a:pt x="99" y="565"/>
                  </a:lnTo>
                  <a:lnTo>
                    <a:pt x="103" y="582"/>
                  </a:lnTo>
                  <a:lnTo>
                    <a:pt x="111" y="599"/>
                  </a:lnTo>
                  <a:lnTo>
                    <a:pt x="121" y="608"/>
                  </a:lnTo>
                  <a:lnTo>
                    <a:pt x="157" y="601"/>
                  </a:lnTo>
                  <a:lnTo>
                    <a:pt x="179" y="582"/>
                  </a:lnTo>
                  <a:lnTo>
                    <a:pt x="200" y="564"/>
                  </a:lnTo>
                  <a:lnTo>
                    <a:pt x="220" y="544"/>
                  </a:lnTo>
                  <a:lnTo>
                    <a:pt x="240" y="523"/>
                  </a:lnTo>
                  <a:lnTo>
                    <a:pt x="258" y="503"/>
                  </a:lnTo>
                  <a:lnTo>
                    <a:pt x="277" y="482"/>
                  </a:lnTo>
                  <a:lnTo>
                    <a:pt x="294" y="460"/>
                  </a:lnTo>
                  <a:lnTo>
                    <a:pt x="311" y="438"/>
                  </a:lnTo>
                  <a:lnTo>
                    <a:pt x="329" y="416"/>
                  </a:lnTo>
                  <a:lnTo>
                    <a:pt x="345" y="393"/>
                  </a:lnTo>
                  <a:lnTo>
                    <a:pt x="362" y="370"/>
                  </a:lnTo>
                  <a:lnTo>
                    <a:pt x="378" y="346"/>
                  </a:lnTo>
                  <a:lnTo>
                    <a:pt x="394" y="322"/>
                  </a:lnTo>
                  <a:lnTo>
                    <a:pt x="411" y="298"/>
                  </a:lnTo>
                  <a:lnTo>
                    <a:pt x="427" y="273"/>
                  </a:lnTo>
                  <a:lnTo>
                    <a:pt x="444" y="249"/>
                  </a:lnTo>
                  <a:lnTo>
                    <a:pt x="447" y="257"/>
                  </a:lnTo>
                  <a:lnTo>
                    <a:pt x="454" y="271"/>
                  </a:lnTo>
                  <a:lnTo>
                    <a:pt x="460" y="285"/>
                  </a:lnTo>
                  <a:lnTo>
                    <a:pt x="464" y="292"/>
                  </a:lnTo>
                  <a:lnTo>
                    <a:pt x="468" y="293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87" y="293"/>
                  </a:lnTo>
                  <a:lnTo>
                    <a:pt x="492" y="292"/>
                  </a:lnTo>
                  <a:lnTo>
                    <a:pt x="498" y="291"/>
                  </a:lnTo>
                  <a:lnTo>
                    <a:pt x="502" y="290"/>
                  </a:lnTo>
                  <a:lnTo>
                    <a:pt x="503" y="290"/>
                  </a:lnTo>
                  <a:lnTo>
                    <a:pt x="504" y="295"/>
                  </a:lnTo>
                  <a:lnTo>
                    <a:pt x="507" y="303"/>
                  </a:lnTo>
                  <a:lnTo>
                    <a:pt x="513" y="311"/>
                  </a:lnTo>
                  <a:lnTo>
                    <a:pt x="520" y="322"/>
                  </a:lnTo>
                  <a:lnTo>
                    <a:pt x="528" y="330"/>
                  </a:lnTo>
                  <a:lnTo>
                    <a:pt x="536" y="337"/>
                  </a:lnTo>
                  <a:lnTo>
                    <a:pt x="543" y="340"/>
                  </a:lnTo>
                  <a:lnTo>
                    <a:pt x="550" y="340"/>
                  </a:lnTo>
                  <a:lnTo>
                    <a:pt x="562" y="333"/>
                  </a:lnTo>
                  <a:lnTo>
                    <a:pt x="568" y="324"/>
                  </a:lnTo>
                  <a:lnTo>
                    <a:pt x="571" y="311"/>
                  </a:lnTo>
                  <a:lnTo>
                    <a:pt x="568" y="29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8920" y="2525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and Energy (e=mc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Cloud"/>
          <p:cNvSpPr/>
          <p:nvPr/>
        </p:nvSpPr>
        <p:spPr>
          <a:xfrm>
            <a:off x="5310360" y="4195800"/>
            <a:ext cx="2743200" cy="18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1040" y="1317600"/>
            <a:ext cx="3506760" cy="3363480"/>
            <a:chOff x="581040" y="1317600"/>
            <a:chExt cx="3506760" cy="3363480"/>
          </a:xfrm>
        </p:grpSpPr>
        <p:sp>
          <p:nvSpPr>
            <p:cNvPr id="253" name=""/>
            <p:cNvSpPr/>
            <p:nvPr/>
          </p:nvSpPr>
          <p:spPr>
            <a:xfrm>
              <a:off x="3522600" y="1701720"/>
              <a:ext cx="525600" cy="1039320"/>
            </a:xfrm>
            <a:custGeom>
              <a:avLst/>
              <a:gdLst/>
              <a:ahLst/>
              <a:rect l="l" t="t" r="r" b="b"/>
              <a:pathLst>
                <a:path w="664" h="1310">
                  <a:moveTo>
                    <a:pt x="21" y="0"/>
                  </a:moveTo>
                  <a:lnTo>
                    <a:pt x="101" y="45"/>
                  </a:lnTo>
                  <a:lnTo>
                    <a:pt x="105" y="203"/>
                  </a:lnTo>
                  <a:lnTo>
                    <a:pt x="536" y="376"/>
                  </a:lnTo>
                  <a:lnTo>
                    <a:pt x="536" y="1219"/>
                  </a:lnTo>
                  <a:lnTo>
                    <a:pt x="658" y="1232"/>
                  </a:lnTo>
                  <a:lnTo>
                    <a:pt x="664" y="1310"/>
                  </a:lnTo>
                  <a:lnTo>
                    <a:pt x="434" y="1291"/>
                  </a:lnTo>
                  <a:lnTo>
                    <a:pt x="0" y="20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0760" y="1552320"/>
              <a:ext cx="762120" cy="1265040"/>
            </a:xfrm>
            <a:custGeom>
              <a:avLst/>
              <a:gdLst/>
              <a:ahLst/>
              <a:rect l="l" t="t" r="r" b="b"/>
              <a:pathLst>
                <a:path w="960" h="1593">
                  <a:moveTo>
                    <a:pt x="960" y="1580"/>
                  </a:moveTo>
                  <a:lnTo>
                    <a:pt x="955" y="1464"/>
                  </a:lnTo>
                  <a:lnTo>
                    <a:pt x="782" y="1456"/>
                  </a:lnTo>
                  <a:lnTo>
                    <a:pt x="782" y="591"/>
                  </a:lnTo>
                  <a:lnTo>
                    <a:pt x="341" y="427"/>
                  </a:lnTo>
                  <a:lnTo>
                    <a:pt x="341" y="201"/>
                  </a:lnTo>
                  <a:lnTo>
                    <a:pt x="0" y="0"/>
                  </a:lnTo>
                  <a:lnTo>
                    <a:pt x="4" y="194"/>
                  </a:lnTo>
                  <a:lnTo>
                    <a:pt x="686" y="1593"/>
                  </a:lnTo>
                  <a:lnTo>
                    <a:pt x="960" y="1580"/>
                  </a:lnTo>
                  <a:lnTo>
                    <a:pt x="960" y="158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2720" y="1527120"/>
              <a:ext cx="838080" cy="1504440"/>
            </a:xfrm>
            <a:custGeom>
              <a:avLst/>
              <a:gdLst/>
              <a:ahLst/>
              <a:rect l="l" t="t" r="r" b="b"/>
              <a:pathLst>
                <a:path w="1055" h="1896">
                  <a:moveTo>
                    <a:pt x="1055" y="1732"/>
                  </a:moveTo>
                  <a:lnTo>
                    <a:pt x="1045" y="1599"/>
                  </a:lnTo>
                  <a:lnTo>
                    <a:pt x="800" y="1590"/>
                  </a:lnTo>
                  <a:lnTo>
                    <a:pt x="800" y="689"/>
                  </a:lnTo>
                  <a:lnTo>
                    <a:pt x="353" y="517"/>
                  </a:lnTo>
                  <a:lnTo>
                    <a:pt x="353" y="251"/>
                  </a:lnTo>
                  <a:lnTo>
                    <a:pt x="99" y="116"/>
                  </a:lnTo>
                  <a:lnTo>
                    <a:pt x="95" y="35"/>
                  </a:lnTo>
                  <a:lnTo>
                    <a:pt x="40" y="0"/>
                  </a:lnTo>
                  <a:lnTo>
                    <a:pt x="0" y="55"/>
                  </a:lnTo>
                  <a:lnTo>
                    <a:pt x="129" y="1099"/>
                  </a:lnTo>
                  <a:lnTo>
                    <a:pt x="663" y="1896"/>
                  </a:lnTo>
                  <a:lnTo>
                    <a:pt x="1055" y="1732"/>
                  </a:lnTo>
                  <a:lnTo>
                    <a:pt x="1055" y="1732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3400" y="1495080"/>
              <a:ext cx="895320" cy="1623600"/>
            </a:xfrm>
            <a:custGeom>
              <a:avLst/>
              <a:gdLst/>
              <a:ahLst/>
              <a:rect l="l" t="t" r="r" b="b"/>
              <a:pathLst>
                <a:path w="1127" h="2046">
                  <a:moveTo>
                    <a:pt x="1127" y="1896"/>
                  </a:moveTo>
                  <a:lnTo>
                    <a:pt x="1116" y="1734"/>
                  </a:lnTo>
                  <a:lnTo>
                    <a:pt x="795" y="1721"/>
                  </a:lnTo>
                  <a:lnTo>
                    <a:pt x="795" y="778"/>
                  </a:lnTo>
                  <a:lnTo>
                    <a:pt x="344" y="601"/>
                  </a:lnTo>
                  <a:lnTo>
                    <a:pt x="344" y="316"/>
                  </a:lnTo>
                  <a:lnTo>
                    <a:pt x="103" y="198"/>
                  </a:lnTo>
                  <a:lnTo>
                    <a:pt x="103" y="40"/>
                  </a:lnTo>
                  <a:lnTo>
                    <a:pt x="38" y="0"/>
                  </a:lnTo>
                  <a:lnTo>
                    <a:pt x="0" y="301"/>
                  </a:lnTo>
                  <a:lnTo>
                    <a:pt x="610" y="2046"/>
                  </a:lnTo>
                  <a:lnTo>
                    <a:pt x="1127" y="1896"/>
                  </a:lnTo>
                  <a:lnTo>
                    <a:pt x="1127" y="189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1040" y="2427120"/>
              <a:ext cx="3506760" cy="2253960"/>
            </a:xfrm>
            <a:custGeom>
              <a:avLst/>
              <a:gdLst/>
              <a:ahLst/>
              <a:rect l="l" t="t" r="r" b="b"/>
              <a:pathLst>
                <a:path w="4418" h="2841">
                  <a:moveTo>
                    <a:pt x="0" y="2122"/>
                  </a:moveTo>
                  <a:lnTo>
                    <a:pt x="1909" y="2841"/>
                  </a:lnTo>
                  <a:lnTo>
                    <a:pt x="4418" y="1044"/>
                  </a:lnTo>
                  <a:lnTo>
                    <a:pt x="4388" y="668"/>
                  </a:lnTo>
                  <a:lnTo>
                    <a:pt x="2958" y="613"/>
                  </a:lnTo>
                  <a:lnTo>
                    <a:pt x="2044" y="0"/>
                  </a:lnTo>
                  <a:lnTo>
                    <a:pt x="1213" y="499"/>
                  </a:lnTo>
                  <a:lnTo>
                    <a:pt x="11" y="1936"/>
                  </a:lnTo>
                  <a:lnTo>
                    <a:pt x="0" y="212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8760" y="3641400"/>
              <a:ext cx="2246400" cy="541080"/>
            </a:xfrm>
            <a:custGeom>
              <a:avLst/>
              <a:gdLst/>
              <a:ahLst/>
              <a:rect l="l" t="t" r="r" b="b"/>
              <a:pathLst>
                <a:path w="2828" h="683">
                  <a:moveTo>
                    <a:pt x="2828" y="222"/>
                  </a:moveTo>
                  <a:lnTo>
                    <a:pt x="1842" y="350"/>
                  </a:lnTo>
                  <a:lnTo>
                    <a:pt x="1393" y="184"/>
                  </a:lnTo>
                  <a:lnTo>
                    <a:pt x="1068" y="245"/>
                  </a:lnTo>
                  <a:lnTo>
                    <a:pt x="587" y="122"/>
                  </a:lnTo>
                  <a:lnTo>
                    <a:pt x="442" y="8"/>
                  </a:lnTo>
                  <a:lnTo>
                    <a:pt x="30" y="0"/>
                  </a:lnTo>
                  <a:lnTo>
                    <a:pt x="0" y="215"/>
                  </a:lnTo>
                  <a:lnTo>
                    <a:pt x="2009" y="683"/>
                  </a:lnTo>
                  <a:lnTo>
                    <a:pt x="2541" y="424"/>
                  </a:lnTo>
                  <a:lnTo>
                    <a:pt x="2828" y="222"/>
                  </a:lnTo>
                  <a:lnTo>
                    <a:pt x="2828" y="222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0400" y="3722400"/>
              <a:ext cx="2260800" cy="544320"/>
            </a:xfrm>
            <a:custGeom>
              <a:avLst/>
              <a:gdLst/>
              <a:ahLst/>
              <a:rect l="l" t="t" r="r" b="b"/>
              <a:pathLst>
                <a:path w="2847" h="684">
                  <a:moveTo>
                    <a:pt x="2452" y="568"/>
                  </a:moveTo>
                  <a:lnTo>
                    <a:pt x="2847" y="285"/>
                  </a:lnTo>
                  <a:lnTo>
                    <a:pt x="2093" y="407"/>
                  </a:lnTo>
                  <a:lnTo>
                    <a:pt x="1674" y="222"/>
                  </a:lnTo>
                  <a:lnTo>
                    <a:pt x="1344" y="285"/>
                  </a:lnTo>
                  <a:lnTo>
                    <a:pt x="830" y="127"/>
                  </a:lnTo>
                  <a:lnTo>
                    <a:pt x="690" y="0"/>
                  </a:lnTo>
                  <a:lnTo>
                    <a:pt x="78" y="0"/>
                  </a:lnTo>
                  <a:lnTo>
                    <a:pt x="0" y="167"/>
                  </a:lnTo>
                  <a:lnTo>
                    <a:pt x="2024" y="684"/>
                  </a:lnTo>
                  <a:lnTo>
                    <a:pt x="2452" y="568"/>
                  </a:lnTo>
                  <a:lnTo>
                    <a:pt x="2452" y="568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240" y="3798720"/>
              <a:ext cx="2079720" cy="542520"/>
            </a:xfrm>
            <a:custGeom>
              <a:avLst/>
              <a:gdLst/>
              <a:ahLst/>
              <a:rect l="l" t="t" r="r" b="b"/>
              <a:pathLst>
                <a:path w="2620" h="684">
                  <a:moveTo>
                    <a:pt x="2620" y="418"/>
                  </a:moveTo>
                  <a:lnTo>
                    <a:pt x="2152" y="473"/>
                  </a:lnTo>
                  <a:lnTo>
                    <a:pt x="1774" y="275"/>
                  </a:lnTo>
                  <a:lnTo>
                    <a:pt x="1410" y="344"/>
                  </a:lnTo>
                  <a:lnTo>
                    <a:pt x="901" y="146"/>
                  </a:lnTo>
                  <a:lnTo>
                    <a:pt x="772" y="0"/>
                  </a:lnTo>
                  <a:lnTo>
                    <a:pt x="74" y="0"/>
                  </a:lnTo>
                  <a:lnTo>
                    <a:pt x="0" y="110"/>
                  </a:lnTo>
                  <a:lnTo>
                    <a:pt x="660" y="207"/>
                  </a:lnTo>
                  <a:lnTo>
                    <a:pt x="1198" y="536"/>
                  </a:lnTo>
                  <a:lnTo>
                    <a:pt x="2243" y="684"/>
                  </a:lnTo>
                  <a:lnTo>
                    <a:pt x="2620" y="418"/>
                  </a:lnTo>
                  <a:lnTo>
                    <a:pt x="2620" y="418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9440" y="3852720"/>
              <a:ext cx="2049480" cy="632880"/>
            </a:xfrm>
            <a:custGeom>
              <a:avLst/>
              <a:gdLst/>
              <a:ahLst/>
              <a:rect l="l" t="t" r="r" b="b"/>
              <a:pathLst>
                <a:path w="2582" h="799">
                  <a:moveTo>
                    <a:pt x="0" y="91"/>
                  </a:moveTo>
                  <a:lnTo>
                    <a:pt x="782" y="215"/>
                  </a:lnTo>
                  <a:lnTo>
                    <a:pt x="1337" y="620"/>
                  </a:lnTo>
                  <a:lnTo>
                    <a:pt x="1732" y="584"/>
                  </a:lnTo>
                  <a:lnTo>
                    <a:pt x="2177" y="799"/>
                  </a:lnTo>
                  <a:lnTo>
                    <a:pt x="2582" y="517"/>
                  </a:lnTo>
                  <a:lnTo>
                    <a:pt x="2287" y="521"/>
                  </a:lnTo>
                  <a:lnTo>
                    <a:pt x="1928" y="377"/>
                  </a:lnTo>
                  <a:lnTo>
                    <a:pt x="1540" y="386"/>
                  </a:lnTo>
                  <a:lnTo>
                    <a:pt x="1018" y="158"/>
                  </a:lnTo>
                  <a:lnTo>
                    <a:pt x="968" y="42"/>
                  </a:lnTo>
                  <a:lnTo>
                    <a:pt x="185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4520" y="1317600"/>
              <a:ext cx="260280" cy="301320"/>
            </a:xfrm>
            <a:custGeom>
              <a:avLst/>
              <a:gdLst/>
              <a:ahLst/>
              <a:rect l="l" t="t" r="r" b="b"/>
              <a:pathLst>
                <a:path w="329" h="380">
                  <a:moveTo>
                    <a:pt x="28" y="97"/>
                  </a:moveTo>
                  <a:lnTo>
                    <a:pt x="268" y="0"/>
                  </a:lnTo>
                  <a:lnTo>
                    <a:pt x="329" y="87"/>
                  </a:lnTo>
                  <a:lnTo>
                    <a:pt x="276" y="340"/>
                  </a:lnTo>
                  <a:lnTo>
                    <a:pt x="0" y="380"/>
                  </a:lnTo>
                  <a:lnTo>
                    <a:pt x="28" y="97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4960" y="1387080"/>
              <a:ext cx="300240" cy="279360"/>
            </a:xfrm>
            <a:custGeom>
              <a:avLst/>
              <a:gdLst/>
              <a:ahLst/>
              <a:rect l="l" t="t" r="r" b="b"/>
              <a:pathLst>
                <a:path w="379" h="352">
                  <a:moveTo>
                    <a:pt x="14" y="56"/>
                  </a:moveTo>
                  <a:lnTo>
                    <a:pt x="154" y="0"/>
                  </a:lnTo>
                  <a:lnTo>
                    <a:pt x="154" y="270"/>
                  </a:lnTo>
                  <a:lnTo>
                    <a:pt x="379" y="215"/>
                  </a:lnTo>
                  <a:lnTo>
                    <a:pt x="375" y="278"/>
                  </a:lnTo>
                  <a:lnTo>
                    <a:pt x="0" y="352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1427040"/>
              <a:ext cx="342720" cy="285120"/>
            </a:xfrm>
            <a:custGeom>
              <a:avLst/>
              <a:gdLst/>
              <a:ahLst/>
              <a:rect l="l" t="t" r="r" b="b"/>
              <a:pathLst>
                <a:path w="434" h="359">
                  <a:moveTo>
                    <a:pt x="0" y="26"/>
                  </a:moveTo>
                  <a:lnTo>
                    <a:pt x="0" y="359"/>
                  </a:lnTo>
                  <a:lnTo>
                    <a:pt x="434" y="245"/>
                  </a:lnTo>
                  <a:lnTo>
                    <a:pt x="430" y="199"/>
                  </a:lnTo>
                  <a:lnTo>
                    <a:pt x="65" y="279"/>
                  </a:lnTo>
                  <a:lnTo>
                    <a:pt x="6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2480" y="1373040"/>
              <a:ext cx="285840" cy="350280"/>
            </a:xfrm>
            <a:custGeom>
              <a:avLst/>
              <a:gdLst/>
              <a:ahLst/>
              <a:rect l="l" t="t" r="r" b="b"/>
              <a:pathLst>
                <a:path w="360" h="441">
                  <a:moveTo>
                    <a:pt x="360" y="200"/>
                  </a:moveTo>
                  <a:lnTo>
                    <a:pt x="354" y="441"/>
                  </a:lnTo>
                  <a:lnTo>
                    <a:pt x="350" y="438"/>
                  </a:lnTo>
                  <a:lnTo>
                    <a:pt x="339" y="436"/>
                  </a:lnTo>
                  <a:lnTo>
                    <a:pt x="322" y="428"/>
                  </a:lnTo>
                  <a:lnTo>
                    <a:pt x="299" y="421"/>
                  </a:lnTo>
                  <a:lnTo>
                    <a:pt x="272" y="409"/>
                  </a:lnTo>
                  <a:lnTo>
                    <a:pt x="244" y="398"/>
                  </a:lnTo>
                  <a:lnTo>
                    <a:pt x="211" y="386"/>
                  </a:lnTo>
                  <a:lnTo>
                    <a:pt x="179" y="375"/>
                  </a:lnTo>
                  <a:lnTo>
                    <a:pt x="145" y="362"/>
                  </a:lnTo>
                  <a:lnTo>
                    <a:pt x="113" y="350"/>
                  </a:lnTo>
                  <a:lnTo>
                    <a:pt x="82" y="341"/>
                  </a:lnTo>
                  <a:lnTo>
                    <a:pt x="55" y="331"/>
                  </a:lnTo>
                  <a:lnTo>
                    <a:pt x="33" y="322"/>
                  </a:lnTo>
                  <a:lnTo>
                    <a:pt x="16" y="316"/>
                  </a:lnTo>
                  <a:lnTo>
                    <a:pt x="4" y="310"/>
                  </a:lnTo>
                  <a:lnTo>
                    <a:pt x="0" y="310"/>
                  </a:lnTo>
                  <a:lnTo>
                    <a:pt x="29" y="0"/>
                  </a:lnTo>
                  <a:lnTo>
                    <a:pt x="360" y="200"/>
                  </a:lnTo>
                  <a:lnTo>
                    <a:pt x="360" y="200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7280" y="1320480"/>
              <a:ext cx="311040" cy="311040"/>
            </a:xfrm>
            <a:custGeom>
              <a:avLst/>
              <a:gdLst/>
              <a:ahLst/>
              <a:rect l="l" t="t" r="r" b="b"/>
              <a:pathLst>
                <a:path w="392" h="391">
                  <a:moveTo>
                    <a:pt x="0" y="391"/>
                  </a:moveTo>
                  <a:lnTo>
                    <a:pt x="0" y="0"/>
                  </a:lnTo>
                  <a:lnTo>
                    <a:pt x="392" y="224"/>
                  </a:lnTo>
                  <a:lnTo>
                    <a:pt x="392" y="298"/>
                  </a:lnTo>
                  <a:lnTo>
                    <a:pt x="78" y="142"/>
                  </a:lnTo>
                  <a:lnTo>
                    <a:pt x="70" y="376"/>
                  </a:lnTo>
                  <a:lnTo>
                    <a:pt x="0" y="391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9160" y="1663560"/>
              <a:ext cx="314280" cy="380520"/>
            </a:xfrm>
            <a:custGeom>
              <a:avLst/>
              <a:gdLst/>
              <a:ahLst/>
              <a:rect l="l" t="t" r="r" b="b"/>
              <a:pathLst>
                <a:path w="398" h="481">
                  <a:moveTo>
                    <a:pt x="398" y="219"/>
                  </a:moveTo>
                  <a:lnTo>
                    <a:pt x="398" y="481"/>
                  </a:lnTo>
                  <a:lnTo>
                    <a:pt x="0" y="343"/>
                  </a:lnTo>
                  <a:lnTo>
                    <a:pt x="14" y="0"/>
                  </a:lnTo>
                  <a:lnTo>
                    <a:pt x="398" y="219"/>
                  </a:lnTo>
                  <a:lnTo>
                    <a:pt x="398" y="21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6080" y="1612800"/>
              <a:ext cx="387360" cy="352080"/>
            </a:xfrm>
            <a:custGeom>
              <a:avLst/>
              <a:gdLst/>
              <a:ahLst/>
              <a:rect l="l" t="t" r="r" b="b"/>
              <a:pathLst>
                <a:path w="489" h="443">
                  <a:moveTo>
                    <a:pt x="126" y="429"/>
                  </a:moveTo>
                  <a:lnTo>
                    <a:pt x="126" y="102"/>
                  </a:lnTo>
                  <a:lnTo>
                    <a:pt x="489" y="281"/>
                  </a:lnTo>
                  <a:lnTo>
                    <a:pt x="489" y="239"/>
                  </a:lnTo>
                  <a:lnTo>
                    <a:pt x="0" y="0"/>
                  </a:lnTo>
                  <a:lnTo>
                    <a:pt x="6" y="443"/>
                  </a:lnTo>
                  <a:lnTo>
                    <a:pt x="126" y="429"/>
                  </a:lnTo>
                  <a:lnTo>
                    <a:pt x="126" y="429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0960" y="1589040"/>
              <a:ext cx="425520" cy="388440"/>
            </a:xfrm>
            <a:custGeom>
              <a:avLst/>
              <a:gdLst/>
              <a:ahLst/>
              <a:rect l="l" t="t" r="r" b="b"/>
              <a:pathLst>
                <a:path w="536" h="491">
                  <a:moveTo>
                    <a:pt x="0" y="133"/>
                  </a:moveTo>
                  <a:lnTo>
                    <a:pt x="17" y="491"/>
                  </a:lnTo>
                  <a:lnTo>
                    <a:pt x="536" y="386"/>
                  </a:lnTo>
                  <a:lnTo>
                    <a:pt x="536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2440" y="1684080"/>
              <a:ext cx="554040" cy="345600"/>
            </a:xfrm>
            <a:custGeom>
              <a:avLst/>
              <a:gdLst/>
              <a:ahLst/>
              <a:rect l="l" t="t" r="r" b="b"/>
              <a:pathLst>
                <a:path w="700" h="435">
                  <a:moveTo>
                    <a:pt x="0" y="49"/>
                  </a:moveTo>
                  <a:lnTo>
                    <a:pt x="213" y="0"/>
                  </a:lnTo>
                  <a:lnTo>
                    <a:pt x="213" y="348"/>
                  </a:lnTo>
                  <a:lnTo>
                    <a:pt x="700" y="243"/>
                  </a:lnTo>
                  <a:lnTo>
                    <a:pt x="700" y="297"/>
                  </a:lnTo>
                  <a:lnTo>
                    <a:pt x="23" y="43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4520" y="1715760"/>
              <a:ext cx="568440" cy="363240"/>
            </a:xfrm>
            <a:custGeom>
              <a:avLst/>
              <a:gdLst/>
              <a:ahLst/>
              <a:rect l="l" t="t" r="r" b="b"/>
              <a:pathLst>
                <a:path w="716" h="458">
                  <a:moveTo>
                    <a:pt x="0" y="11"/>
                  </a:moveTo>
                  <a:lnTo>
                    <a:pt x="0" y="458"/>
                  </a:lnTo>
                  <a:lnTo>
                    <a:pt x="716" y="314"/>
                  </a:lnTo>
                  <a:lnTo>
                    <a:pt x="716" y="236"/>
                  </a:lnTo>
                  <a:lnTo>
                    <a:pt x="45" y="376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0360" y="1576080"/>
              <a:ext cx="433080" cy="377640"/>
            </a:xfrm>
            <a:custGeom>
              <a:avLst/>
              <a:gdLst/>
              <a:ahLst/>
              <a:rect l="l" t="t" r="r" b="b"/>
              <a:pathLst>
                <a:path w="548" h="477">
                  <a:moveTo>
                    <a:pt x="0" y="0"/>
                  </a:moveTo>
                  <a:lnTo>
                    <a:pt x="0" y="477"/>
                  </a:lnTo>
                  <a:lnTo>
                    <a:pt x="82" y="466"/>
                  </a:lnTo>
                  <a:lnTo>
                    <a:pt x="78" y="70"/>
                  </a:lnTo>
                  <a:lnTo>
                    <a:pt x="548" y="302"/>
                  </a:lnTo>
                  <a:lnTo>
                    <a:pt x="548" y="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3680" y="2196720"/>
              <a:ext cx="311400" cy="1050840"/>
            </a:xfrm>
            <a:custGeom>
              <a:avLst/>
              <a:gdLst/>
              <a:ahLst/>
              <a:rect l="l" t="t" r="r" b="b"/>
              <a:pathLst>
                <a:path w="391" h="1324">
                  <a:moveTo>
                    <a:pt x="391" y="137"/>
                  </a:moveTo>
                  <a:lnTo>
                    <a:pt x="388" y="1204"/>
                  </a:lnTo>
                  <a:lnTo>
                    <a:pt x="0" y="1324"/>
                  </a:lnTo>
                  <a:lnTo>
                    <a:pt x="13" y="0"/>
                  </a:lnTo>
                  <a:lnTo>
                    <a:pt x="391" y="137"/>
                  </a:lnTo>
                  <a:lnTo>
                    <a:pt x="391" y="137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000" y="2106360"/>
              <a:ext cx="397080" cy="116640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500" y="196"/>
                  </a:moveTo>
                  <a:lnTo>
                    <a:pt x="500" y="278"/>
                  </a:lnTo>
                  <a:lnTo>
                    <a:pt x="147" y="160"/>
                  </a:lnTo>
                  <a:lnTo>
                    <a:pt x="141" y="1428"/>
                  </a:lnTo>
                  <a:lnTo>
                    <a:pt x="0" y="1470"/>
                  </a:lnTo>
                  <a:lnTo>
                    <a:pt x="23" y="0"/>
                  </a:lnTo>
                  <a:lnTo>
                    <a:pt x="500" y="196"/>
                  </a:lnTo>
                  <a:lnTo>
                    <a:pt x="500" y="196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62320" y="2050920"/>
              <a:ext cx="482760" cy="1255320"/>
            </a:xfrm>
            <a:custGeom>
              <a:avLst/>
              <a:gdLst/>
              <a:ahLst/>
              <a:rect l="l" t="t" r="r" b="b"/>
              <a:pathLst>
                <a:path w="608" h="1582">
                  <a:moveTo>
                    <a:pt x="608" y="238"/>
                  </a:moveTo>
                  <a:lnTo>
                    <a:pt x="608" y="306"/>
                  </a:lnTo>
                  <a:lnTo>
                    <a:pt x="148" y="143"/>
                  </a:lnTo>
                  <a:lnTo>
                    <a:pt x="154" y="1529"/>
                  </a:lnTo>
                  <a:lnTo>
                    <a:pt x="0" y="1582"/>
                  </a:lnTo>
                  <a:lnTo>
                    <a:pt x="19" y="0"/>
                  </a:lnTo>
                  <a:lnTo>
                    <a:pt x="608" y="238"/>
                  </a:lnTo>
                  <a:lnTo>
                    <a:pt x="608" y="238"/>
                  </a:lnTo>
                  <a:close/>
                </a:path>
              </a:pathLst>
            </a:custGeom>
            <a:solidFill>
              <a:srgbClr val="000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97160" y="1990440"/>
              <a:ext cx="547920" cy="1331640"/>
            </a:xfrm>
            <a:custGeom>
              <a:avLst/>
              <a:gdLst/>
              <a:ahLst/>
              <a:rect l="l" t="t" r="r" b="b"/>
              <a:pathLst>
                <a:path w="690" h="1679">
                  <a:moveTo>
                    <a:pt x="690" y="350"/>
                  </a:moveTo>
                  <a:lnTo>
                    <a:pt x="118" y="127"/>
                  </a:lnTo>
                  <a:lnTo>
                    <a:pt x="124" y="1643"/>
                  </a:lnTo>
                  <a:lnTo>
                    <a:pt x="4" y="1679"/>
                  </a:lnTo>
                  <a:lnTo>
                    <a:pt x="0" y="0"/>
                  </a:lnTo>
                  <a:lnTo>
                    <a:pt x="690" y="310"/>
                  </a:lnTo>
                  <a:lnTo>
                    <a:pt x="690" y="350"/>
                  </a:lnTo>
                  <a:lnTo>
                    <a:pt x="690" y="350"/>
                  </a:lnTo>
                  <a:close/>
                </a:path>
              </a:pathLst>
            </a:custGeom>
            <a:solidFill>
              <a:srgbClr val="00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7560" y="1941120"/>
              <a:ext cx="587520" cy="1395360"/>
            </a:xfrm>
            <a:custGeom>
              <a:avLst/>
              <a:gdLst/>
              <a:ahLst/>
              <a:rect l="l" t="t" r="r" b="b"/>
              <a:pathLst>
                <a:path w="739" h="1759">
                  <a:moveTo>
                    <a:pt x="8" y="1759"/>
                  </a:moveTo>
                  <a:lnTo>
                    <a:pt x="82" y="1738"/>
                  </a:lnTo>
                  <a:lnTo>
                    <a:pt x="84" y="118"/>
                  </a:lnTo>
                  <a:lnTo>
                    <a:pt x="739" y="386"/>
                  </a:lnTo>
                  <a:lnTo>
                    <a:pt x="739" y="323"/>
                  </a:lnTo>
                  <a:lnTo>
                    <a:pt x="0" y="0"/>
                  </a:lnTo>
                  <a:lnTo>
                    <a:pt x="8" y="1759"/>
                  </a:lnTo>
                  <a:lnTo>
                    <a:pt x="8" y="175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0720" y="1909440"/>
              <a:ext cx="351000" cy="1184040"/>
            </a:xfrm>
            <a:custGeom>
              <a:avLst/>
              <a:gdLst/>
              <a:ahLst/>
              <a:rect l="l" t="t" r="r" b="b"/>
              <a:pathLst>
                <a:path w="441" h="1493">
                  <a:moveTo>
                    <a:pt x="0" y="88"/>
                  </a:moveTo>
                  <a:lnTo>
                    <a:pt x="433" y="0"/>
                  </a:lnTo>
                  <a:lnTo>
                    <a:pt x="441" y="1493"/>
                  </a:lnTo>
                  <a:lnTo>
                    <a:pt x="78" y="1407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84440" y="1955520"/>
              <a:ext cx="557280" cy="1203120"/>
            </a:xfrm>
            <a:custGeom>
              <a:avLst/>
              <a:gdLst/>
              <a:ahLst/>
              <a:rect l="l" t="t" r="r" b="b"/>
              <a:pathLst>
                <a:path w="701" h="1516">
                  <a:moveTo>
                    <a:pt x="15" y="76"/>
                  </a:moveTo>
                  <a:lnTo>
                    <a:pt x="403" y="0"/>
                  </a:lnTo>
                  <a:lnTo>
                    <a:pt x="403" y="1322"/>
                  </a:lnTo>
                  <a:lnTo>
                    <a:pt x="701" y="1400"/>
                  </a:lnTo>
                  <a:lnTo>
                    <a:pt x="699" y="1516"/>
                  </a:lnTo>
                  <a:lnTo>
                    <a:pt x="0" y="1339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0280" y="2004840"/>
              <a:ext cx="809640" cy="1207800"/>
            </a:xfrm>
            <a:custGeom>
              <a:avLst/>
              <a:gdLst/>
              <a:ahLst/>
              <a:rect l="l" t="t" r="r" b="b"/>
              <a:pathLst>
                <a:path w="1021" h="1523">
                  <a:moveTo>
                    <a:pt x="19" y="78"/>
                  </a:moveTo>
                  <a:lnTo>
                    <a:pt x="401" y="0"/>
                  </a:lnTo>
                  <a:lnTo>
                    <a:pt x="401" y="1261"/>
                  </a:lnTo>
                  <a:lnTo>
                    <a:pt x="1021" y="1411"/>
                  </a:lnTo>
                  <a:lnTo>
                    <a:pt x="1021" y="1523"/>
                  </a:lnTo>
                  <a:lnTo>
                    <a:pt x="0" y="1310"/>
                  </a:lnTo>
                  <a:lnTo>
                    <a:pt x="19" y="78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9920" y="2062080"/>
              <a:ext cx="906480" cy="1245600"/>
            </a:xfrm>
            <a:custGeom>
              <a:avLst/>
              <a:gdLst/>
              <a:ahLst/>
              <a:rect l="l" t="t" r="r" b="b"/>
              <a:pathLst>
                <a:path w="1143" h="1571">
                  <a:moveTo>
                    <a:pt x="0" y="33"/>
                  </a:moveTo>
                  <a:lnTo>
                    <a:pt x="164" y="0"/>
                  </a:lnTo>
                  <a:lnTo>
                    <a:pt x="160" y="1215"/>
                  </a:lnTo>
                  <a:lnTo>
                    <a:pt x="1143" y="1453"/>
                  </a:lnTo>
                  <a:lnTo>
                    <a:pt x="1137" y="1571"/>
                  </a:lnTo>
                  <a:lnTo>
                    <a:pt x="6" y="1295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11480" y="2084040"/>
              <a:ext cx="930240" cy="1263240"/>
            </a:xfrm>
            <a:custGeom>
              <a:avLst/>
              <a:gdLst/>
              <a:ahLst/>
              <a:rect l="l" t="t" r="r" b="b"/>
              <a:pathLst>
                <a:path w="1173" h="1591">
                  <a:moveTo>
                    <a:pt x="0" y="9"/>
                  </a:moveTo>
                  <a:lnTo>
                    <a:pt x="0" y="1304"/>
                  </a:lnTo>
                  <a:lnTo>
                    <a:pt x="1173" y="1591"/>
                  </a:lnTo>
                  <a:lnTo>
                    <a:pt x="1171" y="1517"/>
                  </a:lnTo>
                  <a:lnTo>
                    <a:pt x="59" y="1251"/>
                  </a:lnTo>
                  <a:lnTo>
                    <a:pt x="5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7320" y="1908000"/>
              <a:ext cx="617760" cy="1436400"/>
            </a:xfrm>
            <a:custGeom>
              <a:avLst/>
              <a:gdLst/>
              <a:ahLst/>
              <a:rect l="l" t="t" r="r" b="b"/>
              <a:pathLst>
                <a:path w="777" h="1810">
                  <a:moveTo>
                    <a:pt x="0" y="1810"/>
                  </a:moveTo>
                  <a:lnTo>
                    <a:pt x="6" y="0"/>
                  </a:lnTo>
                  <a:lnTo>
                    <a:pt x="777" y="318"/>
                  </a:lnTo>
                  <a:lnTo>
                    <a:pt x="777" y="373"/>
                  </a:lnTo>
                  <a:lnTo>
                    <a:pt x="57" y="67"/>
                  </a:lnTo>
                  <a:lnTo>
                    <a:pt x="57" y="1791"/>
                  </a:lnTo>
                  <a:lnTo>
                    <a:pt x="0" y="1810"/>
                  </a:lnTo>
                  <a:lnTo>
                    <a:pt x="0" y="181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1200" y="339372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M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735120" y="1755720"/>
              <a:ext cx="1819080" cy="168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rot="1496400">
            <a:off x="3661920" y="3687840"/>
            <a:ext cx="1787760" cy="925560"/>
          </a:xfrm>
          <a:prstGeom prst="leftRightArrow">
            <a:avLst>
              <a:gd name="adj1" fmla="val 50000"/>
              <a:gd name="adj2" fmla="val 3845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nalogy: Mass to Entity/Energy to Ac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1009800" y="1212840"/>
            <a:ext cx="1406520" cy="2054160"/>
          </a:xfrm>
          <a:prstGeom prst="rect">
            <a:avLst/>
          </a:prstGeom>
          <a:solidFill>
            <a:srgbClr val="80ff80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52680" y="12445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9800" y="1411200"/>
            <a:ext cx="1406520" cy="185580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3143160"/>
            <a:ext cx="1406520" cy="12384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37880" y="143352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37160" y="157464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7160" y="1714680"/>
            <a:ext cx="1078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er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5720" y="1857240"/>
            <a:ext cx="137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ceStatusTe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8240" y="1998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ty : SET&lt;PQ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37160" y="214164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 : SET&lt;TEL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36800" y="228276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7160" y="242244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8240" y="256536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38960" y="2706840"/>
            <a:ext cx="77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m : SET&lt;EN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37520" y="284940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Code : 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19360" y="3279600"/>
            <a:ext cx="1440" cy="40032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327960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4" y="0"/>
                </a:moveTo>
                <a:lnTo>
                  <a:pt x="167" y="228"/>
                </a:lnTo>
                <a:lnTo>
                  <a:pt x="0" y="228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69000" y="3494160"/>
            <a:ext cx="1670040" cy="2663640"/>
          </a:xfrm>
          <a:prstGeom prst="rect">
            <a:avLst/>
          </a:prstGeom>
          <a:solidFill>
            <a:srgbClr val="ff80ff"/>
          </a:solidFill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6360" y="3529080"/>
            <a:ext cx="18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69000" y="3689280"/>
            <a:ext cx="1670040" cy="246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6029280"/>
            <a:ext cx="1670040" cy="128520"/>
          </a:xfrm>
          <a:prstGeom prst="rect">
            <a:avLst/>
          </a:prstGeom>
          <a:noFill/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4200" y="370836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: SET&lt;II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4560" y="3849840"/>
            <a:ext cx="81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od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3120" y="3990960"/>
            <a:ext cx="79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4920" y="4132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xt : 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3480" y="42735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Code : 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3120" y="4416480"/>
            <a:ext cx="93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3120" y="4557600"/>
            <a:ext cx="101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ffectiveTime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0600" y="4699080"/>
            <a:ext cx="15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fidential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3120" y="4840200"/>
            <a:ext cx="132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eatNumber : IVL&lt;INT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4981680"/>
            <a:ext cx="105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ruptible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2760" y="512460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ityCode : SET&lt;CV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5265720"/>
            <a:ext cx="1089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pendent_ind : B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2040" y="5408640"/>
            <a:ext cx="115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ailability_dttm : G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4560" y="554832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: C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680" y="5689440"/>
            <a:ext cx="133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er_reasonCode : CV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607080" y="6165720"/>
            <a:ext cx="1800" cy="395280"/>
          </a:xfrm>
          <a:prstGeom prst="line">
            <a:avLst/>
          </a:prstGeom>
          <a:ln w="3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40480" y="6165720"/>
            <a:ext cx="133200" cy="181080"/>
          </a:xfrm>
          <a:custGeom>
            <a:avLst/>
            <a:gdLst/>
            <a:ahLst/>
            <a:rect l="l" t="t" r="r" b="b"/>
            <a:pathLst>
              <a:path w="167" h="228">
                <a:moveTo>
                  <a:pt x="83" y="0"/>
                </a:moveTo>
                <a:lnTo>
                  <a:pt x="167" y="228"/>
                </a:lnTo>
                <a:lnTo>
                  <a:pt x="0" y="228"/>
                </a:lnTo>
                <a:lnTo>
                  <a:pt x="83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496400">
            <a:off x="2628720" y="3180960"/>
            <a:ext cx="2900160" cy="925560"/>
          </a:xfrm>
          <a:prstGeom prst="leftRightArrow">
            <a:avLst>
              <a:gd name="adj1" fmla="val 50000"/>
              <a:gd name="adj2" fmla="val 623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1960" y="1895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43880" y="48402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0…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2:31:46Z</dcterms:created>
  <dc:creator>cosmatne</dc:creator>
  <dc:description/>
  <dc:language>en-US</dc:language>
  <cp:lastModifiedBy>ebiz suite</cp:lastModifiedBy>
  <dcterms:modified xsi:type="dcterms:W3CDTF">2007-12-16T04:29:51Z</dcterms:modified>
  <cp:revision>222</cp:revision>
  <dc:subject/>
  <dc:title>Developing Methods to Message Domain Knowledge Using NIC and LOINC Coding Systems </dc:title>
</cp:coreProperties>
</file>